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5.jpeg" ContentType="image/jpeg"/>
  <Override PartName="/ppt/media/chimes.wav" ContentType="audio/x-wav"/>
  <Override PartName="/ppt/media/image6.png" ContentType="image/png"/>
  <Override PartName="/ppt/media/glass.wav" ContentType="audio/x-wav"/>
  <Override PartName="/ppt/media/image7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3698-97B7-406C-A2D1-AB3EEEE83F4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746-FA79-4DE0-AB15-06AD6530175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light ye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no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 period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light year i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light yea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is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distanc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at light travels in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one ye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 light travels at a speed of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300 000 000 m/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or 300 000 km/s) then if we multiply this by the number of seconds in a year we will see that light will have travelled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9.5 x 10</a:t>
            </a:r>
            <a:r>
              <a:rPr b="0" lang="en-GB" sz="1200" spc="-1" strike="noStrike" baseline="30000">
                <a:solidFill>
                  <a:srgbClr val="ff0000"/>
                </a:solidFill>
                <a:latin typeface="Calibri"/>
              </a:rPr>
              <a:t>15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 m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9 500 000 000 000 000 m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100 000 times this distance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79B8-2DBD-4E6B-A9B9-3BD72331B7A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re are millions of other galaxies which are seen further and further away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alaxies themselves are millions of times further apart than the stars are within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ll these galaxies make up the Universe (which includes all the empty space between galax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Universe is perhaps 20 000 million light years acro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7B9E-CD79-43FE-963D-F2FB650CCDBA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, its planets and other objects in orbit are all together known as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D660-197D-4125-85B1-A4AA67B7BC8D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nine planets </a:t>
            </a:r>
            <a:br>
              <a:rPr sz="1200"/>
            </a:b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starting with the closest to the Sun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Calibri"/>
              </a:rPr>
              <a:t>Mercu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e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99cc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alibri"/>
              </a:rPr>
              <a:t>M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alibri"/>
              </a:rPr>
              <a:t>Jupi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Calibri"/>
              </a:rPr>
              <a:t>Satu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Calibri"/>
              </a:rPr>
              <a:t>Uran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Calibri"/>
              </a:rPr>
              <a:t>Neptu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en-GB" sz="2400" spc="-1" strike="noStrike">
                <a:solidFill>
                  <a:srgbClr val="800080"/>
                </a:solidFill>
                <a:latin typeface="Calibri"/>
              </a:rPr>
              <a:t>Plu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5C66-6999-45EE-AA91-8651B1744AA7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ow do these planets mo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Sun is a star which the nine planets move aroun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ath each planet travels around is called it orb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planets are kept in their orbits due to the pulling force of the Suns gra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AB61-5740-4EEF-923D-3040F1C0D9E0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are mo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are ‘natural satellite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ons orbit around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oon stays in its orbit due to the gravitational pull of the pla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moon has a circular orb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 see the moon because it reflects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5E9F-5D22-4EA4-BCC8-29AA3B913FEF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else is  found in our Solar syste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Astero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Com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minor planets found in their thousands between Mars and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probably fragments of asteroids that broke u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15A7-6CB1-4A7B-B371-457EA8FA3AC2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s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galaxy is made up of billions of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galaxy is called the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Milky Way galaxy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that has a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spiral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ur Sun is just one of the stars that form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Milky Way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100 000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cross, and the nearest star to Earth (apart from the Sun) is </a:t>
            </a:r>
            <a:r>
              <a:rPr b="0" lang="en-GB" sz="1200" spc="-1" strike="noStrike">
                <a:solidFill>
                  <a:srgbClr val="ff0000"/>
                </a:solidFill>
                <a:latin typeface="Calibri"/>
              </a:rPr>
              <a:t>4.2 light years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a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240C-D171-4D36-946C-548CFF795491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alibri"/>
              </a:rPr>
              <a:t>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53B0-D4AC-4D0C-BA6B-D855253D29EB}" type="slidenum">
              <a:rPr b="0" lang="uk-U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6829-7A73-4360-9693-953B4B163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0841-68FE-41B5-B52C-C1837686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226-886D-4284-95E0-05FAC2B4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995B-C3FA-45FF-9601-17DDAE28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0B0E-DC51-433F-A924-8C4F652B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15BB-0DC3-4FD4-B926-B5D4A693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F036-59A6-42B2-AC4C-C4DEAFAC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3265-5D79-4D71-A8C3-BAA2C659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C2B3-23CE-4830-95D6-EB81DC83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B460-46CA-4EF1-BE7D-6FCEF6D5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027A-5C15-4AC5-A2DC-7A02D77B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D31-9368-45EC-8387-7C031A6E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D225-932F-4C59-8632-433FE686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FD498-56AA-455E-B516-9E122F65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DF61-3FF6-48C9-AEA9-3DE85C97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86E5-5625-44D3-9A0A-370BFA81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2245-72E9-4ED5-BFD8-A262AA80E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1A1-E7C7-4841-93C8-D6E578AF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0D8-37CB-47E2-ABDE-79BB452B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79EF-167B-4ABF-ADAB-8AC7AA98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482-64EB-4300-924F-02A0909D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41B-B3A4-4CA0-8DDC-3E5716D4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0F9-F737-4775-8E7D-4B74CF28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84C-66B4-4F46-9B1D-1C561F9B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CE36-AD6D-4209-BEBD-F49300FC8631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4678-D827-48B3-8813-76328B6CCA74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solar system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light year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 period of ti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light year i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light year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is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stance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that light travels in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one yea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s light travels at a speed of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300 000 000 m/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or 300 000 km/s) then if we multiply this by the number of seconds in a year we will see that light will have travelled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9.5 x 10</a:t>
            </a:r>
            <a:r>
              <a:rPr b="0" lang="en-GB" sz="2800" spc="-1" strike="noStrike" baseline="30000">
                <a:solidFill>
                  <a:srgbClr val="ff0000"/>
                </a:solidFill>
                <a:latin typeface="Arial"/>
              </a:rPr>
              <a:t>15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m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(9 500 000 000 000 000 m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100 000 times this distance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Univer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941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re are millions of other galaxies which are seen further and further away in spac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alaxies themselves are millions of times further apart than the stars are within a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ll these galaxies make up the Universe (which includes all the empty space between galaxies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Universe is perhaps 20 000 million light years acro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the solar system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Arial"/>
              </a:rPr>
              <a:t>The Sun, its planets and other objects in orbit are all together known as the solar system.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The nine planets </a:t>
            </a: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(starting with the closest to the Sun)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32448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Arial"/>
              </a:rPr>
              <a:t>Mercur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e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99cc"/>
                </a:solidFill>
                <a:latin typeface="Arial"/>
              </a:rPr>
              <a:t>Earth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Ma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Arial"/>
              </a:rPr>
              <a:t>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ccff33"/>
                </a:solidFill>
                <a:latin typeface="Arial"/>
              </a:rPr>
              <a:t>Satur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00ffff"/>
                </a:solidFill>
                <a:latin typeface="Arial"/>
              </a:rPr>
              <a:t>Uranu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</a:t>
            </a:r>
            <a:r>
              <a:rPr b="1" lang="en-GB" sz="2400" spc="-1" strike="noStrike">
                <a:solidFill>
                  <a:srgbClr val="dddddd"/>
                </a:solidFill>
                <a:latin typeface="Arial"/>
              </a:rPr>
              <a:t>Neptun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                                             </a:t>
            </a:r>
            <a:r>
              <a:rPr b="1" lang="en-GB" sz="2400" spc="-1" strike="noStrike">
                <a:solidFill>
                  <a:srgbClr val="969696"/>
                </a:solidFill>
                <a:latin typeface="Arial"/>
              </a:rPr>
              <a:t>Plut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3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do these planets mov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Sun is a star which the nine planets move arou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ath each planet travels around is called it orbit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planets are kept in their orbits due to the pulling force of the Suns gravity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are moons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are ‘natural satellites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oons orbit around a plane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 moon stays in its orbit due to the gravitational pull of the planet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Our moon has a circular orbi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We see the moon because it reflects ligh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533520" y="28440"/>
          <a:ext cx="7543800" cy="667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8440"/>
                    <a:ext cx="7543800" cy="667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63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What else is  found in our Solar system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320" y="2057400"/>
            <a:ext cx="23382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steroi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Meteori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omet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895480" y="1676520"/>
            <a:ext cx="56419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minor planets found in their thousands between Mars and Jupit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probably fragments of asteroids that broke u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These are lumps of ‘dirty ice’ a few km across that travel in highly elliptical orbits. As they near the Sun they warm up. This causes a tail of dust and clou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What is a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A galaxy is made up of billions of sta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galaxy is called th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Milky Way galaxy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, that has 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piral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shap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Our Sun is just one of the stars that form the Milky way galax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The Milky Way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100 000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cross, and the nearest star to Earth (apart from the Sun)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4.2 light years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 awa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The Milky Way galax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badi MT Condensed Extra Bold"/>
              </a:rPr>
              <a:t>Our solar system is 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V="1">
            <a:off x="3886200" y="4952520"/>
            <a:ext cx="1219320" cy="1219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1T11:50:59Z</dcterms:created>
  <dc:creator>LEGION</dc:creator>
  <dc:description/>
  <dc:language>en-US</dc:language>
  <cp:lastModifiedBy>LEGION</cp:lastModifiedBy>
  <dcterms:modified xsi:type="dcterms:W3CDTF">2015-09-04T08:02:49Z</dcterms:modified>
  <cp:revision>4</cp:revision>
  <dc:subject/>
  <dc:title>The solar system</dc:title>
</cp:coreProperties>
</file>