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ASE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79C2-2B66-43D3-913B-70EB650238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th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ssons 6-10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amp;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estigation 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s 6-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stig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.S. Customary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ystem of measurement used almost exclusively in the United Sta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Customary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ystem of measurement used almost exclusively 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rime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distance around a closed, flat shap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ance around a closed, flat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unting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numbers used to count; the members of the set (1,2,3,4,5…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ing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s used to count; the members of the set (1,2,3,4,5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gative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s less than zer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less than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 Li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line for representing and graphing numbers. Each point on the line corresponds to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for representing and graphing numbers. Each point on the line corresponds to a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embers of the set (0,1,2,3,4…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mbers of the set (0,1,2,3,4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elsius sc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cale used on some thermometers to measure temperatu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sius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ale used on some thermometers to measur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en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s that can be divided by 2 without a remainder; members of the set (-4,-2,0,2,4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can be divided by 2 without a remainder; members of the set (-4,-2,0,2,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hrenheit Sc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cale used on some thermometers to measure temperatu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hrenheit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ale used on some thermometers to measur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d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s that have a remainder of 1 when divided by 2; members of the set (-3,-1,1,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d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have a remainder of 1 when divided by 2; members of the set (-3,-1,1,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s that name parts of a who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name parts of a w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c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display of numbers with an indicator to show the value of a certain measu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play of numbers with an indicator to show the value of a certain mea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eque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list of numbers arranged according to a certain ru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st of numbers arranged according to a certain 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r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 in a seque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in a 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losed-Option Surv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urvey in which the possible responses are limi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d-Option Surv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rvey in which the possible responses are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istogra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method of displaying a range of data. A histogram is a special type of bar graph that displays data in intervals of equal size with no space between the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ethod of displaying a range of data. A histogram is a special type of bar graph that displays data in intervals of equal size with no space between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pen-Option Surv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urvey that does not limit the possible respo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-Option Surv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rvey that does not limit the possible respon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v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method of collecting data about a particular popul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ethod of collecting data about a particular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nominat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ottom number of a 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min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ttom number of a 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erat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top number of a 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p number of a 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dpoi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ints at which segments en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at which segments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traight collection of points extending in opposite directions without en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raight collection of points extending in opposite directions withou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tric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 international system of measurement based on multiples of t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ric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ernational system of measurement based on multiples of 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part of a line that begins at a point and continues without end in one dire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rt of a line that begins at a point and continues without end in one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egme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part of a line with two distinct endpoi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rt of a line with two distinct end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2242-CB63-449F-A28F-36FD42819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11ED-6CDF-4E45-AEB6-82DA66F4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3C97-636E-4F1F-A451-08C491D02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6073-053D-4D05-ABA0-39BFD5401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6231-A42B-43F7-9059-C31ED4F05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6D60-5584-4F6B-9BE6-D53712C3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042A-5BA4-4781-99BB-55B2E543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2477-4D58-4F68-A167-8EADA5D8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E6FB-9357-497D-8857-EB186E17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A307-5214-4E51-B8FA-930333CF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E7C4-2A10-435F-B75B-3E9B522C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CE72-5ECB-4B80-A70E-9C1A94AA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010C-EAC8-475A-80EC-9A6B890C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61AA-6590-417A-A706-6711F6F9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C000-36BA-4F10-B848-4DBCAA32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3B18-CA05-4375-8FBB-D79A9B88C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4035-F885-4B01-95A1-099CEA997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D6BF-399E-4B45-8BF6-31CB1371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BC1D-62FA-4B16-B94D-89A3AB53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8508-9D5B-4D94-B5AD-8584A002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07F9-9F4B-4555-9563-ECD38D24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F716-A3BE-4665-A578-4CAAC348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117F-8C29-40B0-BDF0-76754E31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8236-326F-4120-8791-0095AAA9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ffcc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1A96-4BC4-43F4-8F36-082E45ED3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ffcc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A47F-7E51-4B58-A0D6-17B601AA328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1143000" y="304920"/>
            <a:ext cx="6858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cc"/>
                </a:solidFill>
                <a:latin typeface="Comic Sans MS"/>
              </a:rPr>
              <a:t>Math vocabulary</a:t>
            </a:r>
            <a:endParaRPr b="0" lang="en-US" sz="6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28600" y="2590920"/>
            <a:ext cx="86868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Lessons 6-10 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&amp;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Investigation 1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676520" y="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U.S. Customary System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ystem of measurement used almost exclusively in the United State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Perimeter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distance around a closed, flat shap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676520" y="53352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Counting Numbers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numbers used to count; the members of the set (1,2,3,4,5…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676520" y="53352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Negative Numbers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s less than zero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676520" y="533520"/>
            <a:ext cx="5867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Number Lin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762120" y="1981080"/>
            <a:ext cx="75438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cc"/>
                </a:solidFill>
                <a:latin typeface="Comic Sans MS"/>
              </a:rPr>
              <a:t>A line for representing and graphing numbers. Each point on the line corresponds to a number</a:t>
            </a:r>
            <a:endParaRPr b="0" lang="en-US" sz="5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676520" y="533520"/>
            <a:ext cx="586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Whole Numbers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members of the set (0,1,2,3,4…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Celsius scal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cale used on some thermometers to measure temperatur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676520" y="533520"/>
            <a:ext cx="58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Comic Sans MS"/>
              </a:rPr>
              <a:t>Even Numbers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762120" y="236232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s that can be divided by 2 without a remainder; members of the set (-4,-2,0,2,4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676520" y="533520"/>
            <a:ext cx="586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Fahrenheit Scale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cale used on some thermometers to measure temperatur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676520" y="533520"/>
            <a:ext cx="586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Odd Numbers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762120" y="236232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s that have a remainder of 1 when divided by 2; members of the set (-3,-1,1,3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Fraction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s that name parts of a whol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Scal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display of numbers with an indicator to show the value of a certain measur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Sequenc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list of numbers arranged according to a certain rul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Term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 in a sequenc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676520" y="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Closed-Option Survey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urvey in which the possible responses are limited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Histogram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762120" y="2362320"/>
            <a:ext cx="80010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cc"/>
                </a:solidFill>
                <a:latin typeface="Comic Sans MS"/>
              </a:rPr>
              <a:t>A method of displaying a range of data. A histogram is a special type of bar graph that displays data in intervals of equal size with </a:t>
            </a:r>
            <a:r>
              <a:rPr b="1" i="1" lang="en-US" sz="4300" spc="-1" strike="noStrike" u="sng">
                <a:solidFill>
                  <a:srgbClr val="ffffcc"/>
                </a:solidFill>
                <a:uFillTx/>
                <a:latin typeface="Comic Sans MS"/>
              </a:rPr>
              <a:t>no</a:t>
            </a:r>
            <a:r>
              <a:rPr b="1" lang="en-US" sz="4300" spc="-1" strike="noStrike">
                <a:solidFill>
                  <a:srgbClr val="ffffcc"/>
                </a:solidFill>
                <a:latin typeface="Comic Sans MS"/>
              </a:rPr>
              <a:t> space between them.</a:t>
            </a:r>
            <a:endParaRPr b="0" lang="en-US" sz="4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600200" y="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Open-Option Survey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urvey that does not limit the possible response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Survey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method of collecting data about a particular populatio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676520" y="533520"/>
            <a:ext cx="5867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Denominator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bottom number of a fractio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Numerator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top number of a fractio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Endpoints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Points at which segments end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Lin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762120" y="236232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traight collection of points extending in opposite directions without end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676520" y="533520"/>
            <a:ext cx="58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Comic Sans MS"/>
              </a:rPr>
              <a:t>Metric System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n international system of measurement based on multiples of te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Ray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part of a line that begins at a point and continues without end in one directio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Segment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part of a line with two distinct endpoint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9T02:06:29Z</dcterms:created>
  <dc:creator>one1</dc:creator>
  <dc:description/>
  <dc:language>en-US</dc:language>
  <cp:lastModifiedBy>RomaK</cp:lastModifiedBy>
  <dcterms:modified xsi:type="dcterms:W3CDTF">2015-09-04T07:43:19Z</dcterms:modified>
  <cp:revision>4</cp:revision>
  <dc:subject/>
  <dc:title>No Slide Title</dc:title>
</cp:coreProperties>
</file>