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5BB3-0441-4816-81B6-92DC450315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CORE 1</a:t>
            </a:r>
            <a:br>
              <a:rPr sz="1200"/>
            </a:b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DA8-A715-45E4-804A-4FC59FD1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410-CFCC-49B9-BE86-E7F8392B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DD0-BA48-4B49-9667-0295D533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B6B-8EB5-4FCC-ABE1-FE806FA1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C202-6FCE-4E51-9F14-4C6A723F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53DF-D780-4C52-952B-10F21B2E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DDCA-F419-4AA2-8AB1-E7B2941C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BDAC-6AB7-4BFC-858E-EF59BABB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C1E1-AA04-4F1D-ADBF-EEBCEEFE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4EBA-915B-4ABF-877F-FA6C6FF5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7346-21D0-41F5-93DC-8A52806D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BA8-E4F3-4312-8D9F-1D6C6D87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D609-015A-4630-8D52-12D95520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433A-B6F1-43CA-AA8A-1E715305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5007-6C89-4FD3-9341-5D8D1BFF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9A78-386D-4E96-940F-837E5738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5201-D4CF-456F-A767-96949839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7A312-3342-4A78-858C-0F4DE8AB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E720-E054-4718-B3F1-D79DF02F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FA52-9470-4A61-A7D5-1AD9CBB8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CE957-45D0-4FD4-A916-E4C8BAC5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E5849-7DC3-4756-8170-A230F3BE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377-4960-4EE5-BB93-2B544EC7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F398-9B43-472D-8C03-CE03C1B4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3C085-B049-421A-AE3C-DFAA9DE0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9742-9EE5-4E88-B389-3884F6EF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91C8E-139F-4532-9803-4F600A44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4EEFB-4389-48C4-B109-34427133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3AEB9-730C-4F1C-BD46-1AD84BEB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029CB-BAFB-4B59-A24C-72979C9D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78F-9212-427F-8966-1EDFA6D5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6F66-5DA8-4E2C-B70E-34029999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117-DEDC-4D04-9BC9-BA6B41DD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B307-C183-463D-8B25-50ECB806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A09-8C73-4CB4-8DE6-3282271E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276B-AC67-4B58-8831-93E406AB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A6A4-FDC7-42DE-A1F4-4FE28ABC361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8678-D45F-428A-98F1-96F0D4337A6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62F3-7FBF-4DD3-8F50-C383A3E2A1AF}" type="slidenum">
              <a:rPr b="0" lang="en-GB" sz="10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9280" y="-360"/>
            <a:ext cx="42847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ecff"/>
                </a:solidFill>
                <a:latin typeface="Castellar"/>
              </a:rPr>
              <a:t>CORE 1</a:t>
            </a:r>
            <a:br>
              <a:rPr sz="6000"/>
            </a:br>
            <a:r>
              <a:rPr b="1" lang="en-GB" sz="4400" spc="-1" strike="noStrike">
                <a:solidFill>
                  <a:srgbClr val="ccecff"/>
                </a:solidFill>
                <a:latin typeface="Castellar"/>
              </a:rPr>
              <a:t>proof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7640" y="184464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7640" y="3141360"/>
            <a:ext cx="678204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Prove that sum of an even number and an odd number is always od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905120" y="2060280"/>
            <a:ext cx="67816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Let 2n be any even number, where n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m + 1 be any odd number, where m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n + 2m + 1 = 2(n+m)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is eve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is odd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= 2n + 2m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the sum of an even number and an odd number is always odd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6" name="Picture 4" descr="implies"/>
          <p:cNvPicPr/>
          <p:nvPr/>
        </p:nvPicPr>
        <p:blipFill>
          <a:blip r:embed="rId1"/>
          <a:stretch/>
        </p:blipFill>
        <p:spPr>
          <a:xfrm>
            <a:off x="2340000" y="364500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implies"/>
          <p:cNvPicPr/>
          <p:nvPr/>
        </p:nvPicPr>
        <p:blipFill>
          <a:blip r:embed="rId2"/>
          <a:stretch/>
        </p:blipFill>
        <p:spPr>
          <a:xfrm>
            <a:off x="2340000" y="400536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implies"/>
          <p:cNvPicPr/>
          <p:nvPr/>
        </p:nvPicPr>
        <p:blipFill>
          <a:blip r:embed="rId3"/>
          <a:stretch/>
        </p:blipFill>
        <p:spPr>
          <a:xfrm>
            <a:off x="234000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implies"/>
          <p:cNvPicPr/>
          <p:nvPr/>
        </p:nvPicPr>
        <p:blipFill>
          <a:blip r:embed="rId4"/>
          <a:stretch/>
        </p:blipFill>
        <p:spPr>
          <a:xfrm>
            <a:off x="234000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What is Mathematical Proof?</a:t>
            </a:r>
            <a:endParaRPr b="0" lang="en-US" sz="36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35280" y="3070080"/>
            <a:ext cx="6781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8dc6ff"/>
                </a:solidFill>
                <a:latin typeface="Comic Sans MS"/>
              </a:rPr>
              <a:t>The process of starting with an assumption, or a statement which is given, and, by using logical argument, arriving at a conclus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Comic Sans MS"/>
              </a:rPr>
              <a:t>Mathematical Proof</a:t>
            </a:r>
            <a:endParaRPr b="0" lang="en-US" sz="5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47280" y="2819160"/>
            <a:ext cx="74883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Prove that …’ or ‘Given …, prove …’ or ‘ Prove …, given …’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Form a logical argumen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rt with what is given or standard resul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Deduce each step from previou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ndard results can be used at any stag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68360" y="1700280"/>
            <a:ext cx="670896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MATHEMATICAL STATEMENTS</a:t>
            </a:r>
            <a:endParaRPr b="0" lang="en-US" sz="32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19280" y="2819160"/>
            <a:ext cx="52671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ABC is isoscel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sin</a:t>
            </a: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θ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¾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The gradient of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=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x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 is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58560" y="2781000"/>
            <a:ext cx="7705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Use to express the relationship between statemen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mpli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does not impl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implies and 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1640" y="1700280"/>
            <a:ext cx="6708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Implication Sign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39" name="Picture 6" descr="implies"/>
          <p:cNvPicPr/>
          <p:nvPr/>
        </p:nvPicPr>
        <p:blipFill>
          <a:blip r:embed="rId1"/>
          <a:stretch/>
        </p:blipFill>
        <p:spPr>
          <a:xfrm>
            <a:off x="3276720" y="33577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implies"/>
          <p:cNvPicPr/>
          <p:nvPr/>
        </p:nvPicPr>
        <p:blipFill>
          <a:blip r:embed="rId2"/>
          <a:stretch/>
        </p:blipFill>
        <p:spPr>
          <a:xfrm>
            <a:off x="3276720" y="3813120"/>
            <a:ext cx="382320" cy="192240"/>
          </a:xfrm>
          <a:prstGeom prst="rect">
            <a:avLst/>
          </a:prstGeom>
          <a:ln w="0">
            <a:noFill/>
          </a:ln>
        </p:spPr>
      </p:pic>
      <p:sp>
        <p:nvSpPr>
          <p:cNvPr id="141" name="Line 10"/>
          <p:cNvSpPr/>
          <p:nvPr/>
        </p:nvSpPr>
        <p:spPr>
          <a:xfrm flipV="1">
            <a:off x="3276720" y="371592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2" name="Picture 11" descr="implies"/>
          <p:cNvPicPr/>
          <p:nvPr/>
        </p:nvPicPr>
        <p:blipFill>
          <a:blip r:embed="rId3"/>
          <a:stretch/>
        </p:blipFill>
        <p:spPr>
          <a:xfrm>
            <a:off x="3252960" y="42451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iff"/>
          <p:cNvPicPr/>
          <p:nvPr/>
        </p:nvPicPr>
        <p:blipFill>
          <a:blip r:embed="rId4"/>
          <a:stretch/>
        </p:blipFill>
        <p:spPr>
          <a:xfrm>
            <a:off x="3276720" y="4653000"/>
            <a:ext cx="3585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Prove that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</a:rPr>
              <a:t>AB = A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‗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B = _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 = AC 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 flipV="1">
            <a:off x="197964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 flipV="1">
            <a:off x="270036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8" name="Picture 6" descr="implies"/>
          <p:cNvPicPr/>
          <p:nvPr/>
        </p:nvPicPr>
        <p:blipFill>
          <a:blip r:embed="rId1"/>
          <a:stretch/>
        </p:blipFill>
        <p:spPr>
          <a:xfrm>
            <a:off x="3348000" y="4724280"/>
            <a:ext cx="382680" cy="192240"/>
          </a:xfrm>
          <a:prstGeom prst="rect">
            <a:avLst/>
          </a:prstGeom>
          <a:ln w="0">
            <a:noFill/>
          </a:ln>
        </p:spPr>
      </p:pic>
      <p:sp>
        <p:nvSpPr>
          <p:cNvPr id="149" name="Line 7"/>
          <p:cNvSpPr/>
          <p:nvPr/>
        </p:nvSpPr>
        <p:spPr>
          <a:xfrm flipH="1">
            <a:off x="6587640" y="2276640"/>
            <a:ext cx="576360" cy="7920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7164360" y="2276640"/>
            <a:ext cx="432000" cy="863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H="1" flipV="1">
            <a:off x="6587640" y="3068640"/>
            <a:ext cx="100836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6732720" y="2637000"/>
            <a:ext cx="144360" cy="1425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 flipH="1">
            <a:off x="7308720" y="2637000"/>
            <a:ext cx="21600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7021440" y="198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6302160" y="292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7526160" y="2997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63280" y="2819160"/>
            <a:ext cx="72010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Link the statements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and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using implication sign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(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could be 0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Eithe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o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9" name="Picture 6" descr="implies"/>
          <p:cNvPicPr/>
          <p:nvPr/>
        </p:nvPicPr>
        <p:blipFill>
          <a:blip r:embed="rId1"/>
          <a:stretch/>
        </p:blipFill>
        <p:spPr>
          <a:xfrm>
            <a:off x="2843280" y="3645000"/>
            <a:ext cx="382680" cy="191880"/>
          </a:xfrm>
          <a:prstGeom prst="rect">
            <a:avLst/>
          </a:prstGeom>
          <a:ln w="0">
            <a:noFill/>
          </a:ln>
        </p:spPr>
      </p:pic>
      <p:sp>
        <p:nvSpPr>
          <p:cNvPr id="160" name="Line 7"/>
          <p:cNvSpPr/>
          <p:nvPr/>
        </p:nvSpPr>
        <p:spPr>
          <a:xfrm flipV="1">
            <a:off x="2844720" y="429228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1" name="Picture 8" descr="implies"/>
          <p:cNvPicPr/>
          <p:nvPr/>
        </p:nvPicPr>
        <p:blipFill>
          <a:blip r:embed="rId2"/>
          <a:stretch/>
        </p:blipFill>
        <p:spPr>
          <a:xfrm>
            <a:off x="284328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implies"/>
          <p:cNvPicPr/>
          <p:nvPr/>
        </p:nvPicPr>
        <p:blipFill>
          <a:blip r:embed="rId3"/>
          <a:stretch/>
        </p:blipFill>
        <p:spPr>
          <a:xfrm>
            <a:off x="282096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220500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1692360" y="3284640"/>
            <a:ext cx="7057800" cy="412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709128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"/>
          <p:cNvPicPr/>
          <p:nvPr/>
        </p:nvPicPr>
        <p:blipFill>
          <a:blip r:embed="rId1"/>
          <a:stretch/>
        </p:blipFill>
        <p:spPr>
          <a:xfrm>
            <a:off x="3635280" y="36496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2627280" y="2135160"/>
            <a:ext cx="3745080" cy="573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mplies"/>
          <p:cNvPicPr/>
          <p:nvPr/>
        </p:nvPicPr>
        <p:blipFill>
          <a:blip r:embed="rId4"/>
          <a:stretch/>
        </p:blipFill>
        <p:spPr>
          <a:xfrm>
            <a:off x="4500720" y="299736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5148360" y="2865600"/>
            <a:ext cx="3384360" cy="492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6"/>
          <a:stretch/>
        </p:blipFill>
        <p:spPr>
          <a:xfrm>
            <a:off x="3348000" y="3544920"/>
            <a:ext cx="1009800" cy="460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implies"/>
          <p:cNvPicPr/>
          <p:nvPr/>
        </p:nvPicPr>
        <p:blipFill>
          <a:blip r:embed="rId7"/>
          <a:stretch/>
        </p:blipFill>
        <p:spPr>
          <a:xfrm>
            <a:off x="2771640" y="371628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34:41Z</dcterms:created>
  <dc:creator>zafer</dc:creator>
  <dc:description>Mathematical Proof</dc:description>
  <cp:keywords>Mathematical Proof</cp:keywords>
  <dc:language>en-US</dc:language>
  <cp:lastModifiedBy>RomaK</cp:lastModifiedBy>
  <dcterms:modified xsi:type="dcterms:W3CDTF">2015-09-04T07:43:27Z</dcterms:modified>
  <cp:revision>14</cp:revision>
  <dc:subject>Mathematical Proof</dc:subject>
  <dc:title>Mathematical Pro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361033</vt:lpwstr>
  </property>
</Properties>
</file>