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A75C-F66E-4C0C-A32C-E7587AC985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CORE 1</a:t>
            </a:r>
            <a:br>
              <a:rPr sz="1200"/>
            </a:b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BCA-7735-4F0D-B18B-6C078D8D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5B5-5EC7-4357-80A3-5E8513A8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D1F-75AE-47A6-B146-8BCD13F5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7EF-8761-4065-AB03-F5DD8030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812F-9AC2-4DB4-80C1-8840C066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31BE-986F-476F-9BB7-00E839C2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DA49-F0C2-4010-9B6B-8412FD02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01CD-AAED-4C31-B45A-ACCE47B8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D08C-E31D-495E-8257-91B02D37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4871-B277-4F58-9486-A8146AF1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89B8-A9E5-4A5A-973C-66265E4F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65B-26A0-4433-BBE8-9FC1A95C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A1AF-3667-46D5-BB54-5DA5401C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2CC7-7059-47D6-9CE4-FA03D8F5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7B76-F8AD-4DBC-A3B0-98E8CEF4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15FD-293E-459A-BAC2-A064E6DE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D419-3D68-4F1F-B00A-19A57E91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9F21-879F-47CD-8921-93E97B91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B04B-8C45-4D7B-9500-1B13495D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A8B7-196D-4A1F-A2EF-221942AB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4DE8-2F1D-4F1E-8DFF-BCAFB808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3F95-A6A2-4732-A23D-41279E5D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DF3-FC2F-443A-B896-F6068DE0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F693-02A7-41A1-A897-C53670D2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A7F0-6A6A-4863-8564-CEEA8D15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4818-6B19-42BE-B58A-FB087947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E86A-5C89-4DA5-AA36-542498C1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B61E-EBDC-439B-BD4D-F37D91ED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F365-8B7B-40B5-9BFE-FC03170E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674B-0544-4B50-A0D6-F5EDEC60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7DC-DDBC-4FF7-B356-87204AB7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B74-FDF5-4650-87E0-20E5945E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970-FF9F-4FDE-A406-B4A0A78E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E09-EF92-4A89-A8DF-C49156B7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28A-3BAA-42C5-A60E-FC245999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0FF-DBC2-449C-A5E5-141C4610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6B22-2053-4E68-8D8C-08F23141118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EFDF-906A-494C-8E50-A8C82763518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C8A-A372-4E08-BD6A-CCB9DFADAFA0}" type="slidenum"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42847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ecff"/>
                </a:solidFill>
                <a:latin typeface="Castellar"/>
              </a:rPr>
              <a:t>CORE 1</a:t>
            </a:r>
            <a:br>
              <a:rPr sz="6000"/>
            </a:br>
            <a:r>
              <a:rPr b="1" lang="en-GB" sz="4400" spc="-1" strike="noStrike">
                <a:solidFill>
                  <a:srgbClr val="ccecff"/>
                </a:solidFill>
                <a:latin typeface="Castellar"/>
              </a:rPr>
              <a:t>proof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7640" y="184464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314136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Prove that sum of an even number and an odd number is always od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5120" y="2060280"/>
            <a:ext cx="67816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Let 2n be any even number, where n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m + 1 be any odd number, where m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n + 2m + 1 = 2(n+m)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is ev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is od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= 2n + 2m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the sum of an even number and an odd number is always od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" name="Picture 4" descr="implies"/>
          <p:cNvPicPr/>
          <p:nvPr/>
        </p:nvPicPr>
        <p:blipFill>
          <a:blip r:embed="rId1"/>
          <a:stretch/>
        </p:blipFill>
        <p:spPr>
          <a:xfrm>
            <a:off x="2340000" y="364500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implies"/>
          <p:cNvPicPr/>
          <p:nvPr/>
        </p:nvPicPr>
        <p:blipFill>
          <a:blip r:embed="rId2"/>
          <a:stretch/>
        </p:blipFill>
        <p:spPr>
          <a:xfrm>
            <a:off x="2340000" y="400536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plies"/>
          <p:cNvPicPr/>
          <p:nvPr/>
        </p:nvPicPr>
        <p:blipFill>
          <a:blip r:embed="rId3"/>
          <a:stretch/>
        </p:blipFill>
        <p:spPr>
          <a:xfrm>
            <a:off x="234000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plies"/>
          <p:cNvPicPr/>
          <p:nvPr/>
        </p:nvPicPr>
        <p:blipFill>
          <a:blip r:embed="rId4"/>
          <a:stretch/>
        </p:blipFill>
        <p:spPr>
          <a:xfrm>
            <a:off x="234000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What is Mathematical Proof?</a:t>
            </a:r>
            <a:endParaRPr b="0" lang="en-US" sz="36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35280" y="3070080"/>
            <a:ext cx="6781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8dc6ff"/>
                </a:solidFill>
                <a:latin typeface="Comic Sans MS"/>
              </a:rPr>
              <a:t>The process of starting with an assumption, or a statement which is given, and, by using logical argument, arriving at a conclu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Comic Sans MS"/>
              </a:rPr>
              <a:t>Mathematical Proof</a:t>
            </a:r>
            <a:endParaRPr b="0" lang="en-US" sz="5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280" y="2819160"/>
            <a:ext cx="74883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Prove that …’ or ‘Given …, prove …’ or ‘ Prove …, given …’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Form a logical argu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rt with what is given or standard resul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Deduce each step from previou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ndard results can be used at any stag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68360" y="1700280"/>
            <a:ext cx="67089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ATHEMATICAL STATEMENTS</a:t>
            </a:r>
            <a:endParaRPr b="0" lang="en-US" sz="32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19280" y="2819160"/>
            <a:ext cx="5267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ABC is isosce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sin</a:t>
            </a: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θ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¾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The gradient of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x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is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2781000"/>
            <a:ext cx="7705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Use to express the relationship between statem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does not impl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implies and 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1700280"/>
            <a:ext cx="6708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Implication Sign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39" name="Picture 6" descr="implies"/>
          <p:cNvPicPr/>
          <p:nvPr/>
        </p:nvPicPr>
        <p:blipFill>
          <a:blip r:embed="rId1"/>
          <a:stretch/>
        </p:blipFill>
        <p:spPr>
          <a:xfrm>
            <a:off x="3276720" y="33577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implies"/>
          <p:cNvPicPr/>
          <p:nvPr/>
        </p:nvPicPr>
        <p:blipFill>
          <a:blip r:embed="rId2"/>
          <a:stretch/>
        </p:blipFill>
        <p:spPr>
          <a:xfrm>
            <a:off x="3276720" y="3813120"/>
            <a:ext cx="382320" cy="19224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 flipV="1">
            <a:off x="3276720" y="371592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Picture 11" descr="implies"/>
          <p:cNvPicPr/>
          <p:nvPr/>
        </p:nvPicPr>
        <p:blipFill>
          <a:blip r:embed="rId3"/>
          <a:stretch/>
        </p:blipFill>
        <p:spPr>
          <a:xfrm>
            <a:off x="3252960" y="42451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ff"/>
          <p:cNvPicPr/>
          <p:nvPr/>
        </p:nvPicPr>
        <p:blipFill>
          <a:blip r:embed="rId4"/>
          <a:stretch/>
        </p:blipFill>
        <p:spPr>
          <a:xfrm>
            <a:off x="3276720" y="4653000"/>
            <a:ext cx="3585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Prove that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</a:rPr>
              <a:t>AB = A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‗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B = _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 = AC 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 flipV="1">
            <a:off x="197964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270036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8" name="Picture 6" descr="implies"/>
          <p:cNvPicPr/>
          <p:nvPr/>
        </p:nvPicPr>
        <p:blipFill>
          <a:blip r:embed="rId1"/>
          <a:stretch/>
        </p:blipFill>
        <p:spPr>
          <a:xfrm>
            <a:off x="3348000" y="4724280"/>
            <a:ext cx="382680" cy="192240"/>
          </a:xfrm>
          <a:prstGeom prst="rect">
            <a:avLst/>
          </a:prstGeom>
          <a:ln w="0">
            <a:noFill/>
          </a:ln>
        </p:spPr>
      </p:pic>
      <p:sp>
        <p:nvSpPr>
          <p:cNvPr id="149" name="Line 7"/>
          <p:cNvSpPr/>
          <p:nvPr/>
        </p:nvSpPr>
        <p:spPr>
          <a:xfrm flipH="1">
            <a:off x="6587640" y="2276640"/>
            <a:ext cx="576360" cy="792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7164360" y="2276640"/>
            <a:ext cx="432000" cy="863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H="1" flipV="1">
            <a:off x="6587640" y="3068640"/>
            <a:ext cx="100836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6732720" y="2637000"/>
            <a:ext cx="144360" cy="1425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7308720" y="2637000"/>
            <a:ext cx="21600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021440" y="198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302160" y="292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526160" y="2997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63280" y="2819160"/>
            <a:ext cx="72010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Link the statements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and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using implication sign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(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could be 0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Eithe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o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9" name="Picture 6" descr="implies"/>
          <p:cNvPicPr/>
          <p:nvPr/>
        </p:nvPicPr>
        <p:blipFill>
          <a:blip r:embed="rId1"/>
          <a:stretch/>
        </p:blipFill>
        <p:spPr>
          <a:xfrm>
            <a:off x="2843280" y="3645000"/>
            <a:ext cx="382680" cy="191880"/>
          </a:xfrm>
          <a:prstGeom prst="rect">
            <a:avLst/>
          </a:prstGeom>
          <a:ln w="0">
            <a:noFill/>
          </a:ln>
        </p:spPr>
      </p:pic>
      <p:sp>
        <p:nvSpPr>
          <p:cNvPr id="160" name="Line 7"/>
          <p:cNvSpPr/>
          <p:nvPr/>
        </p:nvSpPr>
        <p:spPr>
          <a:xfrm flipV="1">
            <a:off x="2844720" y="429228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1" name="Picture 8" descr="implies"/>
          <p:cNvPicPr/>
          <p:nvPr/>
        </p:nvPicPr>
        <p:blipFill>
          <a:blip r:embed="rId2"/>
          <a:stretch/>
        </p:blipFill>
        <p:spPr>
          <a:xfrm>
            <a:off x="284328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mplies"/>
          <p:cNvPicPr/>
          <p:nvPr/>
        </p:nvPicPr>
        <p:blipFill>
          <a:blip r:embed="rId3"/>
          <a:stretch/>
        </p:blipFill>
        <p:spPr>
          <a:xfrm>
            <a:off x="282096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22050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7057800" cy="41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709128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"/>
          <p:cNvPicPr/>
          <p:nvPr/>
        </p:nvPicPr>
        <p:blipFill>
          <a:blip r:embed="rId1"/>
          <a:stretch/>
        </p:blipFill>
        <p:spPr>
          <a:xfrm>
            <a:off x="3635280" y="36496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627280" y="2135160"/>
            <a:ext cx="3745080" cy="573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mplies"/>
          <p:cNvPicPr/>
          <p:nvPr/>
        </p:nvPicPr>
        <p:blipFill>
          <a:blip r:embed="rId4"/>
          <a:stretch/>
        </p:blipFill>
        <p:spPr>
          <a:xfrm>
            <a:off x="4500720" y="299736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5148360" y="2865600"/>
            <a:ext cx="3384360" cy="49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6"/>
          <a:stretch/>
        </p:blipFill>
        <p:spPr>
          <a:xfrm>
            <a:off x="3348000" y="3544920"/>
            <a:ext cx="1009800" cy="460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mplies"/>
          <p:cNvPicPr/>
          <p:nvPr/>
        </p:nvPicPr>
        <p:blipFill>
          <a:blip r:embed="rId7"/>
          <a:stretch/>
        </p:blipFill>
        <p:spPr>
          <a:xfrm>
            <a:off x="2771640" y="371628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34:41Z</dcterms:created>
  <dc:creator>zafer</dc:creator>
  <dc:description>Mathematical Proof</dc:description>
  <cp:keywords>Mathematical Proof</cp:keywords>
  <dc:language>en-US</dc:language>
  <cp:lastModifiedBy>RomaK</cp:lastModifiedBy>
  <dcterms:modified xsi:type="dcterms:W3CDTF">2015-09-04T07:43:27Z</dcterms:modified>
  <cp:revision>14</cp:revision>
  <dc:subject>Mathematical Proof</dc:subject>
  <dc:title>Mathematical Pro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361033</vt:lpwstr>
  </property>
</Properties>
</file>