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6684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79000" y="696600"/>
            <a:ext cx="4645080" cy="348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6684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6B911-77C8-472C-AD06-6ABB1AB5FE4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hematician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. Clu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llegas Middle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Mathematicians 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Mr. Clutter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Villegas Middle School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2006-2007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ythago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69 B.C. – 475 B.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e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pure mathematici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belie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 socie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ythagorean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Pythagora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569 B.C. – 475 B.C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Greec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First pure mathematician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5 belief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Secret socie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Pythagorean theorem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isto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84 B.C. – 322 B.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e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ilosop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ied mathematics in relation to sci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Aristotl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384 B.C. – 322 B.C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Greec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Philosopher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Studied mathematics in relation to scienc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ucl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25 B.C. – 265 B.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e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te The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metry to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Euclid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325 B.C. – 265 B.C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Greec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Wrote The Element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Geometry toda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-Khwarizm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80 A.D.-850 A.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ghdad (in Ir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st book on Alge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e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ural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Al-Khwarizmi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780 A.D.-850 A.D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Baghdad (in Iraq)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1st book on Algebra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Algebra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Natural Number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Equation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onardo da Vinc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52 A.D. - 1519 A.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a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metry with mechanical meth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i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chit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chanic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Leonardo da Vinci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1452 A.D. - 1519 A.D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Ital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Geometry with mechanical method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Painter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Architect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Mechanic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ileo Galile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64 A.D. – 1642 A.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a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ac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tr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hematici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Galileo Galilei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1564 A.D. – 1642 A.D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Ital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Teacher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Astrolog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Mathematician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 L’hopit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61 A.D. – 1704 A.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ial Calcul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”Hopital’s Ru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De L’hopital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1661 A.D. – 1704 A.D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Franc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Differential Calculu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L”Hopital’s Rul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onhard Eu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07 A.D. – 1783 A.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tzerl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chanica (book on mathematical analysi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us of vari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alytic  Geo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gono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mbo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Leonhard Euler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1707 A.D. – 1783 A.D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Switzerland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Mechanica (book on mathematical analysis)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Calculus of variation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Analytic  Geometr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Trigonometr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Symbol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CEB9-9736-4A72-BE6A-239EF8C6F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BC43-FC58-4588-88BE-CBA540E38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978A-3F3B-48AB-96F4-88A457365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480F-E4F6-428B-89D5-538ABD6A2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8A373-0081-4D55-B0DB-F73549C30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F57A7-E0BF-4728-A59E-F20941A0A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2E680-CECB-456E-99DA-2B45D4327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6E2C6-92BB-45D8-8663-56CF29C3A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5044B-627E-4AB4-AEFA-7732B85D8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EB974-E3CF-4DF7-9F3E-3F90487E8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503D6-F12F-4989-8BD4-A94F2850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6464-7C9A-4C23-80B4-C89CDF81E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546DF-37F5-46BD-A1C2-C1EEACDB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ACC40-61DA-4298-AA56-E7EE5431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2BCE0-7513-4C0F-B9BD-A08C45CDE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CB3C2-CD1C-4B24-9BDC-297F2493A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91C01-9E3B-4714-8E00-677504135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B1ED-CFF4-46FF-9A78-5979B401F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1A37-94C1-4886-B2C9-3349DCEA9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BAF7-A490-415B-95DF-6D94955EE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74A5-853C-4976-9535-7695559CC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20C2-D8AA-481B-87C1-6D9B08E6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7AAC-8691-4504-855F-8CD761B6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2C14-3023-42AF-9679-3040285C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FBC53-6070-4AB2-8B9C-FA835FF3437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2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AutoShape 20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Group 18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AutoShape 12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AutoShape 13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0AF7D-3536-40BF-976F-467A1E74A65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</a:rPr>
              <a:t>Mathematicians</a:t>
            </a:r>
            <a:r>
              <a:rPr b="1" lang="en-US" sz="5400" spc="-1" strike="noStrike">
                <a:solidFill>
                  <a:srgbClr val="99cc9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1640" y="2971800"/>
            <a:ext cx="5156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r. Clutt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Villegas Middle Schoo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2006-2007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</a:rPr>
              <a:t>Pythagoras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56386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569 B.C. – 475 B.C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Greec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irst pure mathematicia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5 belief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cret societ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ythagorean theorem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Picture 5" descr="Pythagoras_6"/>
          <p:cNvPicPr/>
          <p:nvPr/>
        </p:nvPicPr>
        <p:blipFill>
          <a:blip r:embed="rId1"/>
          <a:stretch/>
        </p:blipFill>
        <p:spPr>
          <a:xfrm>
            <a:off x="6324480" y="2743200"/>
            <a:ext cx="232596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</a:rPr>
              <a:t>Aristotle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733920" y="2361960"/>
            <a:ext cx="54100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384 B.C. – 322 B.C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Greec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hilosoph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tudied mathematics in relation to scienc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Picture 6" descr="Aristotle_4"/>
          <p:cNvPicPr/>
          <p:nvPr/>
        </p:nvPicPr>
        <p:blipFill>
          <a:blip r:embed="rId1"/>
          <a:stretch/>
        </p:blipFill>
        <p:spPr>
          <a:xfrm>
            <a:off x="990720" y="2514600"/>
            <a:ext cx="2346120" cy="30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</a:rPr>
              <a:t>Euclid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49528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325 B.C. – 265 B.C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Greec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Wrote The Element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Geometry toda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Picture 5" descr="Euclid_3"/>
          <p:cNvPicPr/>
          <p:nvPr/>
        </p:nvPicPr>
        <p:blipFill>
          <a:blip r:embed="rId1"/>
          <a:stretch/>
        </p:blipFill>
        <p:spPr>
          <a:xfrm>
            <a:off x="6248520" y="2286000"/>
            <a:ext cx="236196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</a:rPr>
              <a:t>Al-Khwarizmi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86200" y="2361960"/>
            <a:ext cx="5029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780 A.D.-850 A.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Baghdad (in Iraq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1" lang="en-US" sz="3200" spc="-1" strike="noStrike" baseline="30000">
                <a:solidFill>
                  <a:srgbClr val="003366"/>
                </a:solidFill>
                <a:latin typeface="Arial"/>
              </a:rPr>
              <a:t>st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book on Algebr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Algebr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Natural Numb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Equa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Picture 5" descr="Al-Khwarizmi_2"/>
          <p:cNvPicPr/>
          <p:nvPr/>
        </p:nvPicPr>
        <p:blipFill>
          <a:blip r:embed="rId1"/>
          <a:stretch/>
        </p:blipFill>
        <p:spPr>
          <a:xfrm>
            <a:off x="914400" y="2666880"/>
            <a:ext cx="23130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</a:rPr>
              <a:t>Leonardo da Vinci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54100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1452 A.D. - 1519 A.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Ital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Geometry with mechanical method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aint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rchitec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echanic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Picture 5" descr="Leonardo_2"/>
          <p:cNvPicPr/>
          <p:nvPr/>
        </p:nvPicPr>
        <p:blipFill>
          <a:blip r:embed="rId1"/>
          <a:stretch/>
        </p:blipFill>
        <p:spPr>
          <a:xfrm>
            <a:off x="6172200" y="2895480"/>
            <a:ext cx="2506680" cy="30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8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</a:rPr>
              <a:t>Galileo Galilei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1564 A.D. – 1642 A.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Ital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each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strolog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athematicia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Picture 5" descr="Copy of Galileo"/>
          <p:cNvPicPr/>
          <p:nvPr/>
        </p:nvPicPr>
        <p:blipFill>
          <a:blip r:embed="rId1"/>
          <a:stretch/>
        </p:blipFill>
        <p:spPr>
          <a:xfrm>
            <a:off x="1479600" y="2362320"/>
            <a:ext cx="279396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</a:rPr>
              <a:t>De L’hopital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48769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1661 A.D. – 1704 A.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ranc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ifferential Calculu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L”Hopital’s Rul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Picture 5" descr="De_L'Hopital"/>
          <p:cNvPicPr/>
          <p:nvPr/>
        </p:nvPicPr>
        <p:blipFill>
          <a:blip r:embed="rId1"/>
          <a:stretch/>
        </p:blipFill>
        <p:spPr>
          <a:xfrm>
            <a:off x="6019920" y="2666880"/>
            <a:ext cx="2568600" cy="312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</a:rPr>
              <a:t>Leonhard Euler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580920" y="2361960"/>
            <a:ext cx="5334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1707 A.D. – 1783 A.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witzerland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echanica (book on mathematical analysis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alculus of variation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nalytic  Geometr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rigonometr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ymbol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Picture 5" descr="Euler_9"/>
          <p:cNvPicPr/>
          <p:nvPr/>
        </p:nvPicPr>
        <p:blipFill>
          <a:blip r:embed="rId1"/>
          <a:stretch/>
        </p:blipFill>
        <p:spPr>
          <a:xfrm>
            <a:off x="1066680" y="2666880"/>
            <a:ext cx="235908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0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5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0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5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0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5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0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8T15:01:59Z</dcterms:created>
  <dc:creator>Mr. Clutter</dc:creator>
  <dc:description/>
  <dc:language>en-US</dc:language>
  <cp:lastModifiedBy>RomaK</cp:lastModifiedBy>
  <dcterms:modified xsi:type="dcterms:W3CDTF">2015-09-04T07:43:39Z</dcterms:modified>
  <cp:revision>11</cp:revision>
  <dc:subject/>
  <dc:title>Mathematicians  history</dc:title>
</cp:coreProperties>
</file>