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FBF8-9B14-4D82-A631-5D9485961B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ian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thematicians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69 B.C. – 475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pure mathematic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belie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ythagora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569 B.C. – 475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irst pure mathematici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5 belief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ecret socie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isto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4 B.C. – 322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ilosop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d mathematics in relation to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ristot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384 B.C. – 322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hilosoph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tudied mathematics in relation to scien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c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5 B.C. – 265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te Th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Eucli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325 B.C. – 265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Wrote The Element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eometry toda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-Khwariz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0 A.D.-850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ghdad (in Ir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book o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l-Khwarizm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780 A.D.-850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Baghdad (in Iraq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st book on Alge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Natural Numb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nardo da Vin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52 A.D. - 1519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with mechanic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it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eonardo da Vinc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452 A.D. - 1519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eometry with mechanical method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aint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rchitect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echani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ileo Gali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64 A.D. – 1642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alileo Galile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564 A.D. – 1642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each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strolog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thematici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 L’hop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61 A.D. – 1704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Cal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”Hopital’s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e L’hopita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661 A.D. – 1704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ifferential Calculu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”Hopital’s Ru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nhard Eu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7 A.D. – 1783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zer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 (book on mathematical analy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us of vari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tic  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eonhard Eul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707 A.D. – 1783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witzerland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echanica (book on mathematical analysis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Calculus of variatio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nalytic  Geomet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rigonomet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178-BF88-4473-8C89-376960B9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004-C7AA-45EC-9455-2D225764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290-F8BA-4C4C-9622-6A6D50BE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872-46B7-408F-A9A6-E002B214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6F34-FDF4-4C58-96E3-86035465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76BA-7C3F-4A1B-A1A5-C3F2A123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BEDB-9079-40C6-9167-4CB66124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DBCC-6758-4FA4-B0B8-8659AB7E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3F60-F75E-47B0-92A0-D175186C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D604-215D-4BE0-8036-7AC7B4C2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ADFE-79C9-46DB-B130-E5DEDD5A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C081-C6A6-499A-8F28-7C49B929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FE82-4875-4D8D-8C5A-805708B0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983D-3A59-492A-9BA3-527718B2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CDFF-9FFC-44C4-96EF-C574DDFB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7647-AD5E-49E8-B965-272B980C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2277-BB4A-4CFC-BD84-5A0CDD73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6AE-D399-48B4-8C91-C308B601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05B9-1B0C-42CD-917E-50F312FC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A28-F370-44E0-BA97-1A204850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40AA-28E8-4B96-A836-047647CB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7A9-BD38-4838-80A8-4F06638D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35A7-810A-4F5B-9733-779F3B51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6E1-71B2-4CB2-BE34-85771F9C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8063-7EE7-4D34-8455-0F7C3B4953D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B1A8-8F14-45F5-8568-992F9110F2A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Mathematicians</a:t>
            </a:r>
            <a:r>
              <a:rPr b="1" lang="en-US" sz="54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1640" y="2971800"/>
            <a:ext cx="5156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r. Clu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illegas Middle Schoo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006-2007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Pythagora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5638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69 B.C. – 475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rst pure mathematici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 belief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ret socie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ythagorean theore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Pythagoras_6"/>
          <p:cNvPicPr/>
          <p:nvPr/>
        </p:nvPicPr>
        <p:blipFill>
          <a:blip r:embed="rId1"/>
          <a:stretch/>
        </p:blipFill>
        <p:spPr>
          <a:xfrm>
            <a:off x="6324480" y="2743200"/>
            <a:ext cx="23259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Aristotl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3392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84 B.C. – 322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hilosop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udied mathematics in relation to scie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6" descr="Aristotle_4"/>
          <p:cNvPicPr/>
          <p:nvPr/>
        </p:nvPicPr>
        <p:blipFill>
          <a:blip r:embed="rId1"/>
          <a:stretch/>
        </p:blipFill>
        <p:spPr>
          <a:xfrm>
            <a:off x="990720" y="2514600"/>
            <a:ext cx="234612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Euclid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4952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25 B.C. – 265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rote The Ele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ometry toda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5" descr="Euclid_3"/>
          <p:cNvPicPr/>
          <p:nvPr/>
        </p:nvPicPr>
        <p:blipFill>
          <a:blip r:embed="rId1"/>
          <a:stretch/>
        </p:blipFill>
        <p:spPr>
          <a:xfrm>
            <a:off x="6248520" y="2286000"/>
            <a:ext cx="23619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Al-Khwarizm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86200" y="2361960"/>
            <a:ext cx="5029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780 A.D.-850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aghdad (in Iraq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book on Algeb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Algeb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atural Numb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qu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Al-Khwarizmi_2"/>
          <p:cNvPicPr/>
          <p:nvPr/>
        </p:nvPicPr>
        <p:blipFill>
          <a:blip r:embed="rId1"/>
          <a:stretch/>
        </p:blipFill>
        <p:spPr>
          <a:xfrm>
            <a:off x="914400" y="2666880"/>
            <a:ext cx="2313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Leonardo da Vinc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452 A.D. - 1519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ometry with mechanical metho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in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rchitec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chanic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5" descr="Leonardo_2"/>
          <p:cNvPicPr/>
          <p:nvPr/>
        </p:nvPicPr>
        <p:blipFill>
          <a:blip r:embed="rId1"/>
          <a:stretch/>
        </p:blipFill>
        <p:spPr>
          <a:xfrm>
            <a:off x="6172200" y="2895480"/>
            <a:ext cx="25066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Galileo Galile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564 A.D. – 1642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ac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strolog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thematici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5" descr="Copy of Galileo"/>
          <p:cNvPicPr/>
          <p:nvPr/>
        </p:nvPicPr>
        <p:blipFill>
          <a:blip r:embed="rId1"/>
          <a:stretch/>
        </p:blipFill>
        <p:spPr>
          <a:xfrm>
            <a:off x="1479600" y="2362320"/>
            <a:ext cx="27939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De L’hopital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661 A.D. – 1704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fferential Calculu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”Hopital’s Ru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5" descr="De_L'Hopital"/>
          <p:cNvPicPr/>
          <p:nvPr/>
        </p:nvPicPr>
        <p:blipFill>
          <a:blip r:embed="rId1"/>
          <a:stretch/>
        </p:blipFill>
        <p:spPr>
          <a:xfrm>
            <a:off x="6019920" y="2666880"/>
            <a:ext cx="256860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Leonhard Euler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80920" y="2361960"/>
            <a:ext cx="5334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707 A.D. – 1783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witzerland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chanica (book on mathematical analysi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alculus of vari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tic  Geome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rigonome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5" descr="Euler_9"/>
          <p:cNvPicPr/>
          <p:nvPr/>
        </p:nvPicPr>
        <p:blipFill>
          <a:blip r:embed="rId1"/>
          <a:stretch/>
        </p:blipFill>
        <p:spPr>
          <a:xfrm>
            <a:off x="1066680" y="2666880"/>
            <a:ext cx="23590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5:01:59Z</dcterms:created>
  <dc:creator>Mr. Clutter</dc:creator>
  <dc:description/>
  <dc:language>en-US</dc:language>
  <cp:lastModifiedBy>RomaK</cp:lastModifiedBy>
  <dcterms:modified xsi:type="dcterms:W3CDTF">2015-09-04T07:43:39Z</dcterms:modified>
  <cp:revision>11</cp:revision>
  <dc:subject/>
  <dc:title>Mathematicians  history</dc:title>
</cp:coreProperties>
</file>