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C8EE-B53F-4D9E-8FF2-9100743F258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ian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thematicians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69 B.C. – 475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pure mathematic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belie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ythagora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569 B.C. – 475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irst pure mathematici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5 belief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ecret socie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isto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4 B.C. – 322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ilosop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d mathematics in relation to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ristot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384 B.C. – 322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hilosoph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tudied mathematics in relation to scien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c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5 B.C. – 265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te Th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Eucli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325 B.C. – 265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Wrote The Element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eometry toda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-Khwariz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0 A.D.-850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ghdad (in Ir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book o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l-Khwarizm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780 A.D.-850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Baghdad (in Iraq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st book on Alge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Natural Numb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nardo da Vin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52 A.D. - 1519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with mechanic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it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eonardo da Vinc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452 A.D. - 1519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eometry with mechanical method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aint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rchitect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echani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ileo Gali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64 A.D. – 1642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alileo Galile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564 A.D. – 1642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each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strolog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thematici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 L’hop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61 A.D. – 1704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Cal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”Hopital’s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e L’hopita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661 A.D. – 1704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ifferential Calculu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”Hopital’s Ru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nhard Eu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7 A.D. – 1783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zer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 (book on mathematical analy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us of vari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tic  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eonhard Eul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707 A.D. – 1783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witzerland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echanica (book on mathematical analysis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Calculus of variatio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nalytic  Geomet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rigonomet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F71A-1FDB-48B9-A217-EC9CC153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C12-2965-4FA1-9EB9-43D2C2E9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890-9438-406B-8002-EC99F6BA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FD1-0E00-414A-97B9-21DF9A44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5B9D-8928-45FC-BE9C-960B63BF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DCC4-1EA2-4FA2-AD36-BB527EF1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5F10-3176-4788-8315-72A6B198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10BE-0475-47F1-B336-55349B12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FCF1-6404-46EA-B5C3-B21EC921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AFB2-9A51-47DE-A93C-9C716BA7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586E-FA12-4DEE-92E6-15EEEF69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ADE-0666-4D73-A377-09B7E8FA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67CF-A43F-485E-AE70-50406B74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42E5-F44E-49A0-9094-92A166AA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8BF8-2424-4CDE-B229-256CF2D9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C6A4-46A8-4B7E-9A65-0D5C9E7B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CD73-3C52-4C79-91D9-415574F8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EB1D-E8E1-4563-96EF-96429273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A08-2BE2-40F3-B93F-3888ABBD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B53-D10A-4261-A47A-5861CFE2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F0F-D198-479B-B1F4-6B8CEEB2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3AF-0EB1-4799-9BF9-A731DC78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14F-1481-4B98-A299-F9455E51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9D5-15DC-4D07-81F1-71315853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C558-B986-49CC-80E6-4A4FE6704C8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BC6D-C8CE-468C-B04A-8D10CDC60C4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Mathematicians</a:t>
            </a:r>
            <a:r>
              <a:rPr b="1" lang="en-US" sz="54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1640" y="2971800"/>
            <a:ext cx="5156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r. Clu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illegas Middle Schoo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006-2007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Pythagora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5638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69 B.C. – 475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rst pure mathematici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 belief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ret socie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ythagorean theore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Pythagoras_6"/>
          <p:cNvPicPr/>
          <p:nvPr/>
        </p:nvPicPr>
        <p:blipFill>
          <a:blip r:embed="rId1"/>
          <a:stretch/>
        </p:blipFill>
        <p:spPr>
          <a:xfrm>
            <a:off x="6324480" y="2743200"/>
            <a:ext cx="23259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Aristotl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3392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84 B.C. – 322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hilosop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udied mathematics in relation to scie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6" descr="Aristotle_4"/>
          <p:cNvPicPr/>
          <p:nvPr/>
        </p:nvPicPr>
        <p:blipFill>
          <a:blip r:embed="rId1"/>
          <a:stretch/>
        </p:blipFill>
        <p:spPr>
          <a:xfrm>
            <a:off x="990720" y="2514600"/>
            <a:ext cx="234612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Euclid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4952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25 B.C. – 265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rote The Ele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ometry toda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5" descr="Euclid_3"/>
          <p:cNvPicPr/>
          <p:nvPr/>
        </p:nvPicPr>
        <p:blipFill>
          <a:blip r:embed="rId1"/>
          <a:stretch/>
        </p:blipFill>
        <p:spPr>
          <a:xfrm>
            <a:off x="6248520" y="2286000"/>
            <a:ext cx="23619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Al-Khwarizm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86200" y="2361960"/>
            <a:ext cx="5029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780 A.D.-850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aghdad (in Iraq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book on Algeb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Algeb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atural Numb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qu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Al-Khwarizmi_2"/>
          <p:cNvPicPr/>
          <p:nvPr/>
        </p:nvPicPr>
        <p:blipFill>
          <a:blip r:embed="rId1"/>
          <a:stretch/>
        </p:blipFill>
        <p:spPr>
          <a:xfrm>
            <a:off x="914400" y="2666880"/>
            <a:ext cx="2313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Leonardo da Vinc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452 A.D. - 1519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ometry with mechanical metho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in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rchitec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chanic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5" descr="Leonardo_2"/>
          <p:cNvPicPr/>
          <p:nvPr/>
        </p:nvPicPr>
        <p:blipFill>
          <a:blip r:embed="rId1"/>
          <a:stretch/>
        </p:blipFill>
        <p:spPr>
          <a:xfrm>
            <a:off x="6172200" y="2895480"/>
            <a:ext cx="25066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Galileo Galile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564 A.D. – 1642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ac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strolog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thematici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5" descr="Copy of Galileo"/>
          <p:cNvPicPr/>
          <p:nvPr/>
        </p:nvPicPr>
        <p:blipFill>
          <a:blip r:embed="rId1"/>
          <a:stretch/>
        </p:blipFill>
        <p:spPr>
          <a:xfrm>
            <a:off x="1479600" y="2362320"/>
            <a:ext cx="27939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De L’hopital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661 A.D. – 1704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fferential Calculu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”Hopital’s Ru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5" descr="De_L'Hopital"/>
          <p:cNvPicPr/>
          <p:nvPr/>
        </p:nvPicPr>
        <p:blipFill>
          <a:blip r:embed="rId1"/>
          <a:stretch/>
        </p:blipFill>
        <p:spPr>
          <a:xfrm>
            <a:off x="6019920" y="2666880"/>
            <a:ext cx="256860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Leonhard Euler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80920" y="2361960"/>
            <a:ext cx="5334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707 A.D. – 1783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witzerland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chanica (book on mathematical analysi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alculus of vari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tic  Geome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rigonome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5" descr="Euler_9"/>
          <p:cNvPicPr/>
          <p:nvPr/>
        </p:nvPicPr>
        <p:blipFill>
          <a:blip r:embed="rId1"/>
          <a:stretch/>
        </p:blipFill>
        <p:spPr>
          <a:xfrm>
            <a:off x="1066680" y="2666880"/>
            <a:ext cx="23590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5:01:59Z</dcterms:created>
  <dc:creator>Mr. Clutter</dc:creator>
  <dc:description/>
  <dc:language>en-US</dc:language>
  <cp:lastModifiedBy>RomaK</cp:lastModifiedBy>
  <dcterms:modified xsi:type="dcterms:W3CDTF">2015-09-04T07:43:39Z</dcterms:modified>
  <cp:revision>11</cp:revision>
  <dc:subject/>
  <dc:title>Mathematicians  history</dc:title>
</cp:coreProperties>
</file>