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764C-8CC6-4333-9A78-CD4C20C4DD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696-DB41-4EFA-A188-1CC607B4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38D-36D3-40CE-BFE6-ACC3F755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B86-5320-49CF-A019-07A285F9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082-F9AE-496E-9DD0-DA401B6D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0D74-7274-4B21-B9FF-F4374588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FBA9-3F22-4578-9A73-4352E8D5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1105-E350-4C86-A942-26BD6177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FB13-870C-42FB-B965-3CE173DA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3F67-9FCC-4D2E-84D1-64631B2C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6A69-75B7-41FD-AE66-F625DA32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AA94-E8A1-4E47-869A-A6BDCA29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8F3-E6F7-4985-9A71-902C991C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A64F-0B99-47D3-BB3F-8D975C13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2FCB-81BF-47C3-8433-DECE3445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1D81-2E15-4152-B584-0DD6C544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889E-5D88-4E96-AB81-D3235342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06B0-8DCC-4F43-BF1C-23188369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62B-2A20-43D5-8901-A954A5F0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721-EC3C-490F-93BB-9D890E01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257-B0CA-4EE1-9C32-FE9D6F90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FFD-E1E7-43F9-9E84-24BA63A8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A12-12C9-461C-A4A0-A4F3C2D0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CC1-09A3-4AC0-8CDA-A00729FC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F9F-6804-41C1-BA07-93F0168E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94CA-8DE4-4EFA-94CC-7707E6F01F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3B27-95F8-4EC4-81A8-0DE5DBEE40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1600200"/>
            <a:ext cx="72388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447920"/>
            <a:ext cx="72388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atrix with an equal number of rows and columns is called a squar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1600200"/>
            <a:ext cx="72388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an only add or subtract matrices of the sa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calar multiplic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You can multiply a matrix by a number. Each element of the matrix must be multiplied by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238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 of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1600200"/>
            <a:ext cx="7238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ant of a matr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295280" y="3971880"/>
                <a:ext cx="48769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1600200"/>
            <a:ext cx="7238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inverse of a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verse of a square matrix A is denoted by 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.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A =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 I is the unit matrix of the same order as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7:43:58Z</dcterms:modified>
  <cp:revision>33</cp:revision>
  <dc:subject/>
  <dc:title>PowerPoint Presentation</dc:title>
</cp:coreProperties>
</file>