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E4A1-355E-4BC6-82B0-347CAEFA8D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50D-583F-415D-B61B-323FD77A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E0C-E5A6-4DCF-924E-103C44A2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381E-30CB-415A-B9E4-41D4BC54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B6D-0BC0-40B6-ADA2-A2438343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1FAB-F873-459C-B468-500460E4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7D5E-383F-4DAC-9108-390E5F06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5459-1BF4-4DA7-B334-D5AB915A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7A67-C397-474D-8C60-9DC6ABC7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AE2D-9C09-426C-8AEE-EC92A84F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70DE-AACF-4A83-8991-CC4903D5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130E-FFC9-4B44-8EF9-3A4A95F6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862-EF7D-434F-A103-9594CA64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BB27-3D01-4A84-91A5-892F04BA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4707-9085-4251-BCFA-3B13B7C3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26A6-C9D5-49EF-85DB-42D70AE3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6588-898D-43F7-AD0B-41D93A61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8823-3B47-4618-BAC1-02A156C4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A69-AF87-402D-A00A-B5E4B9FD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E81-3E9D-487B-8FA7-E4DDD7CE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881-F327-4078-A827-0EC3106B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B61-0E43-4C25-A2D6-50C00BD3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E23-B914-48FD-9069-F7D82287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FD4-DF8D-4C60-9DBA-A396938A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F13-A5F1-4313-BE62-7D2FAC34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E95C-799E-4FF8-AA1B-46F4FDCB9D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A557-DD16-43DF-AFB3-9EAF809F78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1600200"/>
            <a:ext cx="72388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447920"/>
            <a:ext cx="723888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matrix with an equal number of rows and columns is called a square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43000" y="1600200"/>
            <a:ext cx="723888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can only add or subtract matrices of the sam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calar multiplic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You can multiply a matrix by a number. Each element of the matrix must be multiplied by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90720" y="1371600"/>
            <a:ext cx="72388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 of mat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43000" y="1600200"/>
            <a:ext cx="7238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ant of a matr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295280" y="3971880"/>
                <a:ext cx="487692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43000" y="1600200"/>
            <a:ext cx="7238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inverse of a matr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verse of a square matrix A is denoted by 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.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 A =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ere I is the unit matrix of the same order as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7:43:58Z</dcterms:modified>
  <cp:revision>33</cp:revision>
  <dc:subject/>
  <dc:title>PowerPoint Presentation</dc:title>
</cp:coreProperties>
</file>