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EDBE-010B-4EC7-AEE1-245692AF52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amp; 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y Mr. Clutt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add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of adde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r average of these numbers is 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ean or average of these numbers is 16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9, 1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9, 1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7, 11,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7, 11, 1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, 33, 41, 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, 33, 41, 5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in t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idd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– the middle number in a set of ordered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– the middle number in a set of ordered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= 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– the answer to an additio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nd – the numbers you added together to get the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9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ocabulary Re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 – the answer to an addition proble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end – the numbers you added together to get the su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 + 9 = 1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your median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5, 27,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+ 2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, 10,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6, 10, 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11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11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7, 2, 12, 14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7, 12, 14, 19,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+ 14 =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7, 2, 12, 14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7, 12, 14, 19, 3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 + 14 =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, 5, 81, 67, 25, 7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 + 67 = 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, 25, 53, 67, 78, 8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, 5, 81, 67, 25, 7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 + 67 = 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, 25, 53, 67, 78, 8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mos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pula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 mode – the most popular or that which is in fash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ball caps are a la mod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 mode – the most popular or that which is in fash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aseball caps are a la mode toda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= 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ver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number that is repeated the m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number that is repeated the mo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9, 9, 4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4, 9, 9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9, 9, 4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4, 9, 9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dist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etwe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= 1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lowest and highest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lowest and highest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Find the difference between these 2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 – 18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is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Find the difference between these 2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7 – 18 =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ange is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– the average of a group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– the average of a group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 – 4 =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 – 4 = 2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– 21 =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2 – 21 = 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8, 3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– 3 =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 8, 11, 19,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8, 3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 – 3 =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, 8, 11, 19, 3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, 7, 9, 4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 – 7 = 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9, 23, 19,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, 7, 9, 4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1 – 7 = 3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9, 23, 19, 4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dd all th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dd all the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ddends ar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993-E938-4985-877D-9B86CD3E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ECC-DA86-435A-9773-1A83C65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F92-8210-481D-A59A-3341251B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588-0296-44F9-BF18-DB7ADE13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0410-C0C9-42D3-8258-C99592E4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F1F1-42FB-4828-A505-31A197FD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2D6D-EAC3-4F0F-94C2-D525BAE8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765B-3351-41C1-9AAF-C18BA9C4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7758-3C2E-4E79-BE3B-8EA6A284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1C7B-C6AF-49D9-962A-D0A3585F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2B6E-3415-41B3-BDAA-EA3CAB60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4E8-2395-4304-B637-F536BA3F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4F8C-CBF6-4C33-8C9F-23162E4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BBB5-4376-4416-A0CE-359AA6E6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23A0-BFFA-4AE8-93D9-9207A3D9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4482-21F7-4BF3-8F46-9AF297C1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1C07-6F20-4646-B3B4-51AF93CF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CBD-6136-4E07-BC14-D3B18221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7BB-BEF7-47FB-9336-6E99CD60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FE5-CE53-4EEA-94B3-536077C1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01C-3638-45B8-B969-6F934079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7E6-B843-4BE0-A0BC-3C915D35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E80-8215-4030-A5DE-41C8F691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175-C03D-4D98-A81E-E6096D76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E42B-593E-4DCD-B6CF-ADCF530A5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75A2-E490-4A76-BFE6-FEC8E99665E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By Mr. Clutt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VMS Library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2007-2008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0" name="Picture 9" descr="CLOAC053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LOAC062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LOAC055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CLOAC072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CLOAC075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Oval 15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Oval 1029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Oval 1030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Oval 1031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Oval 1032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Oval 1033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Oval 1034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Oval 1035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Oval 1037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Oval 1038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Oval 1039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Oval 1040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1041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1042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Oval 1043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Oval 1044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Oval 1045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Oval 1046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Line 1050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1051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r. Clutter</dc:creator>
  <dc:description/>
  <dc:language>en-US</dc:language>
  <cp:lastModifiedBy>RomaK</cp:lastModifiedBy>
  <dcterms:modified xsi:type="dcterms:W3CDTF">2015-09-04T07:44:05Z</dcterms:modified>
  <cp:revision>9</cp:revision>
  <dc:subject/>
  <dc:title>Mean, Median, Mode  &amp; Range</dc:title>
</cp:coreProperties>
</file>