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99E0-879F-4386-848B-CC8EAF6CA6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, Median, Mode </a:t>
            </a: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amp; 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y Mr. Clutt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007-200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add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of adde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r average of these numbers is 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ean or average of these numbers is 16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9, 1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9, 1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7, 11,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7, 11, 1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, 33, 41, 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, 33, 41, 5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in t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idd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– the middle number in a set of ordered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– the middle number in a set of ordered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 = 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 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– the answer to an addition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end – the numbers you added together to get the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9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Vocabulary Re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um – the answer to an addition proble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end – the numbers you added together to get the sum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 + 9 = 1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middl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your median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middle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5, 27,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dian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+ 2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dian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If there are two middle numbers, find the mean of these two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di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, 10,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10, 1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6, 10, 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10, 1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11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11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7, 2, 12, 14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7, 12, 14, 19,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+ 14 =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7, 2, 12, 14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7, 12, 14, 19, 3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 + 14 =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edian of these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, 5, 81, 67, 25, 7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3 + 67 = 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, 25, 53, 67, 78, 8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median of these numbers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, 5, 81, 67, 25, 7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3 + 67 = 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5, 25, 53, 67, 78, 8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mos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pula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 mode – the most popular or that which is in fash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ball caps are a la mod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 mode – the most popular or that which is in fash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aseball caps are a la mode toda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– the number that appears most frequently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de = 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ver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od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number that is repeated the m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1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8, 19, 21, 2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od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number that is repeated the mo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9, 9, 4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2, 4, 9, 9, 9,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9, 9, 4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2, 2, 4, 9, 9, 9, 10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 is the mo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ich number is the mod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s the dist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etwe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1, 3, 7, 10,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– the difference between the greatest and the least value in a set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nge = 1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rrange the numbers in order from least to grea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rrange the numbers in order from least to greates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Find the lowest and highest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18, 24, 19, 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Find the lowest and highest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Range in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– Find the difference between these 2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, 19, 21, 24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 – 18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is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Range in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3 – Find the difference between these 2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7 – 18 =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ange is 9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– the average of a group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– the average of a group of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, 8, 4, 8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 – 4 =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, 8, 8, 19,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, 8, 4, 8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9 – 4 = 2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, 8, 8, 19, 2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, 21, 27, 31, 21,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 – 21 =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1, 21, 22, 27, 31,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2, 21, 27, 31, 21, 32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2 – 21 = 1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1, 21, 22, 27, 31, 3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, 8, 3, 1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– 3 = 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 8, 11, 19,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, 8, 3, 1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1 – 3 = 2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, 8, 11, 19, 3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, 7, 9, 41, 1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 – 7 = 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, 9, 23, 19,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at is the rang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3, 7, 9, 41, 19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41 – 7 = 3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7, 9, 23, 19, 41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is found by evening ou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5, 2, 1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is found by evening out the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an = 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– Add all th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1 – Add all the number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0 by Monica Yuska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Find the Mean of a Group of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 – Divide the sum by the number of adde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, 10, 12, 18, 22, 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+10+12+18+22+26 = 9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addends are t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pyright © 2000 by Monica Yuskaiti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to Find the Mean of a Group of Numb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ep 2 – Divide the sum by the number of adde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8F4-2856-4EEB-B9A2-681BF9D9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49E-9213-4728-B9A0-86BEADC2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B33-20A7-4F95-B8DF-68AC5518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FEE-C2F3-4530-8B3E-9523F162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4C51-AC0B-466F-9C3D-0679AFC7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1FA4-4E22-4505-9567-B53CBCE9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B5DE-5980-4FDB-B79B-E22897DF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DAE1-D62A-4F47-9638-E439F706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DC9F-08C2-444C-9DDD-B13D0F81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9D8D-DC74-440E-94C2-D86406AD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AA74-80D6-48E6-9E3A-938880C0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F4A-2987-4294-85E3-51CEB926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7526-B0F2-42AE-88BA-BA14335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3BA6-2CBC-49DE-A714-E8214B1D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9F1C-0F3C-4AD6-BFBD-FF154F51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247D-1D63-4FD3-AC9E-3C63C6C8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6FBA-FF0A-4D71-9C68-E043B40D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6F7-5755-4891-A110-7E1012C4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9D8-84FE-48D9-AAB4-F47EBD9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738-E962-4037-B845-B27448D0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FF7-F76A-4D89-9AC5-01A13530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A0D-E485-4646-A1AF-D58CBA76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ABA-3407-48A7-8D15-6492E18C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47D-45FA-4B9E-AC1C-E21C4F85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281916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38C8-5B95-4480-A568-0EA7181BD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41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F4F3-664B-496C-9FA6-2E8ABFF00A7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Mean, Median, Mode </a:t>
            </a:r>
            <a:br>
              <a:rPr sz="4800"/>
            </a:b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&amp; Ran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By Mr. Clutt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VMS Library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2007-2008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572000" y="350532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105520" y="3733920"/>
            <a:ext cx="1371600" cy="0"/>
          </a:xfrm>
          <a:prstGeom prst="line">
            <a:avLst/>
          </a:prstGeom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2592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9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 flipH="1">
            <a:off x="617220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7011360" y="365760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759240" y="3657600"/>
            <a:ext cx="304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imes New Roman"/>
              </a:rPr>
              <a:t># of adde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733920" y="4114800"/>
            <a:ext cx="838080" cy="0"/>
          </a:xfrm>
          <a:prstGeom prst="line">
            <a:avLst/>
          </a:prstGeom>
          <a:ln w="381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259600" y="2819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5259600" y="4114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4876920" y="495288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4800600" y="472428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5259600" y="4724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5943600" y="4419720"/>
            <a:ext cx="0" cy="4572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5638680" y="472428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38680" y="2819520"/>
            <a:ext cx="6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5640480" y="53341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5257800" y="5334120"/>
            <a:ext cx="5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4952880" y="6172200"/>
            <a:ext cx="12193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4952880" y="5943600"/>
            <a:ext cx="30492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The mean or average of these numbers is 16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Text Box 23"/>
          <p:cNvSpPr/>
          <p:nvPr/>
        </p:nvSpPr>
        <p:spPr>
          <a:xfrm>
            <a:off x="1373400" y="358128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973240" y="236232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668680" y="2286000"/>
            <a:ext cx="36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9, 1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88800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40080" y="22860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7, 11, 1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421160" y="38862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440080" y="220968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, 33, 41, 5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040280" y="38862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3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in th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i</a:t>
            </a:r>
            <a:r>
              <a:rPr b="0" lang="en-US" sz="6600" spc="-1" strike="noStrike" u="sng">
                <a:solidFill>
                  <a:srgbClr val="ff41ff"/>
                </a:solidFill>
                <a:uFillTx/>
                <a:latin typeface="Tahoma"/>
              </a:rPr>
              <a:t>dd</a:t>
            </a: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l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iddle number in a set of ordered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9200" y="3352680"/>
            <a:ext cx="52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088080" y="480060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dian = 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3886200" y="335268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Oval 6"/>
          <p:cNvSpPr/>
          <p:nvPr/>
        </p:nvSpPr>
        <p:spPr>
          <a:xfrm>
            <a:off x="3962520" y="44956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y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41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41ff"/>
                </a:solidFill>
                <a:latin typeface="Tahoma"/>
              </a:rPr>
              <a:t>Sum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answer to an addition proble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Addend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– the numbers you added together to get the sum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743920" y="4648320"/>
            <a:ext cx="36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+ </a:t>
            </a:r>
            <a:r>
              <a:rPr b="0" lang="en-US" sz="6600" spc="-1" strike="noStrike">
                <a:solidFill>
                  <a:srgbClr val="ff6600"/>
                </a:solidFill>
                <a:latin typeface="Times New Roman"/>
              </a:rPr>
              <a:t>9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 = 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15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middle number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754280" y="34290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9625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914400" y="4800600"/>
            <a:ext cx="746748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imes New Roman"/>
              </a:rPr>
              <a:t>This is your median number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219320" y="41911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5, 27,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Oval 5"/>
          <p:cNvSpPr/>
          <p:nvPr/>
        </p:nvSpPr>
        <p:spPr>
          <a:xfrm>
            <a:off x="4648320" y="426708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3429000" y="426708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dian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Tahoma"/>
              </a:rPr>
              <a:t>Step 3 – If there are two middle numbers, find the mean of these two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66880" y="3429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+ 25 =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4038480" y="3429000"/>
            <a:ext cx="99072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2590920" y="3429000"/>
            <a:ext cx="990360" cy="9907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564160" y="335268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3581280" y="5029200"/>
            <a:ext cx="84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4114800" y="5257800"/>
            <a:ext cx="1905120" cy="0"/>
          </a:xfrm>
          <a:prstGeom prst="line">
            <a:avLst/>
          </a:prstGeom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344840" y="5105520"/>
            <a:ext cx="113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4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4344840" y="4419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 flipH="1">
            <a:off x="5409720" y="4800600"/>
            <a:ext cx="762120" cy="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6233400" y="4317840"/>
            <a:ext cx="197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41ff"/>
                </a:solidFill>
                <a:latin typeface="Times New Roman"/>
              </a:rPr>
              <a:t>median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973240" y="182880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6, 10, 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888000" y="42670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049560" y="28954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10, 1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3733920" y="2819520"/>
            <a:ext cx="1218960" cy="12189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11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3581280" y="29718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602000" y="1676520"/>
            <a:ext cx="608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7, 2, 12, 14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402600" y="34290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3124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677960" y="2590920"/>
            <a:ext cx="589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, 7, 12, 14, 19, 3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Oval 8"/>
          <p:cNvSpPr/>
          <p:nvPr/>
        </p:nvSpPr>
        <p:spPr>
          <a:xfrm>
            <a:off x="4267080" y="251460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92880" y="4267080"/>
            <a:ext cx="408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 + 14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6172200" y="4419720"/>
            <a:ext cx="152388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6478560" y="4270320"/>
            <a:ext cx="94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median of these number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296720" y="1676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, 5, 81, 67, 25, 7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6859440" y="3581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6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3124080" y="2666880"/>
            <a:ext cx="12193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4191120" y="2666880"/>
            <a:ext cx="121896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916560" y="4267080"/>
            <a:ext cx="446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3 + 67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 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640480" y="4191120"/>
            <a:ext cx="84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41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6172200" y="4419720"/>
            <a:ext cx="1676520" cy="0"/>
          </a:xfrm>
          <a:prstGeom prst="line">
            <a:avLst/>
          </a:prstGeom>
          <a:ln w="38160">
            <a:solidFill>
              <a:srgbClr val="ff4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478560" y="4270320"/>
            <a:ext cx="132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20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1296720" y="28195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5, 25, 53, 67, 78, 8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od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most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Popular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3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3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A la 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most popular or that which is in fashion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33520" y="3352680"/>
            <a:ext cx="807696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0" name="Picture 9" descr="CLOAC053"/>
          <p:cNvPicPr/>
          <p:nvPr/>
        </p:nvPicPr>
        <p:blipFill>
          <a:blip r:embed="rId1"/>
          <a:stretch/>
        </p:blipFill>
        <p:spPr>
          <a:xfrm>
            <a:off x="762120" y="3505320"/>
            <a:ext cx="1828800" cy="588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CLOAC062"/>
          <p:cNvPicPr/>
          <p:nvPr/>
        </p:nvPicPr>
        <p:blipFill>
          <a:blip r:embed="rId2"/>
          <a:stretch/>
        </p:blipFill>
        <p:spPr>
          <a:xfrm>
            <a:off x="1676520" y="4038480"/>
            <a:ext cx="2280960" cy="11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CLOAC055"/>
          <p:cNvPicPr/>
          <p:nvPr/>
        </p:nvPicPr>
        <p:blipFill>
          <a:blip r:embed="rId3"/>
          <a:stretch/>
        </p:blipFill>
        <p:spPr>
          <a:xfrm>
            <a:off x="3657600" y="3429000"/>
            <a:ext cx="1606680" cy="1154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CLOAC072"/>
          <p:cNvPicPr/>
          <p:nvPr/>
        </p:nvPicPr>
        <p:blipFill>
          <a:blip r:embed="rId4"/>
          <a:stretch/>
        </p:blipFill>
        <p:spPr>
          <a:xfrm>
            <a:off x="4952880" y="4129200"/>
            <a:ext cx="2057400" cy="92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CLOAC075"/>
          <p:cNvPicPr/>
          <p:nvPr/>
        </p:nvPicPr>
        <p:blipFill>
          <a:blip r:embed="rId5"/>
          <a:stretch/>
        </p:blipFill>
        <p:spPr>
          <a:xfrm>
            <a:off x="6705720" y="3352680"/>
            <a:ext cx="18032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678240" y="5334120"/>
            <a:ext cx="78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Baseball caps are a la mode toda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Oval 15"/>
          <p:cNvSpPr/>
          <p:nvPr/>
        </p:nvSpPr>
        <p:spPr>
          <a:xfrm>
            <a:off x="3505320" y="304812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Oval 16"/>
          <p:cNvSpPr/>
          <p:nvPr/>
        </p:nvSpPr>
        <p:spPr>
          <a:xfrm>
            <a:off x="6705720" y="3124080"/>
            <a:ext cx="1752480" cy="1828800"/>
          </a:xfrm>
          <a:prstGeom prst="ellipse">
            <a:avLst/>
          </a:prstGeom>
          <a:noFill/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number that appears most frequently in a set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3106800" y="4800600"/>
            <a:ext cx="261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ode = 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251460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Means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Avera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od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number that is repeated the mo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18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752480" y="43434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8, 19, 21, 24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Oval 6"/>
          <p:cNvSpPr/>
          <p:nvPr/>
        </p:nvSpPr>
        <p:spPr>
          <a:xfrm>
            <a:off x="1752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2895480" y="434340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3581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2819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296720" y="190512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9, 9, 4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4040280" y="4114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96720" y="2971800"/>
            <a:ext cx="646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1, 2, 2, 4, 9, 9, 9, 10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2670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5105520" y="3048120"/>
            <a:ext cx="76176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Oval 8"/>
          <p:cNvSpPr/>
          <p:nvPr/>
        </p:nvSpPr>
        <p:spPr>
          <a:xfrm>
            <a:off x="586728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ich number is the mod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4040280" y="411480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251460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Rang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is the distance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41ff"/>
                </a:solidFill>
                <a:latin typeface="Tahoma"/>
              </a:rPr>
              <a:t>Between</a:t>
            </a:r>
            <a:endParaRPr b="0" lang="en-US" sz="6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Range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– the difference between the greatest and the least value in a set of number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677960" y="33526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1, 1, 3, 7, 10,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126960" y="480060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Range = 1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1676520" y="3429000"/>
            <a:ext cx="6858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781680" y="3429000"/>
            <a:ext cx="99072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3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rrange the numbers in order from least to greatest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Find the lowest and highest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1754280" y="3124080"/>
            <a:ext cx="570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1, 18, 24, 19, 27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754280" y="441972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828800" y="441972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248520" y="4419720"/>
            <a:ext cx="99036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Range in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3 – Find the difference between these 2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754280" y="3200400"/>
            <a:ext cx="551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18, 19, 21, 24, 27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5" name="Oval 6"/>
          <p:cNvSpPr/>
          <p:nvPr/>
        </p:nvSpPr>
        <p:spPr>
          <a:xfrm>
            <a:off x="182880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6324480" y="3200400"/>
            <a:ext cx="990720" cy="10666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69040" y="4267080"/>
            <a:ext cx="365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27 – 18 =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286720" y="5029200"/>
            <a:ext cx="45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The range is 9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3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</a:t>
            </a: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– the average of a group of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7800" y="327672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67000" y="4724280"/>
            <a:ext cx="25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Mean = 3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135160" y="1905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, 8, 4, 8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440080" y="426708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9 – 4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5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2135160" y="3048120"/>
            <a:ext cx="45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, 8, 8, 19, 2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5486400" y="3048120"/>
            <a:ext cx="9907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2057400" y="304812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297080" y="1905120"/>
            <a:ext cx="68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2, 21, 27, 31, 21, 32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592720" y="4267080"/>
            <a:ext cx="403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2 – 21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11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297080" y="2971800"/>
            <a:ext cx="66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1, 21, 22, 27, 31, 32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7086600" y="2971800"/>
            <a:ext cx="8380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295280" y="2971800"/>
            <a:ext cx="76212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3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, 8, 3, 1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1 – 3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28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3, 8, 11, 19, 3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the rang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2135160" y="1905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23, 7, 9, 41, 19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2668680" y="4343400"/>
            <a:ext cx="365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41 – 7 =</a:t>
            </a: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 34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2135160" y="3048120"/>
            <a:ext cx="49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41ff"/>
                </a:solidFill>
                <a:latin typeface="Times New Roman"/>
              </a:rPr>
              <a:t>7, 9, 23, 19, 41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Oval 6"/>
          <p:cNvSpPr/>
          <p:nvPr/>
        </p:nvSpPr>
        <p:spPr>
          <a:xfrm>
            <a:off x="5867280" y="3048120"/>
            <a:ext cx="106704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Oval 7"/>
          <p:cNvSpPr/>
          <p:nvPr/>
        </p:nvSpPr>
        <p:spPr>
          <a:xfrm>
            <a:off x="1905120" y="3048120"/>
            <a:ext cx="1066680" cy="10666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Oval 1029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Oval 1030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Oval 1031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Oval 1032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Oval 1033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Oval 1034"/>
          <p:cNvSpPr/>
          <p:nvPr/>
        </p:nvSpPr>
        <p:spPr>
          <a:xfrm>
            <a:off x="2590920" y="41911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Oval 1035"/>
          <p:cNvSpPr/>
          <p:nvPr/>
        </p:nvSpPr>
        <p:spPr>
          <a:xfrm>
            <a:off x="2590920" y="37339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Oval 1037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Oval 1038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Oval 1039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Oval 1040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1041"/>
          <p:cNvSpPr/>
          <p:nvPr/>
        </p:nvSpPr>
        <p:spPr>
          <a:xfrm flipH="1">
            <a:off x="1676520" y="3962520"/>
            <a:ext cx="914400" cy="106668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1042"/>
          <p:cNvSpPr/>
          <p:nvPr/>
        </p:nvSpPr>
        <p:spPr>
          <a:xfrm>
            <a:off x="3733920" y="4343400"/>
            <a:ext cx="990360" cy="68580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Oval 1043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Oval 1044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Oval 1045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Oval 1046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Line 1050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1051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44008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42670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Oval 17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Oval 18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Oval 19"/>
          <p:cNvSpPr/>
          <p:nvPr/>
        </p:nvSpPr>
        <p:spPr>
          <a:xfrm>
            <a:off x="7238880" y="41911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Oval 20"/>
          <p:cNvSpPr/>
          <p:nvPr/>
        </p:nvSpPr>
        <p:spPr>
          <a:xfrm>
            <a:off x="7238880" y="37339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6324120" y="44197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6324120" y="3962520"/>
            <a:ext cx="838440" cy="99036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an is found by evening out the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363760" y="1752480"/>
            <a:ext cx="42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8f8f8"/>
                </a:solidFill>
                <a:latin typeface="Times New Roman"/>
              </a:rPr>
              <a:t>2, 5, 2, 1,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0666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10666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5909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25909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25909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Oval 9"/>
          <p:cNvSpPr/>
          <p:nvPr/>
        </p:nvSpPr>
        <p:spPr>
          <a:xfrm>
            <a:off x="419112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10666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419112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Oval 12"/>
          <p:cNvSpPr/>
          <p:nvPr/>
        </p:nvSpPr>
        <p:spPr>
          <a:xfrm>
            <a:off x="419112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5715000" y="55627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Oval 14"/>
          <p:cNvSpPr/>
          <p:nvPr/>
        </p:nvSpPr>
        <p:spPr>
          <a:xfrm>
            <a:off x="7238880" y="55627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Oval 15"/>
          <p:cNvSpPr/>
          <p:nvPr/>
        </p:nvSpPr>
        <p:spPr>
          <a:xfrm>
            <a:off x="7238880" y="51055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7238880" y="4648320"/>
            <a:ext cx="106704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Oval 17"/>
          <p:cNvSpPr/>
          <p:nvPr/>
        </p:nvSpPr>
        <p:spPr>
          <a:xfrm>
            <a:off x="5715000" y="51055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5715000" y="4648320"/>
            <a:ext cx="1066680" cy="304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971800" y="304812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mean = 3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1 – Add all the number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49720" y="28195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60080" y="426708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4"/>
          <p:cNvSpPr/>
          <p:nvPr/>
        </p:nvSpPr>
        <p:spPr>
          <a:xfrm>
            <a:off x="2819520" y="60199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000 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y Monica Yuskaiti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to Find the Mean of a Group of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tep 2 – Divide the sum by the number of adde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9720" y="3048120"/>
            <a:ext cx="627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, 10, 12, 18, 22, 26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60080" y="4114800"/>
            <a:ext cx="828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8+10+12+18+22+26 = 96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914400" y="5105520"/>
            <a:ext cx="7391520" cy="83808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How many addends are there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17:58:31Z</dcterms:created>
  <dc:creator>Mr. Clutter</dc:creator>
  <dc:description/>
  <dc:language>en-US</dc:language>
  <cp:lastModifiedBy>RomaK</cp:lastModifiedBy>
  <dcterms:modified xsi:type="dcterms:W3CDTF">2015-09-04T07:44:05Z</dcterms:modified>
  <cp:revision>9</cp:revision>
  <dc:subject/>
  <dc:title>Mean, Median, Mode  &amp; Range</dc:title>
</cp:coreProperties>
</file>