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EF1-574F-4CDE-8F0B-98D9BE3B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32B-2320-4B70-8445-44F134D1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0B4-9E7D-44A4-8693-12FB3871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6C3-F59B-4A80-B07D-222413B6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054-1248-4983-887E-03179DC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87FE0-C1E3-4604-9F70-54FE1D1B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40DB5-B997-4A7A-A059-2D0BBC33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85028-314F-4BDF-BBF6-6487DFE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C7DD9-A31A-41E3-88E3-4FEE8FA0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E803-57F5-4911-A164-07F97D76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EEEE2-3C9E-46AF-9FE5-E9C466F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DD421-1E72-42C4-8E05-C158B57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EE0-EA1E-46F8-8ADE-845BBD3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FDB76-24D8-4AEA-9347-F1AFFBF3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1EC85-20DF-40ED-9F8C-B162A25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D47F5-4C0A-4CC8-A4C3-7AC05D4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69DE-27C0-4CF5-93C6-EF41C466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72432-520F-4EAE-9387-89CA29E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1BE-343C-40AC-A79A-46CBBDA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670-EAA7-4E10-8212-9DE6F501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CD1-6056-4A97-88E2-45B5B755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107-3B6A-4E00-B455-F3D2459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1A3-B8E1-4875-9F17-97B33A0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562-2C0D-4FC9-97E8-BEC7AF1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A45-3CD7-4077-9517-1254AE5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5F2-D6E3-42C4-B3DD-17E4CCB3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3E6-AACF-4017-A50E-777EFA6D8917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2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5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8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3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nodeType="clickEffect" fill="hold">
                      <p:stCondLst>
                        <p:cond delay="0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