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C0BE-D638-41D8-B97F-B6D96F18AB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you should be able to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powers with the same b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powers with the same b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you should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powers with the sam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powers with the sam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-2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6= 5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-2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6= 5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–2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2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-2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1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me card acti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–2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-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1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me card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÷ 52= 5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÷ 52=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1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ry the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x 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 x 5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 x 4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1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ry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x 3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 x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 x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2D9F-0B35-4B80-A897-C256D340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136-2081-40D3-9E02-BECBF849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7FD7-0C73-48B0-B6B6-D8E38E2F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DEB-11AA-4014-99D1-5077E6DD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8195-6710-4B5D-88BD-B00FA94A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F4F-6014-4FA0-BDE7-7E482B74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BC8-05C7-4A01-9AA7-0853C696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7AE-714C-40EF-959B-65771EC3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CA98-A528-4021-BA93-0DA44677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056-76BD-4C2A-90DF-39ED5BD0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A33-97A6-4EC5-80DB-1C9A7F91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3EA-A378-4546-9F8E-1E5CD8CD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4327-64F5-441A-A0D5-2782363327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3333cc"/>
                </a:solidFill>
                <a:uFillTx/>
                <a:latin typeface="Comic Sans MS"/>
              </a:rPr>
              <a:t>Lesson Objectiv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79280" y="2421000"/>
            <a:ext cx="8642520" cy="28011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is lesson you should be able 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ultiply powers with the same 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ide powers with the same 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y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e text below in to your books and then answer the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2286000"/>
            <a:ext cx="3353040" cy="1679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multiply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x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+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2 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–7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858000" y="3200400"/>
            <a:ext cx="1905120" cy="211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your answer in power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x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=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5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905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455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y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11480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80880" y="2286000"/>
            <a:ext cx="3353040" cy="1679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multiply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x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+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191120" y="1752480"/>
            <a:ext cx="23619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4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6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6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8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3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9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–2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5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–7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3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3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8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3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095880" y="1752480"/>
            <a:ext cx="914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0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1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10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11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12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79280" y="6237360"/>
            <a:ext cx="352908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llow me card a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15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Divid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e text below in to your books and then answer the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80880" y="2286000"/>
            <a:ext cx="3470400" cy="174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divi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btrac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÷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 -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2   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–7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1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020000" y="3213000"/>
            <a:ext cx="1904760" cy="211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your answer in power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÷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=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9" presetSubtype="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3"/>
          <p:cNvSpPr/>
          <p:nvPr/>
        </p:nvSpPr>
        <p:spPr>
          <a:xfrm>
            <a:off x="380880" y="2286000"/>
            <a:ext cx="3470400" cy="174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divi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btrac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÷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 -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2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4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6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8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3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3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2   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5</a:t>
            </a:r>
            <a:r>
              <a:rPr b="0" lang="en-GB" sz="20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–7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11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3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7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3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Dividing </a:t>
            </a: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powers of the same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11480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095880" y="1752480"/>
            <a:ext cx="91440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877080" y="1700280"/>
            <a:ext cx="2087640" cy="5359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w try thes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2 x 2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3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5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4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7020000" y="623736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6804000" y="9079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tra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11:47:59Z</dcterms:created>
  <dc:creator>BWN</dc:creator>
  <dc:description/>
  <dc:language>en-US</dc:language>
  <cp:lastModifiedBy>RomaK</cp:lastModifiedBy>
  <dcterms:modified xsi:type="dcterms:W3CDTF">2015-09-04T07:44:28Z</dcterms:modified>
  <cp:revision>16</cp:revision>
  <dc:subject/>
  <dc:title>Multiplying powers of the same number</dc:title>
</cp:coreProperties>
</file>