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BFF77-F309-4158-932D-3B7BCCD5E59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Objectiv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lesson you should be able to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powers with the same bas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e powers with the same bas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Ob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lesson you should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powers with the same b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e powers with the same b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powers of the same numb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the text below in to your books and then answer the ques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ultiplying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s of the same base (number) are add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: am x an = am+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 22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 x 46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2 x 6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 x 83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2 x 9 -2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 x 2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 x 5 –7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-2 x 3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-2 x 8 -3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your answer in power for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 x 56= 5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numb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powers of the sam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the text below in to your books and then answer the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ultiply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s of the same base (number) are ad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: am x an = am+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 22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 x 46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2 x 6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 x 83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2 x 9 -2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 x 2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 x 5 –7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-2 x 3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-2 x 8 -3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your answer in power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 x 56= 5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powers of the same numb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ultiplying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s of the same base (number) are add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: am x an = am+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 22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 x 46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2 x 6 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 x 83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2 x 9 –2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 x 2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 x 5 –7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-2 x 3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-2 x 8 -3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2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-2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-1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1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numb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me card acti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powers of the sam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ultiply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s of the same base (number) are ad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: am x an = am+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 22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 x 46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2 x 6 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 x 83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2 x 9 –2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 x 2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 x 5 –7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-2 x 3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-2 x 8 -3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2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-2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-1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1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me card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ing powers of the same numb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the text below in to your books and then answer the ques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dividing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s of the same base (number) are subtract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: am ÷ an = am - 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÷ 22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7 ÷ 45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2 ÷ 6  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 ÷ 83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1 ÷ 35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 ÷ 2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 ÷ 5 –7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-2 ÷ 113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-4 ÷ 7-3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your answer in power for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6 ÷ 52= 5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numb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ing powers of the sam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the text below in to your books and then answer the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divid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s of the same base (number) are subtra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: am ÷ an = am -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÷ 22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7 ÷ 45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2 ÷ 6  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 ÷ 83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1 ÷ 35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 ÷ 2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 ÷ 5 –7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-2 ÷ 113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-4 ÷ 7-3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your answer in power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6 ÷ 52= 5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dividing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s of the same base (number) are subtract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: am ÷ an = am - 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÷ 22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7 ÷ 45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2 ÷ 6  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 ÷ 83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1 ÷ 35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 ÷ 2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 ÷ 5 –7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-2 ÷ 113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-4 ÷ 7-3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ing powers of the same numb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1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-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-1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numb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ry thes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x 2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 x 3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3 x 5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 x 4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a Ques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divid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s of the same base (number) are subtra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: am ÷ an = am -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÷ 22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7 ÷ 45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2 ÷ 6  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 ÷ 83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1 ÷ 35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 ÷ 2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 ÷ 5 –7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-2 ÷ 113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-4 ÷ 7-3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ing powers of the sam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1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-1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ry the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x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 x 3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3 x 5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 x 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a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8FE0-24CA-4031-83EC-1F03FB06C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4044-99F4-4660-A65E-6C0552D21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D49A-3D2C-4232-8C1E-3DF051DE8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EAB9-2B9C-46E1-8C51-BB7A06793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DF10-3E62-4D78-A2BE-24D50EF47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FC41-C706-4349-AE26-919D68769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88E4-4094-470C-8442-ED26CB66D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8F9A-B506-47A1-9DEF-8C648D637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624E-B1A9-4C76-8DA8-DDFBDC891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81CB-66F4-425E-B108-E23E82BC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0037-3B54-484E-8045-CA21FA17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627E-2142-42AC-9F5B-8F40DE45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893D3-706A-43A6-828A-38AD282C08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 u="sng">
                <a:solidFill>
                  <a:srgbClr val="3333cc"/>
                </a:solidFill>
                <a:uFillTx/>
                <a:latin typeface="Comic Sans MS"/>
              </a:rPr>
              <a:t>Lesson Objective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179280" y="2421000"/>
            <a:ext cx="8642520" cy="280116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y the end of this lesson you should be able to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ultiply powers with the same bas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ivide powers with the same bas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3333cc"/>
                </a:solidFill>
                <a:uFillTx/>
                <a:latin typeface="Comic Sans MS"/>
              </a:rPr>
              <a:t>Multiplying powers of the same numb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9810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opy the text below in to your books and then answer the ques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380880" y="2286000"/>
            <a:ext cx="3353040" cy="16794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7"/>
              </a:gs>
            </a:gsLst>
            <a:lin ang="27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When multiplying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Powers of the same base (number) are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dded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In general: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x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=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m+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4191120" y="1752480"/>
            <a:ext cx="2590560" cy="490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x 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2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x 4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6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x 6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x 8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x 9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2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x 2 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x 5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–7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x 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x 8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3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6858000" y="3200400"/>
            <a:ext cx="1905120" cy="21132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 your answer in power for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5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x 5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= 5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228600" y="4419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ase numb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2666880" y="4724280"/>
            <a:ext cx="106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Line 9"/>
          <p:cNvSpPr/>
          <p:nvPr/>
        </p:nvSpPr>
        <p:spPr>
          <a:xfrm flipV="1">
            <a:off x="1219320" y="388584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Line 10"/>
          <p:cNvSpPr/>
          <p:nvPr/>
        </p:nvSpPr>
        <p:spPr>
          <a:xfrm flipH="1" flipV="1">
            <a:off x="2057400" y="380988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Line 11"/>
          <p:cNvSpPr/>
          <p:nvPr/>
        </p:nvSpPr>
        <p:spPr>
          <a:xfrm flipH="1" flipV="1">
            <a:off x="2590560" y="3809880"/>
            <a:ext cx="5331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550"/>
                            </p:stCondLst>
                            <p:childTnLst>
                              <p:par>
                                <p:cTn id="4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7550"/>
                            </p:stCondLst>
                            <p:childTnLst>
                              <p:par>
                                <p:cTn id="49" nodeType="afterEffect" fill="hold" presetClass="entr" presetID="1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1550"/>
                            </p:stCondLst>
                            <p:childTnLst>
                              <p:par>
                                <p:cTn id="56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3050"/>
                            </p:stCondLst>
                            <p:childTnLst>
                              <p:par>
                                <p:cTn id="60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4550"/>
                            </p:stCondLst>
                            <p:childTnLst>
                              <p:par>
                                <p:cTn id="64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6050"/>
                            </p:stCondLst>
                            <p:childTnLst>
                              <p:par>
                                <p:cTn id="68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7550"/>
                            </p:stCondLst>
                            <p:childTnLst>
                              <p:par>
                                <p:cTn id="72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9050"/>
                            </p:stCondLst>
                            <p:childTnLst>
                              <p:par>
                                <p:cTn id="76" nodeType="afterEffect" fill="hold" presetClass="entr" presetID="5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455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3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3333cc"/>
                </a:solidFill>
                <a:uFillTx/>
                <a:latin typeface="Comic Sans MS"/>
              </a:rPr>
              <a:t>Multiplying powers of the same numb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114800" y="12193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nsw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380880" y="2286000"/>
            <a:ext cx="3353040" cy="16794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7"/>
              </a:gs>
            </a:gsLst>
            <a:lin ang="27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When multiplying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Powers of the same base (number) are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dded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In general: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x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=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m+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191120" y="1752480"/>
            <a:ext cx="2361960" cy="490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777777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 x 2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2     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777777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4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 x 4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6     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777777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6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 x 6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       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777777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8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 x 8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3     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777777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9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 x 9</a:t>
            </a:r>
            <a:r>
              <a:rPr b="0" lang="en-GB" sz="2000" spc="-1" strike="noStrike">
                <a:solidFill>
                  <a:srgbClr val="777777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–2  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777777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-3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 x 2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      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777777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5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 x 5</a:t>
            </a:r>
            <a:r>
              <a:rPr b="0" lang="en-GB" sz="2000" spc="-1" strike="noStrike">
                <a:solidFill>
                  <a:srgbClr val="777777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–7   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777777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3 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-2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 x 3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777777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8</a:t>
            </a:r>
            <a:r>
              <a:rPr b="0" lang="en-GB" sz="2000" spc="-1" strike="noStrike">
                <a:solidFill>
                  <a:srgbClr val="777777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-2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 x 8</a:t>
            </a:r>
            <a:r>
              <a:rPr b="0" lang="en-GB" sz="2000" spc="-1" strike="noStrike">
                <a:solidFill>
                  <a:srgbClr val="777777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-3 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6095880" y="1752480"/>
            <a:ext cx="91440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0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2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1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2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228600" y="4419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ase numb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2666880" y="4724280"/>
            <a:ext cx="106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Line 10"/>
          <p:cNvSpPr/>
          <p:nvPr/>
        </p:nvSpPr>
        <p:spPr>
          <a:xfrm flipV="1">
            <a:off x="1219320" y="388584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Line 11"/>
          <p:cNvSpPr/>
          <p:nvPr/>
        </p:nvSpPr>
        <p:spPr>
          <a:xfrm flipH="1" flipV="1">
            <a:off x="2057400" y="380988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Line 12"/>
          <p:cNvSpPr/>
          <p:nvPr/>
        </p:nvSpPr>
        <p:spPr>
          <a:xfrm flipH="1" flipV="1">
            <a:off x="2590560" y="3809880"/>
            <a:ext cx="5331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179280" y="6237360"/>
            <a:ext cx="3529080" cy="459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ollow me card activ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1500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3333cc"/>
                </a:solidFill>
                <a:uFillTx/>
                <a:latin typeface="Comic Sans MS"/>
              </a:rPr>
              <a:t>Dividing powers of the same numb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250920" y="9810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opy the text below in to your books and then answer the ques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80880" y="2286000"/>
            <a:ext cx="3470400" cy="17402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7"/>
              </a:gs>
            </a:gsLst>
            <a:lin ang="27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When dividing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Powers of the same base (number) are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ubtracted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In general: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÷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=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m - 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4191120" y="1752480"/>
            <a:ext cx="2590560" cy="490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÷ 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2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÷ 4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5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÷ 6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÷ 8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÷ 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5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÷ 2    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÷ 5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–7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÷ 11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÷ 7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3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7020000" y="3213000"/>
            <a:ext cx="1904760" cy="21132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 your answer in power for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5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÷ 5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= 5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228600" y="4419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ase numb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2666880" y="4724280"/>
            <a:ext cx="106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Line 9"/>
          <p:cNvSpPr/>
          <p:nvPr/>
        </p:nvSpPr>
        <p:spPr>
          <a:xfrm flipV="1">
            <a:off x="1219320" y="388584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Line 10"/>
          <p:cNvSpPr/>
          <p:nvPr/>
        </p:nvSpPr>
        <p:spPr>
          <a:xfrm flipH="1" flipV="1">
            <a:off x="2057400" y="380988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Line 11"/>
          <p:cNvSpPr/>
          <p:nvPr/>
        </p:nvSpPr>
        <p:spPr>
          <a:xfrm flipH="1" flipV="1">
            <a:off x="2590560" y="3809880"/>
            <a:ext cx="5331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19" presetSubtype="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3" nodeType="afterEffect" fill="hold" presetClass="entr" presetID="2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0" nodeType="afterEffect" fill="hold" presetClass="entr" presetID="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3"/>
          <p:cNvSpPr/>
          <p:nvPr/>
        </p:nvSpPr>
        <p:spPr>
          <a:xfrm>
            <a:off x="380880" y="2286000"/>
            <a:ext cx="3470400" cy="17402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7"/>
              </a:gs>
            </a:gsLst>
            <a:lin ang="27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When dividing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Powers of the same base (number) are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ubtracted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In general: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÷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=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m - 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4191120" y="1752480"/>
            <a:ext cx="2590560" cy="490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 ÷ 2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2      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4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7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 ÷ 4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5      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6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 ÷ 6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        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8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 ÷ 8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3      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3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11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 ÷ 3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5     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-3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 ÷ 2    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5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 ÷ 5</a:t>
            </a:r>
            <a:r>
              <a:rPr b="0" lang="en-GB" sz="20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–7    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11</a:t>
            </a:r>
            <a:r>
              <a:rPr b="0" lang="en-GB" sz="10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-2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 ÷ 11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3 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7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-4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 ÷ 7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-3    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3333cc"/>
                </a:solidFill>
                <a:uFillTx/>
                <a:latin typeface="Comic Sans MS"/>
              </a:rPr>
              <a:t>Dividing </a:t>
            </a:r>
            <a:r>
              <a:rPr b="0" lang="en-GB" sz="4000" spc="-1" strike="noStrike" u="sng">
                <a:solidFill>
                  <a:srgbClr val="3333cc"/>
                </a:solidFill>
                <a:uFillTx/>
                <a:latin typeface="Comic Sans MS"/>
              </a:rPr>
              <a:t>powers of the same numb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4114800" y="12193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nsw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6095880" y="1752480"/>
            <a:ext cx="914400" cy="47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228600" y="4419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ase numb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2666880" y="4724280"/>
            <a:ext cx="106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Line 9"/>
          <p:cNvSpPr/>
          <p:nvPr/>
        </p:nvSpPr>
        <p:spPr>
          <a:xfrm flipV="1">
            <a:off x="1219320" y="388584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Line 10"/>
          <p:cNvSpPr/>
          <p:nvPr/>
        </p:nvSpPr>
        <p:spPr>
          <a:xfrm flipH="1" flipV="1">
            <a:off x="2057400" y="380988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Line 11"/>
          <p:cNvSpPr/>
          <p:nvPr/>
        </p:nvSpPr>
        <p:spPr>
          <a:xfrm flipH="1" flipV="1">
            <a:off x="2590560" y="3809880"/>
            <a:ext cx="5331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6877080" y="1700280"/>
            <a:ext cx="2087640" cy="53593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ow try thes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2 x 2</a:t>
            </a:r>
            <a:r>
              <a:rPr b="0" lang="en-GB" sz="24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3</a:t>
            </a:r>
            <a:r>
              <a:rPr b="0" lang="en-GB" sz="24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5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 x 3</a:t>
            </a:r>
            <a:r>
              <a:rPr b="0" lang="en-GB" sz="24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5</a:t>
            </a:r>
            <a:r>
              <a:rPr b="0" lang="en-GB" sz="24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-3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 x 5</a:t>
            </a:r>
            <a:r>
              <a:rPr b="0" lang="en-GB" sz="24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4</a:t>
            </a:r>
            <a:r>
              <a:rPr b="0" lang="en-GB" sz="24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2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 x 4</a:t>
            </a:r>
            <a:r>
              <a:rPr b="0" lang="en-GB" sz="24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-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7020000" y="6237360"/>
            <a:ext cx="19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 Box 16"/>
          <p:cNvSpPr/>
          <p:nvPr/>
        </p:nvSpPr>
        <p:spPr>
          <a:xfrm>
            <a:off x="6804000" y="90792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xtra Ques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3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9T11:47:59Z</dcterms:created>
  <dc:creator>BWN</dc:creator>
  <dc:description/>
  <dc:language>en-US</dc:language>
  <cp:lastModifiedBy>RomaK</cp:lastModifiedBy>
  <dcterms:modified xsi:type="dcterms:W3CDTF">2015-09-04T07:44:28Z</dcterms:modified>
  <cp:revision>16</cp:revision>
  <dc:subject/>
  <dc:title>Multiplying powers of the same number</dc:title>
</cp:coreProperties>
</file>