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B0A6-8112-4602-A1BC-E58466A130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A9C-E4D9-43ED-B146-265D0E71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367-1A7D-419E-9094-B91FCFB0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E84-D8FD-454B-A69E-E9B6ADED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0D3-1160-4F36-9814-BA2FF59C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C2E-ECA2-471B-B90B-FB3468C6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B04-4817-4A0D-9D88-B920B7AC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EF8-4CF8-4F24-A6D6-D6F5A6BA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795-7075-4170-9353-1DF4F965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7A5-A1BA-4F41-B496-5F0DD5EE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CE2-ED0D-474C-8B2A-A066574B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667-2E33-4442-97E7-037046D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C3D-632D-4EE9-8D97-46FEFA33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1254-06A7-4C89-8319-2D691696FA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3333cc"/>
                </a:solidFill>
                <a:uFillTx/>
                <a:latin typeface="Comic Sans MS"/>
              </a:rPr>
              <a:t>Lesson Objectiv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79280" y="2421000"/>
            <a:ext cx="8642520" cy="28011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ultiply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de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58000" y="3200400"/>
            <a:ext cx="190512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x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905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455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91120" y="1752480"/>
            <a:ext cx="23619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6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2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7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3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95880" y="1752480"/>
            <a:ext cx="914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11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79280" y="6237360"/>
            <a:ext cx="3529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low me card a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5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020000" y="3213000"/>
            <a:ext cx="190476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÷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9" presetSubtype="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3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</a:t>
            </a: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owers of the sam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5880" y="1752480"/>
            <a:ext cx="91440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877080" y="1700280"/>
            <a:ext cx="2087640" cy="5359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try the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2 x 2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7020000" y="6237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804000" y="90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ra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1:47:59Z</dcterms:created>
  <dc:creator>BWN</dc:creator>
  <dc:description/>
  <dc:language>en-US</dc:language>
  <cp:lastModifiedBy>RomaK</cp:lastModifiedBy>
  <dcterms:modified xsi:type="dcterms:W3CDTF">2015-09-04T07:44:28Z</dcterms:modified>
  <cp:revision>16</cp:revision>
  <dc:subject/>
  <dc:title>Multiplying powers of the same number</dc:title>
</cp:coreProperties>
</file>