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5983-3D90-48C1-B7B9-4AC20F22C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D927-68EF-41AE-9CEE-689FB7EC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855-7F67-4934-917D-0C5902A2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D125-E553-4C38-B580-59FD0005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1CB-3FD7-4BDC-B461-DFCB5B30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D821-779C-46E4-AAFA-AE58B21B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103-CED2-46D8-84FC-8256CE2D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2EF9-2978-4DC6-89B5-A8D1F578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D8C2-3635-42FB-9454-AAC237A1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FA23-E910-4CD8-8EB0-C651FB68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CE82-AE9C-42B5-B9EA-095F54CA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E5A-0929-40E0-8691-61FCC479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4B29-4C2D-45F7-8C70-5D573906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0652-BDA2-4D48-913A-C726FA1D9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43200" y="56386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098960" y="468936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90720" y="57913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bd14528_"/>
          <p:cNvPicPr/>
          <p:nvPr/>
        </p:nvPicPr>
        <p:blipFill>
          <a:blip r:embed="rId1"/>
          <a:stretch/>
        </p:blipFill>
        <p:spPr>
          <a:xfrm>
            <a:off x="4657680" y="3514680"/>
            <a:ext cx="1743120" cy="17431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of two equal factors of a number.  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quared equal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the 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 The square root of 144 is 12 because 12 squared is 14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na01595_"/>
          <p:cNvPicPr/>
          <p:nvPr/>
        </p:nvPicPr>
        <p:blipFill>
          <a:blip r:embed="rId1"/>
          <a:stretch/>
        </p:blipFill>
        <p:spPr>
          <a:xfrm>
            <a:off x="6745320" y="1981080"/>
            <a:ext cx="2398680" cy="23702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ed00136_"/>
          <p:cNvPicPr/>
          <p:nvPr/>
        </p:nvPicPr>
        <p:blipFill>
          <a:blip r:embed="rId1"/>
          <a:stretch/>
        </p:blipFill>
        <p:spPr>
          <a:xfrm>
            <a:off x="3429000" y="3352680"/>
            <a:ext cx="4584600" cy="27338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6:17:53Z</dcterms:created>
  <dc:creator>MS</dc:creator>
  <dc:description/>
  <dc:language>en-US</dc:language>
  <cp:lastModifiedBy>RomaK</cp:lastModifiedBy>
  <dcterms:modified xsi:type="dcterms:W3CDTF">2015-09-04T07:44:34Z</dcterms:modified>
  <cp:revision>13</cp:revision>
  <dc:subject/>
  <dc:title>Terms from chapter 8</dc:title>
</cp:coreProperties>
</file>