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5DA4B-CA4C-48DA-A3B8-5D52D5D00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hole numbers and their opposit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.-3, -2, -1, 0, 1, 2, 3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hole numbers and their opposit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.-3, -2, -1, 0, 1, 2, 3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number that can be expressed in the form a/b where a and b are integers and b is not equal to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number that can be expressed in the form a/b where a and b are integers and b is not equal to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fect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s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fect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s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wo equal factors of a number.  If a squared equals b then a is the square root of b.  The square root of 144 is 12 because 12 squared is 14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wo equal factors of a number.  If a squared equals b then a is the square root of b.  The square root of 144 is 12 because 12 squared is 14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cal 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gn used to represent a nonnegative square roo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cal 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gn used to represent a nonnegative square roo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ciple Square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onnegative square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ciple Square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onnegative square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rational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 that cannot be expressed as a/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rational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 that cannot be expressed as a/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l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rational numbers together with rational numbers to form the set of all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l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rational numbers together with rational numbers to form the set of all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 2, 3, 4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 2, 3, 4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, 1, 2, 3, 4, 5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, 1, 2, 3, 4, 5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E616-A592-4532-AA31-270179B6A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8D9D-871C-44E9-9BA6-A15C584F3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4EE3-83DE-484E-B86C-B609D54BE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E564-DE52-4A52-A6AA-5248EC66E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0A90-0595-4016-B0B2-EFA3EAE61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4B25-95D8-45EE-8B36-0E49FF3B0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7BCC-DD7E-4126-B615-C19E9C89C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ED6E-6524-4D41-89A0-00EF0A459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972C-467A-4AFB-B664-1E4C9566C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C137-8A79-42DA-85DD-26938D2A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2E5B-3923-416E-8236-8981177D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F060-B85E-443C-82D5-4E0EEC80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7E852-E72E-40E0-B4C0-75CBB54E3F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Numbers</a:t>
            </a: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743200" y="56386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4098960" y="4689360"/>
            <a:ext cx="321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990720" y="579132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Integer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 whole numbers and their opposites.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...-3, -2, -1, 0, 1, 2, 3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Rational Number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ny number that can be expressed in the form a/b where a and b are integers and b is not equal to 0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" presetSubtype="8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erfect Squar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quares of whole number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bd14528_"/>
          <p:cNvPicPr/>
          <p:nvPr/>
        </p:nvPicPr>
        <p:blipFill>
          <a:blip r:embed="rId1"/>
          <a:stretch/>
        </p:blipFill>
        <p:spPr>
          <a:xfrm>
            <a:off x="4657680" y="3514680"/>
            <a:ext cx="1743120" cy="174312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quare roo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 of two equal factors of a number.  I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quared equal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 the square root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 The square root of 144 is 12 because 12 squared is 144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Radical Sig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The sign used to represent a nonnegative square root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Principle Square Roo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A nonnegative square root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Irrational Number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Numbers that cannot be expressed as a/b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5" descr="na01595_"/>
          <p:cNvPicPr/>
          <p:nvPr/>
        </p:nvPicPr>
        <p:blipFill>
          <a:blip r:embed="rId1"/>
          <a:stretch/>
        </p:blipFill>
        <p:spPr>
          <a:xfrm>
            <a:off x="6745320" y="1981080"/>
            <a:ext cx="2398680" cy="237024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Real Number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Irrational numbers together with rational numbers to form the set of all numbers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Natural Number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1, 2, 3, 4..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ed00136_"/>
          <p:cNvPicPr/>
          <p:nvPr/>
        </p:nvPicPr>
        <p:blipFill>
          <a:blip r:embed="rId1"/>
          <a:stretch/>
        </p:blipFill>
        <p:spPr>
          <a:xfrm>
            <a:off x="3429000" y="3352680"/>
            <a:ext cx="4584600" cy="273384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hole Number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0, 1, 2, 3, 4, 5..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1T16:17:53Z</dcterms:created>
  <dc:creator>MS</dc:creator>
  <dc:description/>
  <dc:language>en-US</dc:language>
  <cp:lastModifiedBy>RomaK</cp:lastModifiedBy>
  <dcterms:modified xsi:type="dcterms:W3CDTF">2015-09-04T07:44:34Z</dcterms:modified>
  <cp:revision>13</cp:revision>
  <dc:subject/>
  <dc:title>Terms from chapter 8</dc:title>
</cp:coreProperties>
</file>