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8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9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D56E-0890-4C72-95B9-5802BF2DB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ndard way to simplify mathematical expressions and eq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 standard way to simplify mathematical expressions and equations.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s Con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Consis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voids Confusion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Gives Consistenc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 are a set of r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thematicians have agreed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o avoid mass CONFU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implifying mathematical express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equations. Without these simple, b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rules, learning mathematics wou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madd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 are a set of rule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hat mathematicians have agreed to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llow to avoid mass CONFUSION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when simplifying mathematical expression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equations. Without these simple, but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important rules, learning mathematics would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be maddening.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within Grouping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), { }, [ ], |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Expo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se to P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he Rule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implify within Grouping Symbol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( ), { }, [ ], | |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implify Exponent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Raise to Power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Complete Multiplication and Division from Left to Righ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Complete Addition and Subtraction from Left to Righ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to Ou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der of operations, we do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first.  So what’s 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Back to Our Exampl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Using order of operations, we do the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ultiplication first.  So what’s ou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nswer?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hes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How can we remember it?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arenthesi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lea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ponent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cu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ultiplica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Divis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Dea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ddi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un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ubtrac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all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points to remember that will give audience confidence or improve mor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Key points to remember that will give audience confidence or improve moral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3B39-C903-418F-A3D3-4FEFF3E3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7C4D-EB1C-4470-A212-80EDF5BA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61D6-8A01-4859-BA27-59FC077A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48AB-E28B-4AB2-B9BB-416CBFA7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BAC8-D073-4553-B3A8-6929C63F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673C-3D77-4816-B4DB-06141BC5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0977-DDFD-4460-9F89-8E2A4E4B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E2D3-E3D7-419D-8E37-ACF1C682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8C8D-492D-495E-956E-EE3231BB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135F-1549-407C-9D3F-78ED01E2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5E70-3922-44D0-B725-499470C0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D21-8D99-418D-9595-DB1301EB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ACA9-FA92-4D15-B877-FEBE463E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15D0-0B3F-4AB0-A4F7-59F8BACB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3B78-02B0-4408-9036-BD9750C6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FCD4-0492-4CC0-BF1D-AF10EA13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A1F7-B6C7-47C9-BB87-BFA6944D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12B0-A50C-4A83-8A84-A8DFA4F0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9BE-8F31-4522-A357-17B03CC8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AED7-0DD0-4E23-9B21-88D3E1B3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B4D8-41F5-484C-B0EB-03A870BE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9937-A081-44C3-BDB0-64AFF3BE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BD90-E9EC-4386-8C9F-5FBDC82D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2BEC-0BE2-4814-BB1E-C60CD2A8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Group 83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6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Oval 8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Oval 9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Oval 10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Oval 11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Oval 12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Oval 13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Oval 14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Oval 15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Oval 16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Oval 17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Oval 18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Oval 19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Oval 20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Oval 21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Oval 22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Oval 23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Oval 24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Oval 25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Oval 26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Oval 27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Oval 28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Oval 29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Oval 30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Oval 31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Oval 32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Oval 33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Oval 34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Oval 35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Oval 36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Oval 37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Oval 38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Oval 39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Oval 40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Oval 41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Oval 42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Oval 43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Oval 44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Oval 45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Oval 46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Oval 47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Oval 48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8" name="Oval 49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9" name="Oval 50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0" name="Oval 51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51" name="Group 69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3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4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5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6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7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8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9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0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1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2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3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4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5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6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7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8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69" name="Rectangle 70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0" name="Rectangle 71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1" name="Rectangle 72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2" name="Rectangle 73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3" name="Rectangle 74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4" name="Rectangle 75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5" name="Oval 76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841E-9A9F-4D9E-B91E-71302D4E9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18" name="Group 83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4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Oval 6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Oval 7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Oval 8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Oval 9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Oval 10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Oval 11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Oval 12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Oval 13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Oval 14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Oval 15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Oval 16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Oval 17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Oval 18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Oval 19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Oval 20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Oval 21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Oval 22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Oval 23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Oval 24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Oval 30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Oval 31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Oval 32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Oval 33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Oval 34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Oval 35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Oval 36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Oval 37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Oval 38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Oval 39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Oval 40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Oval 41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Oval 42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Oval 43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Oval 44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Oval 45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Oval 46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Oval 47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3" name="Oval 48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4" name="Oval 49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165" name="Group 67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0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7" name="Oval 51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8" name="Oval 52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9" name="Oval 53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0" name="Oval 54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1" name="Oval 55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2" name="Oval 56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3" name="Oval 57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4" name="Oval 58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5" name="Oval 59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6" name="Oval 60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7" name="Oval 61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8" name="Oval 62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9" name="Oval 63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0" name="Oval 64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1" name="Oval 65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2" name="Oval 66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183" name="Rectangle 68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4" name="Rectangle 69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5" name="Rectangle 70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6" name="Rectangle 71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7" name="Rectangle 72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8" name="Rectangle 73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9" name="Oval 74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9670-07C8-48C0-B1AD-D4646937B131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Order of Operations</a:t>
            </a: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r. Clutter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VMS Librar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66"/>
                </a:solidFill>
                <a:latin typeface="Times New Roman"/>
              </a:rPr>
              <a:t>Order of Operations</a:t>
            </a:r>
            <a:endParaRPr b="0" lang="en-US" sz="66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562120" y="22860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99"/>
                </a:solidFill>
                <a:latin typeface="Arial Narrow"/>
              </a:rPr>
              <a:t>A standard way to simplify mathematical expressions and equations.</a:t>
            </a:r>
            <a:endParaRPr b="0" lang="en-US" sz="54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voids Confusion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Gives Consistenc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505680" y="3733920"/>
            <a:ext cx="329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11 * 4 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Or does it equal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8 + 12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Order of operations are a set of rules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that mathematicians have agreed to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follow to avoid mass CONFUSION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when simplifying mathematical expressions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or equations. Without these simple, but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important rules, learning mathematics would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be maddening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he Rule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mplify within Grouping Symbols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( ), { }, [ ], | |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mplify Exponents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Raise to Powers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omplete Multiplication and Division from Left to Righ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omplete Addition and Subtraction from Left to Righ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Back to Our Exampl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2362320" y="213372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11 * 4 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Or does it equal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8 + 12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420280" y="4613400"/>
            <a:ext cx="47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Using order of operations, we do the 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multiplication first.  So what’s our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answer?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2423880" y="5908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How can we remember it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Parenthesis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Pleas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Exponents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Excus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ultiplica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Divis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Dear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ddi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un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ubtrac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all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Key points to remember that will give audience confidence or improve moral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20:11:28Z</dcterms:created>
  <dc:creator>Mr. Clutter</dc:creator>
  <dc:description/>
  <dc:language>en-US</dc:language>
  <cp:lastModifiedBy>RomaK</cp:lastModifiedBy>
  <dcterms:modified xsi:type="dcterms:W3CDTF">2015-09-04T07:44:40Z</dcterms:modified>
  <cp:revision>6</cp:revision>
  <dc:subject/>
  <dc:title>Order of Operations</dc:title>
</cp:coreProperties>
</file>