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F36B-2D35-4AD5-BD4A-E9768E4F2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ndard way to simplify mathematical expressions and eq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 standard way to simplify mathematical expressions and equations.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s Con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Consis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voids Confusion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ives Consistenc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 are a set of r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thematicians have agreed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o avoid mass CONFU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implifying mathematical express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equations. Without these simple, b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rules, learning mathematics wou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madd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 are a set of rule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hat mathematicians have agreed to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llow to avoid mass CONFUSION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when simplifying mathematical expression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equations. Without these simple, but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important rules, learning mathematics would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be maddening.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within Grouping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), { }, [ ], |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Expo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se to P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he Rul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implify within Grouping Symbol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( ), { }, [ ], | |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implify Exponent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Raise to Power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Complete Multiplication and Division from Left to Righ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Complete Addition and Subtraction from Left to Righ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to Ou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der of operations, we do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first.  So what’s 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Back to Our Exampl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Using order of operations, we do the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ultiplication first.  So what’s ou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nswer?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hes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How can we remember it?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arenthesi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lea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cu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ultiplica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Divis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Dea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ddi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un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ubtrac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all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points to remember that will give audience confidence or improve mor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Key points to remember that will give audience confidence or improve moral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F56-E83B-42D8-8686-FC74F059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74A-C2D0-483D-B531-6EBAFAD6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306-3577-4B82-9C05-62BAEC1A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4F4-3DDE-41C2-89F1-3AEF67A3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D548-62B3-4900-BF40-AFB95912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1374-1773-43C3-AD08-63CCD54D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248C-5CA2-4471-B9E4-1A15163D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74D6-2DAC-402D-B92C-F527DAA2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80D8-767E-426A-AD60-CF143980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134F-BA62-44C5-91E7-12229BEF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7C19-CAD4-4F54-B867-1A1332B4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8F9-F791-4F32-992B-09390EF8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FDE3-B612-4A37-949F-A73340DB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4267-8490-4F58-AE93-63EC91C6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00B3-638C-4D9D-9825-7EF8B932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5370-14D2-4E4F-8F55-6EA668A9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ED56-B458-42CD-924E-29958F7A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3AE-A88F-4933-B585-61AC1144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1DB-C475-4995-AD6B-5C9B4779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386F-EF18-42C6-8A15-874587C8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521A-29BA-419C-8D6D-45AF7DD7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C72-85E8-4996-BD90-21632B37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B01-B58B-497D-8964-3EDCABB5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F1C0-8C6C-4F64-9256-E2D3DE35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83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6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8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9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0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1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2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3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4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5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6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7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8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19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0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1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2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3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4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5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6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7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8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29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0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1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2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3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4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5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6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7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8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39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0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1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2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3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4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5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6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7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8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49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0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1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69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0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1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2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3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4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5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6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E577-782D-4BC9-A73B-7757DBBC0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83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4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6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7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8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9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0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1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2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3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4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5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6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7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8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19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0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1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2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3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4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0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1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2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3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4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5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6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8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39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0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1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2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3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4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5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6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7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8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49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67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0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1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2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3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4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5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6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7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58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59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0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1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2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3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4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5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6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8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69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0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1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2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3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4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01D9-C626-43A9-9B75-8D06CC7609D0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Order of Operations</a:t>
            </a: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r. Clutter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VMS Librar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66"/>
                </a:solidFill>
                <a:latin typeface="Times New Roman"/>
              </a:rPr>
              <a:t>Order of Operations</a:t>
            </a:r>
            <a:endParaRPr b="0" lang="en-US" sz="66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562120" y="22860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99"/>
                </a:solidFill>
                <a:latin typeface="Arial Narrow"/>
              </a:rPr>
              <a:t>A standard way to simplify mathematical expressions and equations.</a:t>
            </a:r>
            <a:endParaRPr b="0" lang="en-US" sz="54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voids Confusion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Gives Consistenc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505680" y="3733920"/>
            <a:ext cx="329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11 * 4 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Or does it equal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8 + 12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Order of operations are a set of rules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that mathematicians have agreed to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follow to avoid mass CONFUSION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when simplifying mathematical expressions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or equations. Without these simple, but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important rules, learning mathematics would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be maddening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he Rule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mplify within Grouping Symbols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( ), { }, [ ], | |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mplify Exponents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Raise to Powers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omplete Multiplication and Division from Left to Righ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omplete Addition and Subtraction from Left to Righ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Back to Our Exampl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2362320" y="213372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11 * 4 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Or does it equal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8 + 12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420280" y="4613400"/>
            <a:ext cx="47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Using order of operations, we do the 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multiplication first.  So what’s our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answer?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2423880" y="5908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How can we remember it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Parenthesis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Pleas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Exponents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Excus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ultiplica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Divis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Dear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ddi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un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ubtrac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all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Key points to remember that will give audience confidence or improve moral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20:11:28Z</dcterms:created>
  <dc:creator>Mr. Clutter</dc:creator>
  <dc:description/>
  <dc:language>en-US</dc:language>
  <cp:lastModifiedBy>RomaK</cp:lastModifiedBy>
  <dcterms:modified xsi:type="dcterms:W3CDTF">2015-09-04T07:44:40Z</dcterms:modified>
  <cp:revision>6</cp:revision>
  <dc:subject/>
  <dc:title>Order of Operations</dc:title>
</cp:coreProperties>
</file>