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bomb.wav" ContentType="audio/x-wav"/>
  <Override PartName="/ppt/media/image2.wmf" ContentType="image/x-wm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CB58-D74D-4D53-919D-7B26F04C55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closed plane figure is the length of its bound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15 + 8 + 10 + 8 +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closed plane figure is the length of its bound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15 + 8 + 10 + 8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space within the boundary of a figu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space within the boundary of a fig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 = base x 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 =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½ x base x 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½ x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 ABC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rea of ΔABC + area of ΔAC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½ x BC x AH)  + (½ x AD x 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AH x (BC + A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height x sum of parallel si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 ABC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rea of ΔABC + area of ΔA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½ x BC x AH)  + (½ x AD x 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AH x (BC + 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height x sum of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B7B-B022-474E-948D-D7C94FDD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4F0-6184-4A95-A3A6-B21B8199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626-C255-4711-BBB7-5E56831F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F62-20A4-4AB2-A51C-E733CD1F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B710-1EE6-4CD6-BD2B-14DA5561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20DF-EF96-4C3F-9A74-76DF9D49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8BF8-3E15-40A9-A0F6-55689422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C216-465A-4CBF-8984-E5A3AEB9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2125-A1F6-4A90-ADFD-BD5B0F43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1FF6-3A30-40F7-A5DC-C3CD6407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8500-EDD6-4854-906C-F14D8B84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B93-A086-4A57-B23A-B7F318F7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108B-DF1D-47D8-AC75-EAF6593E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1024-AF59-4101-8D91-CC654745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F313-62C0-40B6-85FC-926EFF44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4148-4DE1-4657-A257-0D124672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6432-12A5-4025-B9E9-15E6859C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B1A-6CEA-4EDB-9BF8-230B3BA8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126-B91A-47D4-A6C7-23FA40F9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306-F519-4F8B-AFDA-80A17B35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0A4-FF9D-4F3B-90EB-C864B05A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AFBB-43B3-4F04-8E35-95E6DA72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D69-6A44-460D-9977-0C408553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4AA-B36C-4B44-B200-16AE629E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8A06-7F28-4B08-9158-9685A8B621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4518-C83C-4AC2-8786-D096971C03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0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erimeter of a closed plane figure is the length of its bounda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3429000" y="46483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429000" y="44956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26"/>
          <p:cNvGrpSpPr/>
          <p:nvPr/>
        </p:nvGrpSpPr>
        <p:grpSpPr>
          <a:xfrm>
            <a:off x="2590920" y="2895480"/>
            <a:ext cx="3886200" cy="1447920"/>
            <a:chOff x="2590920" y="2895480"/>
            <a:chExt cx="3886200" cy="1447920"/>
          </a:xfrm>
        </p:grpSpPr>
        <p:sp>
          <p:nvSpPr>
            <p:cNvPr id="97" name="Line 21"/>
            <p:cNvSpPr/>
            <p:nvPr/>
          </p:nvSpPr>
          <p:spPr>
            <a:xfrm>
              <a:off x="2971800" y="434340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Line 22"/>
            <p:cNvSpPr/>
            <p:nvPr/>
          </p:nvSpPr>
          <p:spPr>
            <a:xfrm flipH="1" flipV="1">
              <a:off x="2590920" y="2971800"/>
              <a:ext cx="380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23"/>
            <p:cNvSpPr/>
            <p:nvPr/>
          </p:nvSpPr>
          <p:spPr>
            <a:xfrm flipV="1">
              <a:off x="5867640" y="2895480"/>
              <a:ext cx="6094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24"/>
            <p:cNvSpPr/>
            <p:nvPr/>
          </p:nvSpPr>
          <p:spPr>
            <a:xfrm>
              <a:off x="2590920" y="2971800"/>
              <a:ext cx="1981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Line 25"/>
            <p:cNvSpPr/>
            <p:nvPr/>
          </p:nvSpPr>
          <p:spPr>
            <a:xfrm flipV="1">
              <a:off x="4572000" y="2895480"/>
              <a:ext cx="1905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Text Box 27"/>
          <p:cNvSpPr/>
          <p:nvPr/>
        </p:nvSpPr>
        <p:spPr>
          <a:xfrm>
            <a:off x="40384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4800600" y="274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31240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198108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62485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1447920" y="495288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imeter = 15 + 8 + 10 + 8 + 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4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37168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tan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657600" y="17524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04920" y="2514600"/>
            <a:ext cx="2438280" cy="12193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752480" y="377208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657600" y="16002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qua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77120" y="16002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iang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733920" y="2286000"/>
            <a:ext cx="1752480" cy="1523880"/>
          </a:xfrm>
          <a:prstGeom prst="rect">
            <a:avLst/>
          </a:prstGeom>
          <a:solidFill>
            <a:srgbClr val="00ffff">
              <a:alpha val="9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10"/>
          <p:cNvSpPr/>
          <p:nvPr/>
        </p:nvSpPr>
        <p:spPr>
          <a:xfrm rot="8743200">
            <a:off x="6629040" y="3047760"/>
            <a:ext cx="1905120" cy="1447560"/>
          </a:xfrm>
          <a:prstGeom prst="rtTriangl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33520" y="4510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838080" y="53928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066680" y="3809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276720" y="4572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429000" y="54864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4305240" y="386064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191120" y="38606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2822040" y="2743200"/>
            <a:ext cx="45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7391520" y="38228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78168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830592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6324480" y="4572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629400" y="4572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6094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4876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is the space within the boundary of a figur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3886200" y="1981080"/>
            <a:ext cx="1219320" cy="13716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5638680" y="2590920"/>
            <a:ext cx="1143000" cy="990360"/>
          </a:xfrm>
          <a:prstGeom prst="hexagon">
            <a:avLst>
              <a:gd name="adj" fmla="val 28853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1600200" y="35053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15"/>
          <p:cNvGrpSpPr/>
          <p:nvPr/>
        </p:nvGrpSpPr>
        <p:grpSpPr>
          <a:xfrm>
            <a:off x="3962160" y="3657600"/>
            <a:ext cx="1524240" cy="1143000"/>
            <a:chOff x="3962160" y="3657600"/>
            <a:chExt cx="1524240" cy="1143000"/>
          </a:xfrm>
        </p:grpSpPr>
        <p:sp>
          <p:nvSpPr>
            <p:cNvPr id="136" name="Line 13"/>
            <p:cNvSpPr/>
            <p:nvPr/>
          </p:nvSpPr>
          <p:spPr>
            <a:xfrm>
              <a:off x="4038480" y="365760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14"/>
            <p:cNvSpPr/>
            <p:nvPr/>
          </p:nvSpPr>
          <p:spPr>
            <a:xfrm flipH="1">
              <a:off x="3962160" y="3657600"/>
              <a:ext cx="75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" name="AutoShape 17"/>
          <p:cNvSpPr/>
          <p:nvPr/>
        </p:nvSpPr>
        <p:spPr>
          <a:xfrm rot="5400000">
            <a:off x="6514920" y="3467160"/>
            <a:ext cx="99072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60" y="1708"/>
                  <a:pt x="9519" y="5080"/>
                  <a:pt x="9519" y="10800"/>
                </a:cubicBezTo>
                <a:cubicBezTo>
                  <a:pt x="9519" y="16520"/>
                  <a:pt x="15560" y="1989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Group 39"/>
          <p:cNvGrpSpPr/>
          <p:nvPr/>
        </p:nvGrpSpPr>
        <p:grpSpPr>
          <a:xfrm>
            <a:off x="838080" y="2209680"/>
            <a:ext cx="2286000" cy="1143000"/>
            <a:chOff x="838080" y="2209680"/>
            <a:chExt cx="2286000" cy="1143000"/>
          </a:xfrm>
        </p:grpSpPr>
        <p:sp>
          <p:nvSpPr>
            <p:cNvPr id="140" name="Rectangle 9"/>
            <p:cNvSpPr/>
            <p:nvPr/>
          </p:nvSpPr>
          <p:spPr>
            <a:xfrm>
              <a:off x="838080" y="2209680"/>
              <a:ext cx="2286000" cy="1143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838080" y="2209680"/>
              <a:ext cx="3812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20"/>
            <p:cNvSpPr/>
            <p:nvPr/>
          </p:nvSpPr>
          <p:spPr>
            <a:xfrm>
              <a:off x="838080" y="2590920"/>
              <a:ext cx="38124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21"/>
            <p:cNvSpPr/>
            <p:nvPr/>
          </p:nvSpPr>
          <p:spPr>
            <a:xfrm>
              <a:off x="838080" y="2971800"/>
              <a:ext cx="38124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22"/>
            <p:cNvSpPr/>
            <p:nvPr/>
          </p:nvSpPr>
          <p:spPr>
            <a:xfrm>
              <a:off x="121932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23"/>
            <p:cNvSpPr/>
            <p:nvPr/>
          </p:nvSpPr>
          <p:spPr>
            <a:xfrm>
              <a:off x="236232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24"/>
            <p:cNvSpPr/>
            <p:nvPr/>
          </p:nvSpPr>
          <p:spPr>
            <a:xfrm>
              <a:off x="1981080" y="2209680"/>
              <a:ext cx="3812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25"/>
            <p:cNvSpPr/>
            <p:nvPr/>
          </p:nvSpPr>
          <p:spPr>
            <a:xfrm>
              <a:off x="160020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26"/>
            <p:cNvSpPr/>
            <p:nvPr/>
          </p:nvSpPr>
          <p:spPr>
            <a:xfrm>
              <a:off x="274320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" name="Group 40"/>
          <p:cNvGrpSpPr/>
          <p:nvPr/>
        </p:nvGrpSpPr>
        <p:grpSpPr>
          <a:xfrm>
            <a:off x="7086600" y="2133720"/>
            <a:ext cx="1523880" cy="1523880"/>
            <a:chOff x="7086600" y="2133720"/>
            <a:chExt cx="1523880" cy="1523880"/>
          </a:xfrm>
        </p:grpSpPr>
        <p:sp>
          <p:nvSpPr>
            <p:cNvPr id="150" name="Rectangle 31"/>
            <p:cNvSpPr/>
            <p:nvPr/>
          </p:nvSpPr>
          <p:spPr>
            <a:xfrm>
              <a:off x="7086600" y="2133720"/>
              <a:ext cx="1523880" cy="15238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08660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Rectangle 33"/>
            <p:cNvSpPr/>
            <p:nvPr/>
          </p:nvSpPr>
          <p:spPr>
            <a:xfrm>
              <a:off x="7086600" y="251460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Rectangle 34"/>
            <p:cNvSpPr/>
            <p:nvPr/>
          </p:nvSpPr>
          <p:spPr>
            <a:xfrm>
              <a:off x="7086600" y="2895480"/>
              <a:ext cx="380880" cy="3812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35"/>
            <p:cNvSpPr/>
            <p:nvPr/>
          </p:nvSpPr>
          <p:spPr>
            <a:xfrm>
              <a:off x="7086600" y="3276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36"/>
            <p:cNvSpPr/>
            <p:nvPr/>
          </p:nvSpPr>
          <p:spPr>
            <a:xfrm>
              <a:off x="7467480" y="2133720"/>
              <a:ext cx="38124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37"/>
            <p:cNvSpPr/>
            <p:nvPr/>
          </p:nvSpPr>
          <p:spPr>
            <a:xfrm>
              <a:off x="784872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Rectangle 38"/>
            <p:cNvSpPr/>
            <p:nvPr/>
          </p:nvSpPr>
          <p:spPr>
            <a:xfrm>
              <a:off x="822960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parallelo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44956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a of parallelogram = base x he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743200" y="2209680"/>
            <a:ext cx="198108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2743200" y="2209680"/>
            <a:ext cx="533520" cy="11430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711680" y="2209680"/>
            <a:ext cx="533520" cy="1143000"/>
          </a:xfrm>
          <a:prstGeom prst="rtTriangl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14"/>
          <p:cNvSpPr/>
          <p:nvPr/>
        </p:nvSpPr>
        <p:spPr>
          <a:xfrm flipH="1">
            <a:off x="4698720" y="2209680"/>
            <a:ext cx="12600" cy="1105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114800" y="27432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0384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39625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1.48148E-006 C 0.12449 -0.11528 0.24914 -0.23033 0.18022 -0.27894 C 0.11129 -0.32755 -0.34756 -0.33797 -0.41319 -0.29144 C -0.47881 -0.24491 -0.346 -0.12246 -0.21319 1.48148E-006 E">
                                      <p:cBhvr>
                                        <p:cTn id="19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a triang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4419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= ½ x base x he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38080" y="2057400"/>
            <a:ext cx="121932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048120" y="2209680"/>
            <a:ext cx="18288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6019920" y="2133720"/>
            <a:ext cx="1904760" cy="914400"/>
          </a:xfrm>
          <a:prstGeom prst="parallelogram">
            <a:avLst>
              <a:gd name="adj" fmla="val 52077"/>
            </a:avLst>
          </a:prstGeom>
          <a:solidFill>
            <a:srgbClr val="79e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2952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8098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13372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10"/>
          <p:cNvSpPr/>
          <p:nvPr/>
        </p:nvSpPr>
        <p:spPr>
          <a:xfrm flipV="1">
            <a:off x="838080" y="2057040"/>
            <a:ext cx="1219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11"/>
          <p:cNvSpPr/>
          <p:nvPr/>
        </p:nvSpPr>
        <p:spPr>
          <a:xfrm flipV="1">
            <a:off x="3048120" y="22096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502920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647712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47712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6489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6477120" y="21337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trapezi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38862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a of trapezium ABC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= area of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C + area of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(½ x BC x AH)  + (½ x AD x CK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½ x AH x (BC + A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½ x height x sum of parallel s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28195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43434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5181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2971800" y="33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198108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0292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36"/>
          <p:cNvSpPr/>
          <p:nvPr/>
        </p:nvSpPr>
        <p:spPr>
          <a:xfrm rot="10800000">
            <a:off x="2285640" y="2133720"/>
            <a:ext cx="3048120" cy="1218960"/>
          </a:xfrm>
          <a:custGeom>
            <a:avLst/>
            <a:gdLst>
              <a:gd name="textAreaLeft" fmla="*/ 635040 w 3048120"/>
              <a:gd name="textAreaRight" fmla="*/ 2413080 w 3048120"/>
              <a:gd name="textAreaTop" fmla="*/ 253800 h 1218960"/>
              <a:gd name="textAreaBottom" fmla="*/ 9651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3048120" y="2133720"/>
            <a:ext cx="22860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35812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45"/>
          <p:cNvGrpSpPr/>
          <p:nvPr/>
        </p:nvGrpSpPr>
        <p:grpSpPr>
          <a:xfrm>
            <a:off x="2286000" y="2133720"/>
            <a:ext cx="762120" cy="1218960"/>
            <a:chOff x="2286000" y="2133720"/>
            <a:chExt cx="762120" cy="1218960"/>
          </a:xfrm>
        </p:grpSpPr>
        <p:sp>
          <p:nvSpPr>
            <p:cNvPr id="194" name="AutoShape 40"/>
            <p:cNvSpPr/>
            <p:nvPr/>
          </p:nvSpPr>
          <p:spPr>
            <a:xfrm rot="16200000">
              <a:off x="2057400" y="2361960"/>
              <a:ext cx="1218960" cy="7621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41"/>
            <p:cNvSpPr/>
            <p:nvPr/>
          </p:nvSpPr>
          <p:spPr>
            <a:xfrm flipH="1">
              <a:off x="281916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42"/>
            <p:cNvSpPr/>
            <p:nvPr/>
          </p:nvSpPr>
          <p:spPr>
            <a:xfrm>
              <a:off x="28195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" name="Group 46"/>
          <p:cNvGrpSpPr/>
          <p:nvPr/>
        </p:nvGrpSpPr>
        <p:grpSpPr>
          <a:xfrm>
            <a:off x="4571640" y="2133720"/>
            <a:ext cx="762480" cy="1218960"/>
            <a:chOff x="4571640" y="2133720"/>
            <a:chExt cx="762480" cy="1218960"/>
          </a:xfrm>
        </p:grpSpPr>
        <p:sp>
          <p:nvSpPr>
            <p:cNvPr id="198" name="AutoShape 39"/>
            <p:cNvSpPr/>
            <p:nvPr/>
          </p:nvSpPr>
          <p:spPr>
            <a:xfrm rot="10800000">
              <a:off x="4571640" y="2133720"/>
              <a:ext cx="762120" cy="12189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43"/>
            <p:cNvSpPr/>
            <p:nvPr/>
          </p:nvSpPr>
          <p:spPr>
            <a:xfrm>
              <a:off x="518148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44"/>
            <p:cNvSpPr/>
            <p:nvPr/>
          </p:nvSpPr>
          <p:spPr>
            <a:xfrm>
              <a:off x="5181480" y="2286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Line 47"/>
          <p:cNvSpPr/>
          <p:nvPr/>
        </p:nvSpPr>
        <p:spPr>
          <a:xfrm>
            <a:off x="37339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j0157763"/>
          <p:cNvPicPr/>
          <p:nvPr/>
        </p:nvPicPr>
        <p:blipFill>
          <a:blip r:embed="rId1"/>
          <a:stretch/>
        </p:blipFill>
        <p:spPr>
          <a:xfrm>
            <a:off x="380880" y="412920"/>
            <a:ext cx="8229600" cy="5860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669960" y="331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289080" y="3084480"/>
            <a:ext cx="397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1295280" y="2590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3" descr="j0283209"/>
          <p:cNvPicPr/>
          <p:nvPr/>
        </p:nvPicPr>
        <p:blipFill>
          <a:blip r:embed="rId2"/>
          <a:stretch/>
        </p:blipFill>
        <p:spPr>
          <a:xfrm>
            <a:off x="7162920" y="762120"/>
            <a:ext cx="1323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0:18:44Z</dcterms:created>
  <dc:creator>rudy</dc:creator>
  <dc:description/>
  <dc:language>en-US</dc:language>
  <cp:lastModifiedBy>RomaK</cp:lastModifiedBy>
  <dcterms:modified xsi:type="dcterms:W3CDTF">2015-09-04T09:17:35Z</dcterms:modified>
  <cp:revision>23</cp:revision>
  <dc:subject/>
  <dc:title>Slide 1</dc:title>
</cp:coreProperties>
</file>