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DE31-8472-4C35-9D85-234BDF3DE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ngth and Peri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only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asurement is ever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a ruler with 0.5cm marking, We might measure this eraser to be 5.5 cm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DE8-80B7-49D4-9A2B-032F5D9E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D6F-BC40-4BBA-9499-1391D8F7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ADC-A4BD-4DF2-B041-64114CD0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57A-82E1-4842-B591-5E0D57D6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B0F-6704-46D4-A2F7-C536E912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6F8-1B4B-4BBE-9075-F349B5C1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AB2-5EEA-48C3-A77E-4A2EEEB7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7EF-7302-43B6-A340-148597A0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FD4-C9A4-423F-9757-7F84D6DD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CA6-B7CC-4574-BAC1-CBAEAC43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4A1-4E38-4B14-AA4C-599660C9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515-FA6C-4063-AB2F-50B4FBD4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FD7C-7B83-482D-BBF4-1732D854BC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Length and 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786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2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easure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0717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only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o measurement is ever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exac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ing a ruler with 0.5cm marking, We might measure this eraser to be 5.5 cm long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286680" y="5286240"/>
            <a:ext cx="28573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ffff"/>
                </a:solidFill>
                <a:latin typeface="Calibri"/>
              </a:rPr>
              <a:t>Perimeter</a:t>
            </a: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0:23:23Z</dcterms:created>
  <dc:creator>Corporate Edition</dc:creator>
  <dc:description/>
  <dc:language>en-US</dc:language>
  <cp:lastModifiedBy>RomaK</cp:lastModifiedBy>
  <dcterms:modified xsi:type="dcterms:W3CDTF">2015-09-04T09:17:43Z</dcterms:modified>
  <cp:revision>6</cp:revision>
  <dc:subject/>
  <dc:title>Slide 1</dc:title>
</cp:coreProperties>
</file>