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9BCE-DE55-4F9A-AB74-4FB042900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ngth and Peri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only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asurement is ever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 ruler with 0.5cm marking, We might measure this eraser to be 5.5 cm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easurements are approxi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B4C-CB08-4D05-95C4-F6885077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407-4709-430D-9270-45191FDF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756-5EBC-4266-8DBD-755BE25C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43F-3657-4819-8881-196AD26E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F599-ABA7-45CD-B734-36A5C2FD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20D-5ADF-4EAD-9694-AD8A844B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070-7368-4F93-9C7B-E7C46D91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9C9-7022-4330-85ED-49FA41D8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7E6-A51F-4AED-8848-47709AB6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BE5-4993-4890-96E4-B8D808F7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59F-A72C-4ACB-92F7-5458A2F0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200-6D2D-4899-88E7-8695C3F2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47CA-C79B-419C-8530-06FD366F40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Length and Perim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786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2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easure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0717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only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o measurement is ever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exac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ing a ruler with 0.5cm marking, We might measure this eraser to be 5.5 cm long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ore precise ruler, with 0.1 cm markings, then we find the length to be 5.4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we used a micrometer that measured to the nearest 0.01 cm, we may find that the measured length is 5.41 c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measurements are approxim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286680" y="5286240"/>
            <a:ext cx="28573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</a:rPr>
              <a:t>Limit of Accurac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Calibri"/>
              </a:rPr>
              <a:t>The Limit of Accuracy of a Measuring Instrument are +/- 0.5 of the unit shown on the instrument’s scal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ffff"/>
                </a:solidFill>
                <a:latin typeface="Calibri"/>
              </a:rPr>
              <a:t>Perimeter</a:t>
            </a: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Perimeter of a shape is the distance around the shape. It is the sum of the lengths of the sides of the shap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0:23:23Z</dcterms:created>
  <dc:creator>Corporate Edition</dc:creator>
  <dc:description/>
  <dc:language>en-US</dc:language>
  <cp:lastModifiedBy>RomaK</cp:lastModifiedBy>
  <dcterms:modified xsi:type="dcterms:W3CDTF">2015-09-04T09:17:43Z</dcterms:modified>
  <cp:revision>6</cp:revision>
  <dc:subject/>
  <dc:title>Slide 1</dc:title>
</cp:coreProperties>
</file>