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0591-7705-4293-9053-9D8C555C90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ngth and Peri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measurements are only approxim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easurement is ever ex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a ruler with 0.5cm marking, We might measure this eraser to be 5.5 cm l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used a more precise ruler, with 0.1 cm markings, then we find the length to be 5.4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used a micrometer that measured to the nearest 0.01 cm, we may find that the measured length is 5.41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measurements are approxim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of Accu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mit of Accuracy of a Measuring Instrument are +/- 0.5 of the unit shown on the instrument’s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imit of Accurac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Limit of Accuracy of a Measuring Instrument are +/- 0.5 of the unit shown on the instrument’s sca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met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meter of a shape is the distance around the shape. It is the sum of the lengths of the sides of the sh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9713-5D72-4C94-A1EF-1BB4CECDB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BEE8-1718-4DC9-A4CC-35B38D75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E751-C21B-478B-AF12-F5FEC9839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4C08-90B9-4180-841C-0FFAF4672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EA18-A83F-4FE1-B1E4-5F3A58C2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DC38-602F-49C0-A607-470BB6BE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BB3F-4D49-430E-B93F-48760FD6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BAD2-3F04-4A92-8004-753BBE8D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C5F2-C8C2-4F99-BB79-5985FF3E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B324-EC01-46C9-8C28-0CE9B7B5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7D32-D98F-43CD-9CC4-4F6BF61E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AD9C-869F-4BFC-AF45-C5F8A3A2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6AF7-C346-4F1F-AC24-0898E21D16F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Length and Perime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778680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85840" y="928800"/>
            <a:ext cx="82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Measuremen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0717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ll measurements are only approximation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No measurement is ever 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exact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Using a ruler with 0.5cm marking, We might measure this eraser to be 5.5 cm long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f we used a more precise ruler, with 0.1 cm markings, then we find the length to be 5.4 cm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f we used a micrometer that measured to the nearest 0.01 cm, we may find that the measured length is 5.41 cm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ll measurements are approximation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6286680" y="5286240"/>
            <a:ext cx="28573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ffffff"/>
                </a:solidFill>
                <a:latin typeface="Calibri"/>
              </a:rPr>
              <a:t>Limit of Accuracy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ff0000"/>
                </a:solidFill>
                <a:latin typeface="Calibri"/>
              </a:rPr>
              <a:t>The Limit of Accuracy of a Measuring Instrument are +/- 0.5 of the unit shown on the instrument’s scale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ffffff"/>
                </a:solidFill>
                <a:latin typeface="Calibri"/>
              </a:rPr>
              <a:t>Perimeter</a:t>
            </a: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The Perimeter of a shape is the distance around the shape. It is the sum of the lengths of the sides of the shap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0:23:23Z</dcterms:created>
  <dc:creator>Corporate Edition</dc:creator>
  <dc:description/>
  <dc:language>en-US</dc:language>
  <cp:lastModifiedBy>RomaK</cp:lastModifiedBy>
  <dcterms:modified xsi:type="dcterms:W3CDTF">2015-09-04T09:17:43Z</dcterms:modified>
  <cp:revision>6</cp:revision>
  <dc:subject/>
  <dc:title>Slide 1</dc:title>
</cp:coreProperties>
</file>