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B66F-4E7E-4A04-BEBA-105D0A8E55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 Tre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ing Prime Factor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ny Numb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 T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ing Prime Fac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ny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 – An integer whose only factors are 1 and itself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– a number that can divide another number without a remaind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s – an expression of numbers that divides another integer without a remainder where all the factors are pri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 – An integer whose only factors are 1 and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– a number that can divide another number without a remai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s – an expression of numbers that divides another integer without a remainder where all the factors are pr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Choose a Numb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use 3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ny 2 factors – let’s use 9 and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’s factor these numbers, to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arrange them from least to greate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, re-write as expon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Choose a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use 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ny 2 factors – let’s use 9 and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’s factor these numbers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arrange them from least to grea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, re-write as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That Again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use 36 aga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ny 2 factors – let’s use 3 and 1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’s factor these numbers, to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ops, 6 is not prime - let’s factor again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arrange them from least to greate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, re-write as expon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, it’s the same answer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That Aga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use 36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ny 2 factors – let’s use 3 and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’s factor these numbers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ops, 6 is not prime - let’s factor aga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arrange them from least to grea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, re-write as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, it’s the same answ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e-Ca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s are made up of fa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Prime Factor Tree, the goal is to keep reducing each factor to its lowest possible prime fa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have all the prime factors identified, re-arrange them from least to greatest and re-write them as expon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e-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s are made up of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Prime Factor Tree, the goal is to keep reducing each factor to its lowest possible prime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have all the prime factors identified, re-arrange them from least to greatest and re-write them as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A882-03CF-4B07-97A2-92ADA64D3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1359-369A-412A-8094-A7697574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348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9113-330E-4425-946B-612C071A7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592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428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592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428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67D1-ED84-4294-A355-7DE846D76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1F85-A65C-48E6-B9BF-AF11789A4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EB2E-C892-4B27-9989-F0E3E4B7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D517-2CA9-4960-AEE8-C21823F7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9003-7CA8-4534-AA45-4E3CE26D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B090C-4991-4CBE-B9C1-651F3D08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EC3DF-E12E-4181-B615-C495BB9F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EBE2-B848-40D7-9235-FE21976E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72DC-97FE-4F22-83AE-114B0147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1348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72E2-F1A5-44B5-AAAB-FA713126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421C-7208-490D-9257-3F8B7A79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5084A-741C-4BE7-9474-56C02C2B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1348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D592-28D2-4D64-8F86-1366A150C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6592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428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6592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428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7E10-E0F6-41A7-9B2B-FA775B0C6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0DAE-3174-45CF-8EE5-04A2BD67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391A-FDEE-409D-9AF4-1D5B2A5F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893F-75FB-4261-85E0-D40DFD58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8E8E-B998-4D85-BF8B-4067599D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A3F1-9045-4284-BD9F-4C735E5E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348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2F24-C88D-4CD4-B210-D6C789E4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77B1-1803-476A-8B41-E1D1CDF2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j038768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457200" y="1600200"/>
            <a:ext cx="8305920" cy="4495680"/>
          </a:xfrm>
          <a:prstGeom prst="rect">
            <a:avLst/>
          </a:prstGeom>
          <a:solidFill>
            <a:srgbClr val="80808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-152280" y="228600"/>
            <a:ext cx="9524880" cy="12193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393939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C0B9-A16D-4114-914F-95E05040D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j038768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685800" y="2971800"/>
            <a:ext cx="7772400" cy="3124080"/>
          </a:xfrm>
          <a:prstGeom prst="rect">
            <a:avLst/>
          </a:prstGeom>
          <a:solidFill>
            <a:srgbClr val="80808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98E8-1C3C-4038-836A-EF0CEA70CF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ime Factor Tre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5238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overing Prime Facto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 Any Numb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e Number – An integer whose only factors are 1 and itself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ctor – a number that can divide another number without a remaind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e Factors – an expression of numbers that divides another integer without a remainder where all the factors are pr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t’s Choose a Numb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7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’s use 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oose any 2 factors – let’s use 9 and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w let’s factor these numbers, to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xt, arrange them from least to great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st, re-write as expon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6248520" y="16765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1" name="Group 59"/>
          <p:cNvGrpSpPr/>
          <p:nvPr/>
        </p:nvGrpSpPr>
        <p:grpSpPr>
          <a:xfrm>
            <a:off x="5562720" y="2209320"/>
            <a:ext cx="2286000" cy="749520"/>
            <a:chOff x="5562720" y="2209320"/>
            <a:chExt cx="2286000" cy="749520"/>
          </a:xfrm>
        </p:grpSpPr>
        <p:cxnSp>
          <p:nvCxnSpPr>
            <p:cNvPr id="102" name="AutoShape 9"/>
            <p:cNvCxnSpPr>
              <a:endCxn id="103" idx="0"/>
            </p:cNvCxnSpPr>
            <p:nvPr/>
          </p:nvCxnSpPr>
          <p:spPr>
            <a:xfrm flipH="1">
              <a:off x="5981040" y="2209320"/>
              <a:ext cx="649800" cy="229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grpSp>
          <p:nvGrpSpPr>
            <p:cNvPr id="104" name="Group 40"/>
            <p:cNvGrpSpPr/>
            <p:nvPr/>
          </p:nvGrpSpPr>
          <p:grpSpPr>
            <a:xfrm>
              <a:off x="5562720" y="2209320"/>
              <a:ext cx="2286000" cy="749520"/>
              <a:chOff x="5562720" y="2209320"/>
              <a:chExt cx="2286000" cy="749520"/>
            </a:xfrm>
          </p:grpSpPr>
          <p:sp>
            <p:nvSpPr>
              <p:cNvPr id="105" name="Text Box 7"/>
              <p:cNvSpPr/>
              <p:nvPr/>
            </p:nvSpPr>
            <p:spPr>
              <a:xfrm>
                <a:off x="7010280" y="2438280"/>
                <a:ext cx="838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4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Text Box 8"/>
              <p:cNvSpPr/>
              <p:nvPr/>
            </p:nvSpPr>
            <p:spPr>
              <a:xfrm>
                <a:off x="5562720" y="243828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9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cxnSp>
            <p:nvCxnSpPr>
              <p:cNvPr id="106" name="AutoShape 10"/>
              <p:cNvCxnSpPr>
                <a:endCxn id="105" idx="0"/>
              </p:cNvCxnSpPr>
              <p:nvPr/>
            </p:nvCxnSpPr>
            <p:spPr>
              <a:xfrm>
                <a:off x="6629040" y="2209320"/>
                <a:ext cx="801000" cy="22932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sp>
            <p:nvSpPr>
              <p:cNvPr id="107" name="Text Box 19"/>
              <p:cNvSpPr/>
              <p:nvPr/>
            </p:nvSpPr>
            <p:spPr>
              <a:xfrm>
                <a:off x="6324480" y="2438280"/>
                <a:ext cx="838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08" name="Group 63"/>
          <p:cNvGrpSpPr/>
          <p:nvPr/>
        </p:nvGrpSpPr>
        <p:grpSpPr>
          <a:xfrm>
            <a:off x="5105520" y="3871440"/>
            <a:ext cx="3276360" cy="763920"/>
            <a:chOff x="5105520" y="3871440"/>
            <a:chExt cx="3276360" cy="763920"/>
          </a:xfrm>
        </p:grpSpPr>
        <p:grpSp>
          <p:nvGrpSpPr>
            <p:cNvPr id="109" name="Group 62"/>
            <p:cNvGrpSpPr/>
            <p:nvPr/>
          </p:nvGrpSpPr>
          <p:grpSpPr>
            <a:xfrm>
              <a:off x="5105520" y="3871440"/>
              <a:ext cx="2895480" cy="763920"/>
              <a:chOff x="5105520" y="3871440"/>
              <a:chExt cx="2895480" cy="763920"/>
            </a:xfrm>
          </p:grpSpPr>
          <p:grpSp>
            <p:nvGrpSpPr>
              <p:cNvPr id="110" name="Group 60"/>
              <p:cNvGrpSpPr/>
              <p:nvPr/>
            </p:nvGrpSpPr>
            <p:grpSpPr>
              <a:xfrm>
                <a:off x="5105520" y="3871440"/>
                <a:ext cx="2895480" cy="763920"/>
                <a:chOff x="5105520" y="3871440"/>
                <a:chExt cx="2895480" cy="763920"/>
              </a:xfrm>
            </p:grpSpPr>
            <p:sp>
              <p:nvSpPr>
                <p:cNvPr id="111" name="Text Box 22"/>
                <p:cNvSpPr/>
                <p:nvPr/>
              </p:nvSpPr>
              <p:spPr>
                <a:xfrm>
                  <a:off x="510552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2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2" name="Text Box 23"/>
                <p:cNvSpPr/>
                <p:nvPr/>
              </p:nvSpPr>
              <p:spPr>
                <a:xfrm>
                  <a:off x="594360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2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3" name="Text Box 28"/>
                <p:cNvSpPr/>
                <p:nvPr/>
              </p:nvSpPr>
              <p:spPr>
                <a:xfrm>
                  <a:off x="716292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x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cxnSp>
              <p:nvCxnSpPr>
                <p:cNvPr id="114" name="AutoShape 32"/>
                <p:cNvCxnSpPr>
                  <a:endCxn id="112" idx="0"/>
                </p:cNvCxnSpPr>
                <p:nvPr/>
              </p:nvCxnSpPr>
              <p:spPr>
                <a:xfrm flipH="1">
                  <a:off x="6361920" y="3871440"/>
                  <a:ext cx="114372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  <p:cxnSp>
              <p:nvCxnSpPr>
                <p:cNvPr id="115" name="AutoShape 33"/>
                <p:cNvCxnSpPr>
                  <a:endCxn id="116" idx="0"/>
                </p:cNvCxnSpPr>
                <p:nvPr/>
              </p:nvCxnSpPr>
              <p:spPr>
                <a:xfrm>
                  <a:off x="5981400" y="3871440"/>
                  <a:ext cx="114372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</p:grpSp>
          <p:sp>
            <p:nvSpPr>
              <p:cNvPr id="117" name="Text Box 21"/>
              <p:cNvSpPr/>
              <p:nvPr/>
            </p:nvSpPr>
            <p:spPr>
              <a:xfrm>
                <a:off x="5562720" y="411480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Text Box 24"/>
              <p:cNvSpPr/>
              <p:nvPr/>
            </p:nvSpPr>
            <p:spPr>
              <a:xfrm>
                <a:off x="6705720" y="411480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3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18" name="Text Box 25"/>
            <p:cNvSpPr/>
            <p:nvPr/>
          </p:nvSpPr>
          <p:spPr>
            <a:xfrm>
              <a:off x="7543800" y="41148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9" name="Group 64"/>
          <p:cNvGrpSpPr/>
          <p:nvPr/>
        </p:nvGrpSpPr>
        <p:grpSpPr>
          <a:xfrm>
            <a:off x="5524560" y="4633560"/>
            <a:ext cx="2552760" cy="763920"/>
            <a:chOff x="5524560" y="4633560"/>
            <a:chExt cx="2552760" cy="763920"/>
          </a:xfrm>
        </p:grpSpPr>
        <p:sp>
          <p:nvSpPr>
            <p:cNvPr id="120" name="Text Box 29"/>
            <p:cNvSpPr/>
            <p:nvPr/>
          </p:nvSpPr>
          <p:spPr>
            <a:xfrm>
              <a:off x="5638680" y="48769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Text Box 30"/>
            <p:cNvSpPr/>
            <p:nvPr/>
          </p:nvSpPr>
          <p:spPr>
            <a:xfrm>
              <a:off x="6400800" y="48769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Text Box 31"/>
            <p:cNvSpPr/>
            <p:nvPr/>
          </p:nvSpPr>
          <p:spPr>
            <a:xfrm>
              <a:off x="7238880" y="48769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123" name="AutoShape 34"/>
            <p:cNvCxnSpPr>
              <a:stCxn id="111" idx="2"/>
              <a:endCxn id="120" idx="0"/>
            </p:cNvCxnSpPr>
            <p:nvPr/>
          </p:nvCxnSpPr>
          <p:spPr>
            <a:xfrm>
              <a:off x="5524560" y="4633560"/>
              <a:ext cx="534240" cy="2437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24" name="AutoShape 36"/>
            <p:cNvCxnSpPr>
              <a:stCxn id="116" idx="2"/>
              <a:endCxn id="122" idx="0"/>
            </p:cNvCxnSpPr>
            <p:nvPr/>
          </p:nvCxnSpPr>
          <p:spPr>
            <a:xfrm>
              <a:off x="7124760" y="4633560"/>
              <a:ext cx="534240" cy="2437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25" name="AutoShape 38"/>
            <p:cNvCxnSpPr/>
            <p:nvPr/>
          </p:nvCxnSpPr>
          <p:spPr>
            <a:xfrm flipH="1">
              <a:off x="7619760" y="4724280"/>
              <a:ext cx="305280" cy="15336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26" name="AutoShape 39"/>
            <p:cNvCxnSpPr>
              <a:stCxn id="112" idx="2"/>
              <a:endCxn id="120" idx="0"/>
            </p:cNvCxnSpPr>
            <p:nvPr/>
          </p:nvCxnSpPr>
          <p:spPr>
            <a:xfrm flipH="1">
              <a:off x="6057720" y="4633560"/>
              <a:ext cx="305280" cy="2437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</p:grpSp>
      <p:grpSp>
        <p:nvGrpSpPr>
          <p:cNvPr id="127" name="Group 58"/>
          <p:cNvGrpSpPr/>
          <p:nvPr/>
        </p:nvGrpSpPr>
        <p:grpSpPr>
          <a:xfrm>
            <a:off x="5105520" y="2957400"/>
            <a:ext cx="3200400" cy="915840"/>
            <a:chOff x="5105520" y="2957400"/>
            <a:chExt cx="3200400" cy="915840"/>
          </a:xfrm>
        </p:grpSpPr>
        <p:sp>
          <p:nvSpPr>
            <p:cNvPr id="128" name="Text Box 13"/>
            <p:cNvSpPr/>
            <p:nvPr/>
          </p:nvSpPr>
          <p:spPr>
            <a:xfrm>
              <a:off x="7467480" y="33526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9" name="Group 57"/>
            <p:cNvGrpSpPr/>
            <p:nvPr/>
          </p:nvGrpSpPr>
          <p:grpSpPr>
            <a:xfrm>
              <a:off x="5105520" y="2957400"/>
              <a:ext cx="2819160" cy="915840"/>
              <a:chOff x="5105520" y="2957400"/>
              <a:chExt cx="2819160" cy="915840"/>
            </a:xfrm>
          </p:grpSpPr>
          <p:sp>
            <p:nvSpPr>
              <p:cNvPr id="130" name="Text Box 14"/>
              <p:cNvSpPr/>
              <p:nvPr/>
            </p:nvSpPr>
            <p:spPr>
              <a:xfrm>
                <a:off x="6705720" y="335268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31" name="Group 45"/>
              <p:cNvGrpSpPr/>
              <p:nvPr/>
            </p:nvGrpSpPr>
            <p:grpSpPr>
              <a:xfrm>
                <a:off x="5105520" y="2957400"/>
                <a:ext cx="2819160" cy="915840"/>
                <a:chOff x="5105520" y="2957400"/>
                <a:chExt cx="2819160" cy="915840"/>
              </a:xfrm>
            </p:grpSpPr>
            <p:sp>
              <p:nvSpPr>
                <p:cNvPr id="132" name="Text Box 46"/>
                <p:cNvSpPr/>
                <p:nvPr/>
              </p:nvSpPr>
              <p:spPr>
                <a:xfrm>
                  <a:off x="5943600" y="335268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3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33" name="Group 47"/>
                <p:cNvGrpSpPr/>
                <p:nvPr/>
              </p:nvGrpSpPr>
              <p:grpSpPr>
                <a:xfrm>
                  <a:off x="5105520" y="2957400"/>
                  <a:ext cx="2819160" cy="915840"/>
                  <a:chOff x="5105520" y="2957400"/>
                  <a:chExt cx="2819160" cy="915840"/>
                </a:xfrm>
              </p:grpSpPr>
              <p:sp>
                <p:nvSpPr>
                  <p:cNvPr id="134" name="Text Box 48"/>
                  <p:cNvSpPr/>
                  <p:nvPr/>
                </p:nvSpPr>
                <p:spPr>
                  <a:xfrm>
                    <a:off x="5105520" y="3352680"/>
                    <a:ext cx="8380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ffffff"/>
                        </a:solidFill>
                        <a:latin typeface="Tahoma"/>
                      </a:rPr>
                      <a:t>3</a:t>
                    </a:r>
                    <a:endParaRPr b="0" lang="en-US" sz="2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135" name="Group 49"/>
                  <p:cNvGrpSpPr/>
                  <p:nvPr/>
                </p:nvGrpSpPr>
                <p:grpSpPr>
                  <a:xfrm>
                    <a:off x="5524200" y="2957400"/>
                    <a:ext cx="2400480" cy="915840"/>
                    <a:chOff x="5524200" y="2957400"/>
                    <a:chExt cx="2400480" cy="915840"/>
                  </a:xfrm>
                </p:grpSpPr>
                <p:sp>
                  <p:nvSpPr>
                    <p:cNvPr id="136" name="Text Box 50"/>
                    <p:cNvSpPr/>
                    <p:nvPr/>
                  </p:nvSpPr>
                  <p:spPr>
                    <a:xfrm>
                      <a:off x="7086600" y="3352680"/>
                      <a:ext cx="83808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137" name="Group 51"/>
                    <p:cNvGrpSpPr/>
                    <p:nvPr/>
                  </p:nvGrpSpPr>
                  <p:grpSpPr>
                    <a:xfrm>
                      <a:off x="5524200" y="2957400"/>
                      <a:ext cx="2363040" cy="915840"/>
                      <a:chOff x="5524200" y="2957400"/>
                      <a:chExt cx="2363040" cy="915840"/>
                    </a:xfrm>
                  </p:grpSpPr>
                  <p:cxnSp>
                    <p:nvCxnSpPr>
                      <p:cNvPr id="138" name="AutoShape 52"/>
                      <p:cNvCxnSpPr>
                        <a:endCxn id="134" idx="0"/>
                      </p:cNvCxnSpPr>
                      <p:nvPr/>
                    </p:nvCxnSpPr>
                    <p:spPr>
                      <a:xfrm flipH="1">
                        <a:off x="5524200" y="2957400"/>
                        <a:ext cx="457920" cy="39600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  <a:tailEnd len="lg" type="triangle" w="med"/>
                      </a:ln>
                    </p:spPr>
                  </p:cxnSp>
                  <p:cxnSp>
                    <p:nvCxnSpPr>
                      <p:cNvPr id="139" name="AutoShape 53"/>
                      <p:cNvCxnSpPr>
                        <a:endCxn id="132" idx="0"/>
                      </p:cNvCxnSpPr>
                      <p:nvPr/>
                    </p:nvCxnSpPr>
                    <p:spPr>
                      <a:xfrm>
                        <a:off x="5981760" y="2957400"/>
                        <a:ext cx="381600" cy="39600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  <a:tailEnd len="lg" type="triangle" w="med"/>
                      </a:ln>
                    </p:spPr>
                  </p:cxnSp>
                  <p:cxnSp>
                    <p:nvCxnSpPr>
                      <p:cNvPr id="140" name="AutoShape 54"/>
                      <p:cNvCxnSpPr/>
                      <p:nvPr/>
                    </p:nvCxnSpPr>
                    <p:spPr>
                      <a:xfrm flipH="1">
                        <a:off x="7124040" y="2957400"/>
                        <a:ext cx="305640" cy="39600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  <a:tailEnd len="lg" type="triangle" w="med"/>
                      </a:ln>
                    </p:spPr>
                  </p:cxnSp>
                  <p:cxnSp>
                    <p:nvCxnSpPr>
                      <p:cNvPr id="141" name="AutoShape 55"/>
                      <p:cNvCxnSpPr/>
                      <p:nvPr/>
                    </p:nvCxnSpPr>
                    <p:spPr>
                      <a:xfrm>
                        <a:off x="7429680" y="2957400"/>
                        <a:ext cx="457920" cy="39600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  <a:tailEnd len="lg" type="triangle" w="med"/>
                      </a:ln>
                    </p:spPr>
                  </p:cxnSp>
                  <p:sp>
                    <p:nvSpPr>
                      <p:cNvPr id="142" name="Text Box 56"/>
                      <p:cNvSpPr/>
                      <p:nvPr/>
                    </p:nvSpPr>
                    <p:spPr>
                      <a:xfrm>
                        <a:off x="5562720" y="3352680"/>
                        <a:ext cx="83808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800" spc="-1" strike="noStrike">
                            <a:solidFill>
                              <a:srgbClr val="ffffff"/>
                            </a:solidFill>
                            <a:latin typeface="Tahoma"/>
                          </a:rPr>
                          <a:t>x</a:t>
                        </a:r>
                        <a:endParaRPr b="0" lang="en-US" sz="2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</p:grpSp>
            </p:grpSp>
          </p:grpSp>
        </p:grpSp>
      </p:grpSp>
      <p:pic>
        <p:nvPicPr>
          <p:cNvPr id="143" name="Picture 66" descr="MCj03248280000[1]"/>
          <p:cNvPicPr/>
          <p:nvPr/>
        </p:nvPicPr>
        <p:blipFill>
          <a:blip r:embed="rId1"/>
          <a:stretch/>
        </p:blipFill>
        <p:spPr>
          <a:xfrm>
            <a:off x="5410080" y="2057400"/>
            <a:ext cx="263376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xit" presetID="2" presetSubtype="4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t’s Try That Again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7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t’s use 36 aga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oose any 2 factors – let’s use 3 and 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w let’s factor these numbers, to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ops, 6 is not prime - let’s factor again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xt, arrange them from least to great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st, re-write as expon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ok, it’s the same answer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248520" y="16765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7" name="Group 56"/>
          <p:cNvGrpSpPr/>
          <p:nvPr/>
        </p:nvGrpSpPr>
        <p:grpSpPr>
          <a:xfrm>
            <a:off x="5105520" y="2957400"/>
            <a:ext cx="3200400" cy="915840"/>
            <a:chOff x="5105520" y="2957400"/>
            <a:chExt cx="3200400" cy="915840"/>
          </a:xfrm>
        </p:grpSpPr>
        <p:grpSp>
          <p:nvGrpSpPr>
            <p:cNvPr id="148" name="Group 55"/>
            <p:cNvGrpSpPr/>
            <p:nvPr/>
          </p:nvGrpSpPr>
          <p:grpSpPr>
            <a:xfrm>
              <a:off x="5105520" y="2957400"/>
              <a:ext cx="2819160" cy="915840"/>
              <a:chOff x="5105520" y="2957400"/>
              <a:chExt cx="2819160" cy="915840"/>
            </a:xfrm>
          </p:grpSpPr>
          <p:sp>
            <p:nvSpPr>
              <p:cNvPr id="149" name="Text Box 10"/>
              <p:cNvSpPr/>
              <p:nvPr/>
            </p:nvSpPr>
            <p:spPr>
              <a:xfrm>
                <a:off x="5105520" y="335268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3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cxnSp>
            <p:nvCxnSpPr>
              <p:cNvPr id="150" name="AutoShape 13"/>
              <p:cNvCxnSpPr>
                <a:stCxn id="151" idx="2"/>
                <a:endCxn id="149" idx="0"/>
              </p:cNvCxnSpPr>
              <p:nvPr/>
            </p:nvCxnSpPr>
            <p:spPr>
              <a:xfrm flipH="1">
                <a:off x="5524200" y="2957400"/>
                <a:ext cx="457920" cy="39600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cxnSp>
            <p:nvCxnSpPr>
              <p:cNvPr id="152" name="AutoShape 15"/>
              <p:cNvCxnSpPr>
                <a:stCxn id="153" idx="2"/>
                <a:endCxn id="154" idx="0"/>
              </p:cNvCxnSpPr>
              <p:nvPr/>
            </p:nvCxnSpPr>
            <p:spPr>
              <a:xfrm flipH="1">
                <a:off x="7124040" y="2957400"/>
                <a:ext cx="305640" cy="39600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sp>
            <p:nvSpPr>
              <p:cNvPr id="155" name="Text Box 18"/>
              <p:cNvSpPr/>
              <p:nvPr/>
            </p:nvSpPr>
            <p:spPr>
              <a:xfrm>
                <a:off x="7086600" y="335268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cxnSp>
            <p:nvCxnSpPr>
              <p:cNvPr id="156" name="AutoShape 16"/>
              <p:cNvCxnSpPr>
                <a:stCxn id="153" idx="2"/>
                <a:endCxn id="157" idx="0"/>
              </p:cNvCxnSpPr>
              <p:nvPr/>
            </p:nvCxnSpPr>
            <p:spPr>
              <a:xfrm>
                <a:off x="7429680" y="2957400"/>
                <a:ext cx="457920" cy="39600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sp>
            <p:nvSpPr>
              <p:cNvPr id="158" name="Text Box 24"/>
              <p:cNvSpPr/>
              <p:nvPr/>
            </p:nvSpPr>
            <p:spPr>
              <a:xfrm>
                <a:off x="5562720" y="335268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57" name="Text Box 11"/>
            <p:cNvSpPr/>
            <p:nvPr/>
          </p:nvSpPr>
          <p:spPr>
            <a:xfrm>
              <a:off x="7467480" y="33526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Text Box 12"/>
            <p:cNvSpPr/>
            <p:nvPr/>
          </p:nvSpPr>
          <p:spPr>
            <a:xfrm>
              <a:off x="6705720" y="33526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9" name="Group 54"/>
          <p:cNvGrpSpPr/>
          <p:nvPr/>
        </p:nvGrpSpPr>
        <p:grpSpPr>
          <a:xfrm>
            <a:off x="5562720" y="2209320"/>
            <a:ext cx="2286000" cy="749520"/>
            <a:chOff x="5562720" y="2209320"/>
            <a:chExt cx="2286000" cy="749520"/>
          </a:xfrm>
        </p:grpSpPr>
        <p:sp>
          <p:nvSpPr>
            <p:cNvPr id="153" name="Text Box 5"/>
            <p:cNvSpPr/>
            <p:nvPr/>
          </p:nvSpPr>
          <p:spPr>
            <a:xfrm>
              <a:off x="7010280" y="24382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Text Box 6"/>
            <p:cNvSpPr/>
            <p:nvPr/>
          </p:nvSpPr>
          <p:spPr>
            <a:xfrm>
              <a:off x="5562720" y="2438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160" name="AutoShape 7"/>
            <p:cNvCxnSpPr>
              <a:endCxn id="151" idx="0"/>
            </p:cNvCxnSpPr>
            <p:nvPr/>
          </p:nvCxnSpPr>
          <p:spPr>
            <a:xfrm flipH="1">
              <a:off x="5981040" y="2209320"/>
              <a:ext cx="649800" cy="229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61" name="AutoShape 8"/>
            <p:cNvCxnSpPr>
              <a:endCxn id="153" idx="0"/>
            </p:cNvCxnSpPr>
            <p:nvPr/>
          </p:nvCxnSpPr>
          <p:spPr>
            <a:xfrm>
              <a:off x="6629040" y="2209320"/>
              <a:ext cx="801000" cy="229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sp>
          <p:nvSpPr>
            <p:cNvPr id="162" name="Text Box 17"/>
            <p:cNvSpPr/>
            <p:nvPr/>
          </p:nvSpPr>
          <p:spPr>
            <a:xfrm>
              <a:off x="6324480" y="24382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3" name="Group 59"/>
          <p:cNvGrpSpPr/>
          <p:nvPr/>
        </p:nvGrpSpPr>
        <p:grpSpPr>
          <a:xfrm>
            <a:off x="5105520" y="3871440"/>
            <a:ext cx="3276360" cy="763920"/>
            <a:chOff x="5105520" y="3871440"/>
            <a:chExt cx="3276360" cy="763920"/>
          </a:xfrm>
        </p:grpSpPr>
        <p:grpSp>
          <p:nvGrpSpPr>
            <p:cNvPr id="164" name="Group 58"/>
            <p:cNvGrpSpPr/>
            <p:nvPr/>
          </p:nvGrpSpPr>
          <p:grpSpPr>
            <a:xfrm>
              <a:off x="5105520" y="3871440"/>
              <a:ext cx="3276360" cy="763920"/>
              <a:chOff x="5105520" y="3871440"/>
              <a:chExt cx="3276360" cy="763920"/>
            </a:xfrm>
          </p:grpSpPr>
          <p:grpSp>
            <p:nvGrpSpPr>
              <p:cNvPr id="165" name="Group 57"/>
              <p:cNvGrpSpPr/>
              <p:nvPr/>
            </p:nvGrpSpPr>
            <p:grpSpPr>
              <a:xfrm>
                <a:off x="5105520" y="3871440"/>
                <a:ext cx="2895480" cy="763920"/>
                <a:chOff x="5105520" y="3871440"/>
                <a:chExt cx="2895480" cy="763920"/>
              </a:xfrm>
            </p:grpSpPr>
            <p:sp>
              <p:nvSpPr>
                <p:cNvPr id="166" name="Text Box 20"/>
                <p:cNvSpPr/>
                <p:nvPr/>
              </p:nvSpPr>
              <p:spPr>
                <a:xfrm>
                  <a:off x="510552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3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7" name="Text Box 25"/>
                <p:cNvSpPr/>
                <p:nvPr/>
              </p:nvSpPr>
              <p:spPr>
                <a:xfrm>
                  <a:off x="716292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x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8" name="Text Box 35"/>
                <p:cNvSpPr/>
                <p:nvPr/>
              </p:nvSpPr>
              <p:spPr>
                <a:xfrm>
                  <a:off x="6324480" y="4114800"/>
                  <a:ext cx="838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x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cxnSp>
              <p:nvCxnSpPr>
                <p:cNvPr id="169" name="AutoShape 45"/>
                <p:cNvCxnSpPr>
                  <a:stCxn id="149" idx="2"/>
                  <a:endCxn id="166" idx="0"/>
                </p:cNvCxnSpPr>
                <p:nvPr/>
              </p:nvCxnSpPr>
              <p:spPr>
                <a:xfrm>
                  <a:off x="5524200" y="3871440"/>
                  <a:ext cx="108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  <p:cxnSp>
              <p:nvCxnSpPr>
                <p:cNvPr id="170" name="AutoShape 46"/>
                <p:cNvCxnSpPr>
                  <a:stCxn id="154" idx="2"/>
                  <a:endCxn id="171" idx="0"/>
                </p:cNvCxnSpPr>
                <p:nvPr/>
              </p:nvCxnSpPr>
              <p:spPr>
                <a:xfrm flipH="1">
                  <a:off x="6361920" y="3871440"/>
                  <a:ext cx="76284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  <p:cxnSp>
              <p:nvCxnSpPr>
                <p:cNvPr id="172" name="AutoShape 47"/>
                <p:cNvCxnSpPr>
                  <a:stCxn id="154" idx="2"/>
                  <a:endCxn id="173" idx="0"/>
                </p:cNvCxnSpPr>
                <p:nvPr/>
              </p:nvCxnSpPr>
              <p:spPr>
                <a:xfrm>
                  <a:off x="7124400" y="3871440"/>
                  <a:ext cx="108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  <p:sp>
              <p:nvSpPr>
                <p:cNvPr id="173" name="Text Box 22"/>
                <p:cNvSpPr/>
                <p:nvPr/>
              </p:nvSpPr>
              <p:spPr>
                <a:xfrm>
                  <a:off x="670572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3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cxnSp>
              <p:nvCxnSpPr>
                <p:cNvPr id="174" name="AutoShape 48"/>
                <p:cNvCxnSpPr>
                  <a:stCxn id="154" idx="2"/>
                  <a:endCxn id="175" idx="0"/>
                </p:cNvCxnSpPr>
                <p:nvPr/>
              </p:nvCxnSpPr>
              <p:spPr>
                <a:xfrm>
                  <a:off x="7124760" y="3871440"/>
                  <a:ext cx="83880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</p:grpSp>
          <p:sp>
            <p:nvSpPr>
              <p:cNvPr id="171" name="Text Box 21"/>
              <p:cNvSpPr/>
              <p:nvPr/>
            </p:nvSpPr>
            <p:spPr>
              <a:xfrm>
                <a:off x="5943600" y="411480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5" name="Text Box 23"/>
              <p:cNvSpPr/>
              <p:nvPr/>
            </p:nvSpPr>
            <p:spPr>
              <a:xfrm>
                <a:off x="7543800" y="411480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76" name="Text Box 19"/>
            <p:cNvSpPr/>
            <p:nvPr/>
          </p:nvSpPr>
          <p:spPr>
            <a:xfrm>
              <a:off x="5562720" y="41148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7" name="Group 60"/>
          <p:cNvGrpSpPr/>
          <p:nvPr/>
        </p:nvGrpSpPr>
        <p:grpSpPr>
          <a:xfrm>
            <a:off x="5105520" y="4724280"/>
            <a:ext cx="3276360" cy="520560"/>
            <a:chOff x="5105520" y="4724280"/>
            <a:chExt cx="3276360" cy="520560"/>
          </a:xfrm>
        </p:grpSpPr>
        <p:sp>
          <p:nvSpPr>
            <p:cNvPr id="178" name="Text Box 37"/>
            <p:cNvSpPr/>
            <p:nvPr/>
          </p:nvSpPr>
          <p:spPr>
            <a:xfrm>
              <a:off x="5105520" y="4724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Text Box 42"/>
            <p:cNvSpPr/>
            <p:nvPr/>
          </p:nvSpPr>
          <p:spPr>
            <a:xfrm>
              <a:off x="6324480" y="47242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Text Box 40"/>
            <p:cNvSpPr/>
            <p:nvPr/>
          </p:nvSpPr>
          <p:spPr>
            <a:xfrm>
              <a:off x="7543800" y="4724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Text Box 41"/>
            <p:cNvSpPr/>
            <p:nvPr/>
          </p:nvSpPr>
          <p:spPr>
            <a:xfrm>
              <a:off x="5562720" y="4724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7162920" y="4724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Text Box 38"/>
            <p:cNvSpPr/>
            <p:nvPr/>
          </p:nvSpPr>
          <p:spPr>
            <a:xfrm>
              <a:off x="5867280" y="47242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Text Box 39"/>
            <p:cNvSpPr/>
            <p:nvPr/>
          </p:nvSpPr>
          <p:spPr>
            <a:xfrm>
              <a:off x="6705720" y="4724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5" name="Group 61"/>
          <p:cNvGrpSpPr/>
          <p:nvPr/>
        </p:nvGrpSpPr>
        <p:grpSpPr>
          <a:xfrm>
            <a:off x="5524560" y="5243040"/>
            <a:ext cx="2552760" cy="687600"/>
            <a:chOff x="5524560" y="5243040"/>
            <a:chExt cx="2552760" cy="687600"/>
          </a:xfrm>
        </p:grpSpPr>
        <p:sp>
          <p:nvSpPr>
            <p:cNvPr id="186" name="Text Box 26"/>
            <p:cNvSpPr/>
            <p:nvPr/>
          </p:nvSpPr>
          <p:spPr>
            <a:xfrm>
              <a:off x="5638680" y="54100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7" name="Text Box 27"/>
            <p:cNvSpPr/>
            <p:nvPr/>
          </p:nvSpPr>
          <p:spPr>
            <a:xfrm>
              <a:off x="6477120" y="54100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8" name="Text Box 28"/>
            <p:cNvSpPr/>
            <p:nvPr/>
          </p:nvSpPr>
          <p:spPr>
            <a:xfrm>
              <a:off x="7238880" y="54100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189" name="AutoShape 49"/>
            <p:cNvCxnSpPr>
              <a:stCxn id="178" idx="2"/>
              <a:endCxn id="186" idx="0"/>
            </p:cNvCxnSpPr>
            <p:nvPr/>
          </p:nvCxnSpPr>
          <p:spPr>
            <a:xfrm>
              <a:off x="5524560" y="5243040"/>
              <a:ext cx="534240" cy="16704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90" name="AutoShape 51"/>
            <p:cNvCxnSpPr>
              <a:stCxn id="183" idx="2"/>
              <a:endCxn id="186" idx="0"/>
            </p:cNvCxnSpPr>
            <p:nvPr/>
          </p:nvCxnSpPr>
          <p:spPr>
            <a:xfrm flipH="1">
              <a:off x="6057360" y="5243040"/>
              <a:ext cx="229320" cy="16704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91" name="AutoShape 52"/>
            <p:cNvCxnSpPr>
              <a:stCxn id="184" idx="2"/>
              <a:endCxn id="188" idx="0"/>
            </p:cNvCxnSpPr>
            <p:nvPr/>
          </p:nvCxnSpPr>
          <p:spPr>
            <a:xfrm>
              <a:off x="7124760" y="5243040"/>
              <a:ext cx="534240" cy="16704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92" name="AutoShape 53"/>
            <p:cNvCxnSpPr>
              <a:stCxn id="180" idx="2"/>
              <a:endCxn id="188" idx="0"/>
            </p:cNvCxnSpPr>
            <p:nvPr/>
          </p:nvCxnSpPr>
          <p:spPr>
            <a:xfrm flipH="1">
              <a:off x="7657920" y="5243040"/>
              <a:ext cx="305280" cy="16704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</p:grpSp>
      <p:pic>
        <p:nvPicPr>
          <p:cNvPr id="193" name="Picture 62" descr="MCj03248280000[1]"/>
          <p:cNvPicPr/>
          <p:nvPr/>
        </p:nvPicPr>
        <p:blipFill>
          <a:blip r:embed="rId1"/>
          <a:stretch/>
        </p:blipFill>
        <p:spPr>
          <a:xfrm>
            <a:off x="5410080" y="2057400"/>
            <a:ext cx="263376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xit" presetID="4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t’s Re-Ca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osite numbers are made up of f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a Prime Factor Tree, the goal is to keep reducing each factor to its lowest possible prime f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you have all the prime factors identified, re-arrange them from least to greatest and re-write them as expon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7T14:55:02Z</dcterms:created>
  <dc:creator> Jason Humberd</dc:creator>
  <dc:description/>
  <dc:language>en-US</dc:language>
  <cp:lastModifiedBy>RomaK</cp:lastModifiedBy>
  <dcterms:modified xsi:type="dcterms:W3CDTF">2015-09-04T09:17:50Z</dcterms:modified>
  <cp:revision>13</cp:revision>
  <dc:subject/>
  <dc:title>Slide 1</dc:title>
</cp:coreProperties>
</file>