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LASER.WAV" ContentType="audio/x-wav"/>
  <Override PartName="/ppt/media/CAMERA.WAV" ContentType="audio/x-wav"/>
  <Override PartName="/ppt/media/TYPE.WAV" ContentType="audio/x-wav"/>
  <Override PartName="/ppt/media/image2.wmf" ContentType="image/x-wmf"/>
  <Override PartName="/ppt/media/image3.wmf" ContentType="image/x-wmf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B65F-E0B3-4CAD-9EA0-C9F366A3C5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Factorization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every composite number expressed as a product of a prim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Factor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omposite number expressed as a product of a prim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ncept Summary: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whole number that has exactly two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s, 1 and the number itself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1, 13, 25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mposit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number greater than 1 with more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than two factors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6, 10, 18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Neither prime nor composit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 has only one factor. O has an infinite number or factors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0, 1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ole number that has exactly tw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, 1 and the number itself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 13, 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greater than 1 with mo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wo fac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 10, 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ither prime nor compo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has only one factor. O has an infinite number or fac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.Identify Prime and composite, 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or neither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8:  The factors of 28 are 1 and 28, 2 and 14, and 4 and 7.  Since 28 has more than two factors, it is a composit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1:   The factors of 11 are 1 and 11.  Since there are exactly two factors, 1 and the number itself, 11 is a prim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Identify Prime and composit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n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:  The factors of 28 are 1 and 28, 2 and 14, and 4 and 7.  Since 28 has more than two factors, it is a composi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:   The factors of 11 are 1 and 11.  Since there are exactly two factors, 1 and the number itself, 11 is a prim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when two or more numbers are multiplied, each number is called a factor of the product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Numbe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whole number that has exactly two unique factors, 1 and the number itself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mposite numbe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number greater than 1 with more than two factors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numbers are multiplied, each number is called a factor of the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Numbe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ole number that has exactly two unique factors, 1 and the number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e numbe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greater than 1 with more than two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Numbers and Prime Factorization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Every Composite number can be written as a product of prime number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6  = 2 x 3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8  = 2 x 2 x 2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2= 2 x 2 x 3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Numbers and Prime Fact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omposite number can be written as a product of prim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 = 2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 = 2 x 2 x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= 2 x 2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Factor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s that are prime numbers are called prime factors.  You can use Factor Tree to find prime factors. This one shows the prime factors of 50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0=2 x 5 x 5 is the prime factorization of 50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are prime numbers are called prime factors.  You can use Factor Tree to find prime factors. This one shows the prime factors of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=2 x 5 x 5 is the prime factorization of 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Hope you enjoy the Lesson!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Have a nice day to all of you!!!!!!!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you enjoy the Less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ice day to all of you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FF3-8BC3-475A-B0C0-7674FE8F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46A-8391-4182-BCF0-9DC6F07E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DD56-31BE-4865-B2CB-8416B238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710-DD6D-40ED-AA78-B817FE5C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027F-F5EA-493B-9FA3-86C80610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4EB9-339D-4E92-A87B-EAF7B503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2407-32FD-49AA-AA9B-40B4BB9D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FF87-F01C-4785-84BB-279B7F86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C5C1-7A3A-458A-BB10-8EA31051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890D-6FDD-4F89-A24F-EE18BDC1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939D-8EFE-4677-918D-0B856766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211-4A5F-41C4-A752-C5F8AE54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A70A-2900-4311-BC73-196E20DF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9B52-B003-4D44-9D93-AB5956B9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B9C8-679F-465D-9416-11C95D52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91D4-F390-4B88-ADD4-CE0107B2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B3D2-22A5-4BC8-93D2-A7834D81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0B9B-9DAE-49C5-AF88-603CBA37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CA15-2E5E-4908-8A07-D1C1D9F7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75F-6361-41AB-ADF4-6D7C79B3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EA66-769D-418A-95AC-C94E79E7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C22-1823-47BF-86A1-478E6B87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497D-658C-4956-A99B-6052C496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A5B-5818-45F6-88B6-64FFCCC5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8768-3962-4DEC-9E6F-363B9EED4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0723-2015-49D4-89FF-DCDBF9ABF4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Prime Factorization</a:t>
            </a:r>
            <a:br>
              <a:rPr sz="4000"/>
            </a:b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by</a:t>
            </a:r>
            <a:br>
              <a:rPr sz="4000"/>
            </a:b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Dr. Emerlina C. Binuy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5280" y="2590560"/>
            <a:ext cx="69343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ahoma"/>
              </a:rPr>
              <a:t>every composite number expressed as a product of a prime number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Concept Summary</a:t>
            </a:r>
            <a:r>
              <a:rPr b="1" lang="en-US" sz="40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Prim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whole number that has exactly two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factors, 1 and the number itself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34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1, 13, 25</a:t>
            </a:r>
            <a:r>
              <a:rPr b="1" lang="en-US" sz="1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Composit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number greater than 1 with more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than two factors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6, 10, 18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Neither prime nor composit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 has only one factor. O has an infinite number or factors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0, 1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75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75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75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75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75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.</a:t>
            </a:r>
            <a:r>
              <a:rPr b="1" i="1" lang="en-US" sz="3600" spc="-1" strike="noStrike">
                <a:solidFill>
                  <a:srgbClr val="ccffff"/>
                </a:solidFill>
                <a:latin typeface="Tahoma"/>
              </a:rPr>
              <a:t>Identify Prime and composite, </a:t>
            </a:r>
            <a:br>
              <a:rPr sz="3600"/>
            </a:br>
            <a:r>
              <a:rPr b="1" i="1" lang="en-US" sz="3600" spc="-1" strike="noStrike">
                <a:solidFill>
                  <a:srgbClr val="ccffff"/>
                </a:solidFill>
                <a:latin typeface="Tahoma"/>
              </a:rPr>
              <a:t>or neither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239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28:  The factors of 28 are 1 and 28, 2 and 14, and 4 and 7.  Since 28 has more than two factors, it is a composite number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11:   The factors of 11 are 1 and 11.  Since there are exactly two factors, 1 and the number itself, 11 is a prime number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8" name="Object 7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1905120" cy="39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Reme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Facto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when two or more numbers are multiplied, each number is called a factor of the product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Prime Numbe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a whole number that has exactly two unique factors, 1 and the number itself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Composite numbe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a number greater than 1 with more than two factor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1" name="Object 5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99036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Prime Numbers and Prime Factoriz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Every Composite number can be written as a product of prime numb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6  = 2 x 3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8  = 2 x 2 x 2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12= 2 x 2 x 3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75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75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75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Prime Fact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Factors that are prime numbers are called prime factors.  You can use Factor Tree to find prime factors. This one shows the prime factors of 5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5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6" name="Line 4"/>
          <p:cNvSpPr/>
          <p:nvPr/>
        </p:nvSpPr>
        <p:spPr>
          <a:xfrm flipH="1">
            <a:off x="2590920" y="4419720"/>
            <a:ext cx="304560" cy="45720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3124080" y="4419720"/>
            <a:ext cx="228600" cy="45720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362320" y="48006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04956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Line 8"/>
          <p:cNvSpPr/>
          <p:nvPr/>
        </p:nvSpPr>
        <p:spPr>
          <a:xfrm flipH="1">
            <a:off x="2971440" y="5257800"/>
            <a:ext cx="228600" cy="3808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3429000" y="5257800"/>
            <a:ext cx="228600" cy="3808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743200" y="55627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5830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4572000" y="51055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0=2 x 5 x 5 is the prime factorization of 50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pe you enjoy the Lesson!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ahoma"/>
              </a:rPr>
              <a:t>Have a nice day to all of you!!!!!!!</a:t>
            </a:r>
            <a:endParaRPr b="0" lang="en-US" sz="4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4:12:50Z</dcterms:created>
  <dc:creator>emerlina binuya</dc:creator>
  <dc:description/>
  <dc:language>en-US</dc:language>
  <cp:lastModifiedBy>RomaK</cp:lastModifiedBy>
  <dcterms:modified xsi:type="dcterms:W3CDTF">2015-09-04T09:17:57Z</dcterms:modified>
  <cp:revision>30</cp:revision>
  <dc:subject/>
  <dc:title>Prime Factorization</dc:title>
</cp:coreProperties>
</file>