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1C18-AFF9-4EF6-9E62-A019C63203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6C2D-B6AF-491D-B917-3D27CC574E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eats 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963C-1A59-45DE-AB71-63A7CB0044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the properties of com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astronomers are monitoring the danger from near-Earth asteroids and come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66C2-6AFF-4ADD-8A58-B090B428F0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that a comet is made from ice and dust, the tail of a is a trail of debris and that comets have highly elliptical or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that the speed of a comet increases as it approaches a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a near-Earth object (NEO) as an asteroid or comet on a possible collision course with Earth and how NEO may be seen with telescopes and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hat observations can be used to determine their trajector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wh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he speed of a comet increases as it approaches a star: the strength of gravity in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uggest and discuss possible actions which could be taken to reduce the threat of NEOs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A7EB-2F0E-4394-A7CA-4DAD0A0A7C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ey’s Com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ppears every 76 yea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850C-D6F6-471B-A7A5-2A00C719B3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e-Bopp as seen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ig County, VA in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CDE5-6555-4075-A8EE-4119849329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e-Bopp as seen from Alexandria, VA in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447B-256A-4C50-AFF2-3929CBC3E9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e-Bopp as seen from Wyoming in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2DEB-CB9B-45B6-B489-A06D67D2B4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Jokerman"/>
              </a:rPr>
              <a:t>Yerkes Observa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6C49-4549-4AD2-A1D2-ADA9A263C8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are balls of rock and ice, with trails of debris blown outward by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highly elliptical orbits and speed up as they approach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rajectories of observed object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be predicted accu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an asteroid (or comet) on a collision course with Earth is spotted early enough, it may be possible to alter the trajectory of the aster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0940-1112-40B1-84EC-4425C88975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388B-9497-49FD-9E14-E9E0FD0D18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D237-996C-4377-AA00-94B7A09602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the properties of a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asteroids have affected Earth in the p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B3B2-4D3A-4BA4-833C-0F7A4A6786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that a comet is made from ice and dust, the tail of a is a trail of debris and that comets have highly elliptical or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that the speed of a comet increases as it approaches a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a near-Earth object (NEO) as an asteroid or comet on a possible collision course with Earth and how NEO may be seen with telescopes and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hat observations can be used to determine their trajector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wh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he speed of a comet increases as it approaches a star: the strength of gravity in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uggest and discuss possible actions which could be taken to reduce the threat of NEOs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6C64-84D2-43A3-A759-CC5E9D29FE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large asteroids have collided with the Earth in the past  and describe some of the consequences  and evidence of such coll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asteroids are rocks and describe that asteroids are left over from the formation of the Solar System and where they can b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why the asteroid belt is between Mars and Jupiter: the large gravity of Jupiter disrupts the formation of a planet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D234-1327-4CF7-9427-2C47323C20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steroid Gaspra, found in the Asteroid Belt between Mars &amp; 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D787-4C63-4A85-89A0-46B3B0A58C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Ida with it’s moon Dact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1557-5EC2-451D-B374-0F8CEB3315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teroids are large rocks left over from the formation of the Solar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are mostly between the orbits of Mars and 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teroids (large rocks) have collide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the Earth in the past caus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rater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ejection of hot rock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widespread fir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unlight blocked by dus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limate chang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pecies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4B52-BDB3-44DF-948A-F4EB0F6E34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li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vidence for past collision on Earth inclu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layers of unusual elements in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udden changes of fossil number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between adjacent layers of r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301E-A580-477E-9AA0-438EDF2F77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925B-8B37-4619-B2FC-F61B5495A9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large asteroids have collided with the Earth in the past  and describe some of the consequences  and evidence of such coll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asteroids are rocks and describe that asteroids are left over from the formation of the Solar System and where they can b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why the asteroid belt is between Mars and Jupiter: the large gravity of Jupiter disrupts the formation of a planet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3ECE-AA58-462F-83F4-4F82E5EE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D4DF-B1B9-4F6C-B0F8-161B71F4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8226-AAC8-4804-A7D8-58B673B31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A811-C73B-4EC9-A710-99DE4E0EC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423B-ED8E-4466-A4B6-10BEE109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2FE7-969C-4655-B4BC-6356951E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EF9C-4AA0-4027-9BA5-AAC4B8F3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C535-AC88-40DD-B5C8-A9CA6122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29E1-9008-489C-BAEC-F537EEEA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3EA8-878C-4321-B8DE-2AD32EFE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034C-701C-46CF-9D37-11BCA254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073C-E772-41D1-A6C3-7C322B8B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659C-B07A-4839-874E-8DF36DB430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292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reats to 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ikeya-zhang"/>
          <p:cNvPicPr/>
          <p:nvPr/>
        </p:nvPicPr>
        <p:blipFill>
          <a:blip r:embed="rId1"/>
          <a:stretch/>
        </p:blipFill>
        <p:spPr>
          <a:xfrm>
            <a:off x="0" y="0"/>
            <a:ext cx="5280120" cy="3200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gaspra"/>
          <p:cNvPicPr/>
          <p:nvPr/>
        </p:nvPicPr>
        <p:blipFill>
          <a:blip r:embed="rId2"/>
          <a:stretch/>
        </p:blipFill>
        <p:spPr>
          <a:xfrm>
            <a:off x="6559560" y="3411360"/>
            <a:ext cx="2584440" cy="3446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the properties of com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astronomers are monitoring the danger from near-Earth asteroids and com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that a comet is made from ice and dust, the tail of a is a trail of debris and that comets have highly elliptical or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that the speed of a comet increases as it approaches a 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a near-Earth object (NEO) as an asteroid or comet on a possible collision course with Earth and how NEO may be seen with telescopes and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at observations can be used to determine their trajector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h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speed of a comet increases as it approaches a star: the strength of gravity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ggest and discuss possible actions which could be taken to reduce the threat of NEOs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ley’s Comet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ppears every 76 yea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e from 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Halley"/>
          <p:cNvPicPr/>
          <p:nvPr/>
        </p:nvPicPr>
        <p:blipFill>
          <a:blip r:embed="rId1"/>
          <a:stretch/>
        </p:blipFill>
        <p:spPr>
          <a:xfrm>
            <a:off x="1676520" y="1981080"/>
            <a:ext cx="5841720" cy="46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e-Bopp as seen fr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aig County, VA in 19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hbcraigcova"/>
          <p:cNvPicPr/>
          <p:nvPr/>
        </p:nvPicPr>
        <p:blipFill>
          <a:blip r:embed="rId1"/>
          <a:stretch/>
        </p:blipFill>
        <p:spPr>
          <a:xfrm>
            <a:off x="1981080" y="2057400"/>
            <a:ext cx="548640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81480" y="609480"/>
            <a:ext cx="327672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e-Bopp as seen from Alexandria, VA in 19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hbalexandriava"/>
          <p:cNvPicPr/>
          <p:nvPr/>
        </p:nvPicPr>
        <p:blipFill>
          <a:blip r:embed="rId1"/>
          <a:stretch/>
        </p:blipFill>
        <p:spPr>
          <a:xfrm>
            <a:off x="457200" y="457200"/>
            <a:ext cx="44578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e-Bopp as seen from Wyoming in 19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hbwyoming"/>
          <p:cNvPicPr/>
          <p:nvPr/>
        </p:nvPicPr>
        <p:blipFill>
          <a:blip r:embed="rId1"/>
          <a:stretch/>
        </p:blipFill>
        <p:spPr>
          <a:xfrm>
            <a:off x="1219320" y="1752480"/>
            <a:ext cx="68580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Jokerman"/>
              </a:rPr>
              <a:t>Yerkes </a:t>
            </a:r>
            <a:r>
              <a:rPr b="1" lang="en-US" sz="8000" spc="-1" strike="noStrike">
                <a:solidFill>
                  <a:srgbClr val="000000"/>
                </a:solidFill>
                <a:latin typeface="Jokerman"/>
              </a:rPr>
              <a:t>Observator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yerkes"/>
          <p:cNvPicPr/>
          <p:nvPr/>
        </p:nvPicPr>
        <p:blipFill>
          <a:blip r:embed="rId1"/>
          <a:stretch/>
        </p:blipFill>
        <p:spPr>
          <a:xfrm>
            <a:off x="228600" y="2362320"/>
            <a:ext cx="2946240" cy="4254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yerkes2"/>
          <p:cNvPicPr/>
          <p:nvPr/>
        </p:nvPicPr>
        <p:blipFill>
          <a:blip r:embed="rId2"/>
          <a:stretch/>
        </p:blipFill>
        <p:spPr>
          <a:xfrm>
            <a:off x="5562720" y="4572000"/>
            <a:ext cx="3246480" cy="2030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yerkes3"/>
          <p:cNvPicPr/>
          <p:nvPr/>
        </p:nvPicPr>
        <p:blipFill>
          <a:blip r:embed="rId3"/>
          <a:stretch/>
        </p:blipFill>
        <p:spPr>
          <a:xfrm>
            <a:off x="3276720" y="2666880"/>
            <a:ext cx="34750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ts are balls of rock and ice, with trails of debris blown outward by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highly elliptical orbits and speed up as they approach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trajectories of observed object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be predicted accu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n asteroid (or comet) on a collision course with Earth is spotted early enough, it may be possible to alter the trajectory of the aster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762120" y="1436760"/>
            <a:ext cx="67053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can asteroids and comets be seen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difference between a comet and an asteroid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can be done to protect us from asteroid impacts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76212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Threats to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762120" y="990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762120" y="1436760"/>
            <a:ext cx="67053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can asteroids and comets be seen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difference between a comet and an asteroid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can be done to protect us from asteroid impacts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219320" y="1784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With telescopes, 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because they reflect light from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219320" y="3216240"/>
            <a:ext cx="65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teroids are large rocks usually in orbit between Mars and Jupiter.  Comets are ice and rock found in very elliptical orbit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219320" y="5045040"/>
            <a:ext cx="550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etect them early 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nd then alter their cou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76212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Threats to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the properties of aster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asteroids have affected Earth in the p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that a comet is made from ice and dust, the tail of a is a trail of debris and that comets have highly elliptical or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that the speed of a comet increases as it approaches a 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a near-Earth object (NEO) as an asteroid or comet on a possible collision course with Earth and how NEO may be seen with telescopes and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at observations can be used to determine their trajector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h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speed of a comet increases as it approaches a star: the strength of gravity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ggest and discuss possible actions which could be taken to reduce the threat of NEOs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3"/>
          <a:stretch/>
        </p:blipFill>
        <p:spPr>
          <a:xfrm>
            <a:off x="324000" y="2852640"/>
            <a:ext cx="588960" cy="749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"/>
          <p:cNvPicPr/>
          <p:nvPr/>
        </p:nvPicPr>
        <p:blipFill>
          <a:blip r:embed="rId4"/>
          <a:stretch/>
        </p:blipFill>
        <p:spPr>
          <a:xfrm>
            <a:off x="324000" y="465300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5"/>
          <a:stretch/>
        </p:blipFill>
        <p:spPr>
          <a:xfrm>
            <a:off x="324000" y="5373720"/>
            <a:ext cx="5889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2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e that large asteroids have collided with the Earth in the past  and describe some of the consequences  and evidence of such coll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e that asteroids are rocks and describe that asteroids are left over from the formation of the Solar System and where they can be f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plain why the asteroid belt is between Mars and Jupiter: the large gravity of Jupiter disrupts the formation of a planet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steroid Gaspra, found in the Asteroid Belt between Mars &amp; Jup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gaspra"/>
          <p:cNvPicPr/>
          <p:nvPr/>
        </p:nvPicPr>
        <p:blipFill>
          <a:blip r:embed="rId1"/>
          <a:stretch/>
        </p:blipFill>
        <p:spPr>
          <a:xfrm>
            <a:off x="4343400" y="304920"/>
            <a:ext cx="4548240" cy="60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teroid Ida with it’s moon Dacty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idasmoondactyl"/>
          <p:cNvPicPr/>
          <p:nvPr/>
        </p:nvPicPr>
        <p:blipFill>
          <a:blip r:embed="rId1"/>
          <a:stretch/>
        </p:blipFill>
        <p:spPr>
          <a:xfrm>
            <a:off x="914400" y="1752480"/>
            <a:ext cx="7315200" cy="464832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4"/>
          <p:cNvSpPr/>
          <p:nvPr/>
        </p:nvSpPr>
        <p:spPr>
          <a:xfrm rot="1021200">
            <a:off x="7086240" y="2590920"/>
            <a:ext cx="533520" cy="1143000"/>
          </a:xfrm>
          <a:prstGeom prst="downArrow">
            <a:avLst>
              <a:gd name="adj1" fmla="val 50000"/>
              <a:gd name="adj2" fmla="val 535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tero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teroids are large rocks left over from the formation of the Solar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are mostly between the orbits of Mars and Jup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teroids (large rocks) have collide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the Earth in the past caus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crater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ejection of hot rock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widespread fir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unlight blocked by du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climate chan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pecies exti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llis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vidence for past collision on Earth 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cr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layers of unusual elements in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sudden changes of fossil number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between adjacent layers of r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50920" y="400320"/>
            <a:ext cx="8483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Asteroids are small ______________ which orbit the ______________, mainly between ______________ and ______________. Occasionally, a long time ago, ______________ are thought to have struck ______________, forming large ______________ and huge amounts of ______________ and ______________ vapour. An enormous asteroid is believed to have hit ______________ 65 ______________ years ago, leading to the ______________ of the ______________. ______________ could not penetrate the ______________ so ______________ fell, causing ______________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39640" y="4941720"/>
            <a:ext cx="792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steroid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tmosphere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limate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omet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rater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inosaur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ust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arth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xtinction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Jupiter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ar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eteor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illion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Neptune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rock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aturn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nowball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n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nlight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emperature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water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3203640" y="33336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826920" y="69228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5724360" y="692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826920" y="1052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755640" y="1484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ter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611280" y="1844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5219640" y="1773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a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2627280" y="2205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5435640" y="2133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611280" y="285264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3564000" y="2924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1042920" y="3284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4500720" y="3284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nosa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539640" y="3645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n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6300720" y="364500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900000" y="4005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7"/>
          <p:cNvSpPr/>
          <p:nvPr/>
        </p:nvSpPr>
        <p:spPr>
          <a:xfrm>
            <a:off x="5076720" y="4005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e that large asteroids have collided with the Earth in the past  and describe some of the consequences  and evidence of such coll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e that asteroids are rocks and describe that asteroids are left over from the formation of the Solar System and where they can be f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plain why the asteroid belt is between Mars and Jupiter: the large gravity of Jupiter disrupts the formation of a planet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39640" y="1557360"/>
            <a:ext cx="4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395280" y="2492280"/>
            <a:ext cx="588960" cy="74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3"/>
          <a:stretch/>
        </p:blipFill>
        <p:spPr>
          <a:xfrm>
            <a:off x="395280" y="4653000"/>
            <a:ext cx="5889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14:47:54Z</dcterms:created>
  <dc:creator>Heather Murphy</dc:creator>
  <dc:description/>
  <dc:language>en-US</dc:language>
  <cp:lastModifiedBy>RomaK</cp:lastModifiedBy>
  <dcterms:modified xsi:type="dcterms:W3CDTF">2015-08-01T07:07:34Z</dcterms:modified>
  <cp:revision>9</cp:revision>
  <dc:subject/>
  <dc:title>Threats to Earth</dc:title>
</cp:coreProperties>
</file>