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CDE3-F906-451C-99A6-FA9F12D431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439A-C1FF-4CCB-8A36-C76B07142C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4506-0631-4B00-94E3-DE08C5924E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8556-98F6-43CE-AA41-CFCF3B9E4D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CB38-F9B3-4EBF-8330-09A1FDB6B8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B943-B1FB-49E9-BA5B-D19C9749A0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524E-6772-4507-90DC-4287C97AB2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5D00-FF8F-47A8-B618-2318463CCE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0BB6-974E-4525-B395-E0D824E0DC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Jokerman"/>
              </a:rPr>
              <a:t>Yerkes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0521-1D44-4475-8B33-108410A4A0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86B2-B48E-410F-A223-A6E3D832B3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EF92-B204-46EE-AD8D-8069130B96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EE17-52AA-4E05-A03E-E2B4D92EAF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2E3E-302B-4408-B676-0F7FA4C68E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E6AC-125D-4C99-93D2-0E431418D1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8D37-3C2C-4A6B-9BA1-FC097B7A60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6A75-97CF-4DF8-9102-F03A6E03E9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A4B5-EF3F-46D5-A9D6-1CCD3BF54D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E746-33B7-4A09-B92C-E3C7B2596B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C7AD-EDFD-4D58-A4A7-6F3A992EB6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FCDB-68FA-47AA-BA22-6E5DD74598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782A-2C09-42D1-AF74-5D4E592C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7C0-C6F0-47C2-8673-EB564927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BAC-C9BC-4768-BD01-4DF7A058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5F4-A12F-4F57-BFF8-829D2A81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D0C-D0EA-4A67-8874-9CBD9A6C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950-2A49-4001-8651-16A1FD92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584-D152-4202-B2D6-D90704D9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C87-B5DF-422E-958C-30502D18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667-6DEA-4615-8DF4-19E1052C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35E-81E0-4425-A0FA-DECFBFEB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912-70BA-4798-BA4B-A395074F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3B2-9214-499D-B7D9-2EC4EE18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3B51-5084-4A85-9390-E25299F246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keya-zhang"/>
          <p:cNvPicPr/>
          <p:nvPr/>
        </p:nvPicPr>
        <p:blipFill>
          <a:blip r:embed="rId1"/>
          <a:stretch/>
        </p:blipFill>
        <p:spPr>
          <a:xfrm>
            <a:off x="0" y="0"/>
            <a:ext cx="528012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gaspra"/>
          <p:cNvPicPr/>
          <p:nvPr/>
        </p:nvPicPr>
        <p:blipFill>
          <a:blip r:embed="rId2"/>
          <a:stretch/>
        </p:blipFill>
        <p:spPr>
          <a:xfrm>
            <a:off x="6559560" y="3411360"/>
            <a:ext cx="2584440" cy="3446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lley"/>
          <p:cNvPicPr/>
          <p:nvPr/>
        </p:nvPicPr>
        <p:blipFill>
          <a:blip r:embed="rId1"/>
          <a:stretch/>
        </p:blipFill>
        <p:spPr>
          <a:xfrm>
            <a:off x="1676520" y="1981080"/>
            <a:ext cx="58417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hbcraigcova"/>
          <p:cNvPicPr/>
          <p:nvPr/>
        </p:nvPicPr>
        <p:blipFill>
          <a:blip r:embed="rId1"/>
          <a:stretch/>
        </p:blipFill>
        <p:spPr>
          <a:xfrm>
            <a:off x="1981080" y="2057400"/>
            <a:ext cx="54864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81480" y="609480"/>
            <a:ext cx="327672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hbalexandriava"/>
          <p:cNvPicPr/>
          <p:nvPr/>
        </p:nvPicPr>
        <p:blipFill>
          <a:blip r:embed="rId1"/>
          <a:stretch/>
        </p:blipFill>
        <p:spPr>
          <a:xfrm>
            <a:off x="457200" y="457200"/>
            <a:ext cx="4457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hbwyoming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Yerkes </a:t>
            </a: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Observato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yerkes"/>
          <p:cNvPicPr/>
          <p:nvPr/>
        </p:nvPicPr>
        <p:blipFill>
          <a:blip r:embed="rId1"/>
          <a:stretch/>
        </p:blipFill>
        <p:spPr>
          <a:xfrm>
            <a:off x="228600" y="2362320"/>
            <a:ext cx="2946240" cy="425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yerkes2"/>
          <p:cNvPicPr/>
          <p:nvPr/>
        </p:nvPicPr>
        <p:blipFill>
          <a:blip r:embed="rId2"/>
          <a:stretch/>
        </p:blipFill>
        <p:spPr>
          <a:xfrm>
            <a:off x="5562720" y="4572000"/>
            <a:ext cx="3246480" cy="203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yerkes3"/>
          <p:cNvPicPr/>
          <p:nvPr/>
        </p:nvPicPr>
        <p:blipFill>
          <a:blip r:embed="rId3"/>
          <a:stretch/>
        </p:blipFill>
        <p:spPr>
          <a:xfrm>
            <a:off x="3276720" y="2666880"/>
            <a:ext cx="3475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62120" y="990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219320" y="1784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ith telescopes,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ecause they reflect light from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19320" y="3216240"/>
            <a:ext cx="65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teroids are large rocks usually in orbit between Mars and Jupiter.  Comets are ice and rock found in very elliptical orbit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219320" y="5045040"/>
            <a:ext cx="550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tect them early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nd then alter their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4"/>
          <a:stretch/>
        </p:blipFill>
        <p:spPr>
          <a:xfrm>
            <a:off x="324000" y="465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tretch/>
        </p:blipFill>
        <p:spPr>
          <a:xfrm>
            <a:off x="324000" y="537372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gaspra"/>
          <p:cNvPicPr/>
          <p:nvPr/>
        </p:nvPicPr>
        <p:blipFill>
          <a:blip r:embed="rId1"/>
          <a:stretch/>
        </p:blipFill>
        <p:spPr>
          <a:xfrm>
            <a:off x="4343400" y="304920"/>
            <a:ext cx="454824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idasmoondactyl"/>
          <p:cNvPicPr/>
          <p:nvPr/>
        </p:nvPicPr>
        <p:blipFill>
          <a:blip r:embed="rId1"/>
          <a:stretch/>
        </p:blipFill>
        <p:spPr>
          <a:xfrm>
            <a:off x="914400" y="1752480"/>
            <a:ext cx="7315200" cy="46483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4"/>
          <p:cNvSpPr/>
          <p:nvPr/>
        </p:nvSpPr>
        <p:spPr>
          <a:xfrm rot="1021200">
            <a:off x="7086240" y="259092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50920" y="400320"/>
            <a:ext cx="8483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steroids are small ______________ which orbit the ______________, mainly between ______________ and ______________. Occasionally, a long time ago, ______________ are thought to have struck ______________, forming large ______________ and huge amounts of ______________ and ______________ vapour. An enormous asteroid is believed to have hit ______________ 65 ______________ years ago, leading to the ______________ of the ______________. ______________ could not penetrate the ______________ so ______________ fell, causing ______________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9640" y="4941720"/>
            <a:ext cx="79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steroid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tmospher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limat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ome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rate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inosau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ust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arth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xtinctio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Jupiter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eteo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illi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eptun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ock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atur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nowball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light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mperature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203640" y="333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826920" y="692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5724360" y="692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826920" y="1052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755640" y="1484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611280" y="1844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219640" y="177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262728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435640" y="2133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611280" y="2852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3564000" y="2924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1042920" y="3284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4500720" y="3284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nosa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539640" y="364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6300720" y="3645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900000" y="4005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5076720" y="4005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9640" y="1557360"/>
            <a:ext cx="4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395280" y="465300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4:47:54Z</dcterms:created>
  <dc:creator>Heather Murphy</dc:creator>
  <dc:description/>
  <dc:language>en-US</dc:language>
  <cp:lastModifiedBy>RomaK</cp:lastModifiedBy>
  <dcterms:modified xsi:type="dcterms:W3CDTF">2015-08-01T07:07:34Z</dcterms:modified>
  <cp:revision>9</cp:revision>
  <dc:subject/>
  <dc:title>Threats to Earth</dc:title>
</cp:coreProperties>
</file>