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8F5C-5768-43CC-8788-BCDA8EE12E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DB25-B38E-43EE-9287-EAD7160E56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eats 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68BC-7131-4FC8-ADEF-465D815EBA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properties of 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astronomers are monitoring the danger from near-Earth asteroids and com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52F2-D137-4B84-8FAE-E6CA908500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88D7-DD49-4E66-8746-F9C1C7FF87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ey’s Com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ppears every 76 yea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AA9C-5CE8-4980-8AF0-D0535E2E72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ig County, VA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F92D-D8A0-4D8C-A5F5-F0D9B4F180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 Alexandria, VA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0782-0601-433B-A92D-D2A2175121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 Wyoming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59EA-98BF-4029-8542-3808AC1DD8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Jokerman"/>
              </a:rPr>
              <a:t>Yerkes Observ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B4EA-7280-4441-8925-DF588B98A2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balls of rock and ice, with trails of debris blown outward by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highly elliptical orbits and speed up as they approach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ajectories of observed object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be predicted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an asteroid (or comet) on a collision course with Earth is spotted early enough, it may be possible to alter the trajectory of the aster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5C5D-0573-4CE8-AD04-7676D408AA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8572-F230-42E3-B592-5B9D25788B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F6D9-5B26-4EC2-A567-71DDCB9C27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properties of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asteroids have affected Earth in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A84D-898A-4D8B-BF42-356D008B7E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E675-B5E1-4EC8-9417-E143391D98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24AC-81D2-4D50-A57D-4F04874B56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eroid Gaspra, found in the Asteroid Belt between Mars &amp; 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37AF-6BA4-4473-ACCF-D4445AF688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Ida with it’s moon Dact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07A3-A0F4-4DD3-B79A-A020D0E8EC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are large rocks left over from the formation of the Solar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are mostly between the orbits of Mars and 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(large rocks) have collide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the Earth in the past caus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rate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jection of hot rock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widespread fir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unlight blocked by dus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limate chan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pecies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B687-6E09-4612-87CF-9CBCC1E7CF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i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vidence for past collision on Earth inclu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layers of unusual elements in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udden changes of fossil number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between adjacent layers of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CCE6-B8C0-4836-A8B1-96D636F994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1114-767E-4018-9C43-E8261D4DDA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B953-2E20-40B6-8B0C-28D3EA6C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C0A1-7CD7-487A-9761-DE0A7655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8F5E-23BA-4D29-A219-3DF28439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406F-3DBE-4FC4-94E7-14F84A6A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08A3-070B-4450-8A3C-94BD3D3E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F44B-7A11-4EAC-854E-612A9098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77D9-F733-481F-AA0A-A8158570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E39-FB21-4B0E-B6C4-C4149202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E4D8-54CE-4542-9A09-864A075E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C7F-DD98-41CF-B632-AD855C5E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84E5-2EC4-4EE0-AF75-751231E5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458C-3B47-487F-8AC7-06E0086B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D206-D87D-4679-8A5B-9C54A268F5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reats to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keya-zhang"/>
          <p:cNvPicPr/>
          <p:nvPr/>
        </p:nvPicPr>
        <p:blipFill>
          <a:blip r:embed="rId1"/>
          <a:stretch/>
        </p:blipFill>
        <p:spPr>
          <a:xfrm>
            <a:off x="0" y="0"/>
            <a:ext cx="5280120" cy="320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gaspra"/>
          <p:cNvPicPr/>
          <p:nvPr/>
        </p:nvPicPr>
        <p:blipFill>
          <a:blip r:embed="rId2"/>
          <a:stretch/>
        </p:blipFill>
        <p:spPr>
          <a:xfrm>
            <a:off x="6559560" y="3411360"/>
            <a:ext cx="2584440" cy="3446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properties of com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stronomers are monitoring the danger from near-Earth asteroids and com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ey’s Comet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ppears every 76 yea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 from 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alley"/>
          <p:cNvPicPr/>
          <p:nvPr/>
        </p:nvPicPr>
        <p:blipFill>
          <a:blip r:embed="rId1"/>
          <a:stretch/>
        </p:blipFill>
        <p:spPr>
          <a:xfrm>
            <a:off x="1676520" y="1981080"/>
            <a:ext cx="584172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aig County, VA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hbcraigcova"/>
          <p:cNvPicPr/>
          <p:nvPr/>
        </p:nvPicPr>
        <p:blipFill>
          <a:blip r:embed="rId1"/>
          <a:stretch/>
        </p:blipFill>
        <p:spPr>
          <a:xfrm>
            <a:off x="1981080" y="2057400"/>
            <a:ext cx="54864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81480" y="609480"/>
            <a:ext cx="327672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 Alexandria, VA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hbalexandriava"/>
          <p:cNvPicPr/>
          <p:nvPr/>
        </p:nvPicPr>
        <p:blipFill>
          <a:blip r:embed="rId1"/>
          <a:stretch/>
        </p:blipFill>
        <p:spPr>
          <a:xfrm>
            <a:off x="457200" y="457200"/>
            <a:ext cx="4457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 Wyoming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hbwyoming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Jokerman"/>
              </a:rPr>
              <a:t>Yerkes </a:t>
            </a:r>
            <a:r>
              <a:rPr b="1" lang="en-US" sz="8000" spc="-1" strike="noStrike">
                <a:solidFill>
                  <a:srgbClr val="000000"/>
                </a:solidFill>
                <a:latin typeface="Jokerman"/>
              </a:rPr>
              <a:t>Observator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yerkes"/>
          <p:cNvPicPr/>
          <p:nvPr/>
        </p:nvPicPr>
        <p:blipFill>
          <a:blip r:embed="rId1"/>
          <a:stretch/>
        </p:blipFill>
        <p:spPr>
          <a:xfrm>
            <a:off x="228600" y="2362320"/>
            <a:ext cx="2946240" cy="4254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yerkes2"/>
          <p:cNvPicPr/>
          <p:nvPr/>
        </p:nvPicPr>
        <p:blipFill>
          <a:blip r:embed="rId2"/>
          <a:stretch/>
        </p:blipFill>
        <p:spPr>
          <a:xfrm>
            <a:off x="5562720" y="4572000"/>
            <a:ext cx="3246480" cy="203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yerkes3"/>
          <p:cNvPicPr/>
          <p:nvPr/>
        </p:nvPicPr>
        <p:blipFill>
          <a:blip r:embed="rId3"/>
          <a:stretch/>
        </p:blipFill>
        <p:spPr>
          <a:xfrm>
            <a:off x="3276720" y="2666880"/>
            <a:ext cx="3475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ts are balls of rock and ice, with trails of debris blown outward by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highly elliptical orbits and speed up as they approach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ajectories of observed object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be predicted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n asteroid (or comet) on a collision course with Earth is spotted early enough, it may be possible to alter the trajectory of the aste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1436760"/>
            <a:ext cx="6705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can asteroids and comets be seen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difference between a comet and an asteroid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can be done to protect us from asteroid impacts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76212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Threats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762120" y="990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762120" y="1436760"/>
            <a:ext cx="6705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can asteroids and comets be seen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difference between a comet and an asteroid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can be done to protect us from asteroid impacts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219320" y="1784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With telescopes,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ecause they reflect light from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19320" y="3216240"/>
            <a:ext cx="65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teroids are large rocks usually in orbit between Mars and Jupiter.  Comets are ice and rock found in very elliptical orbit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219320" y="5045040"/>
            <a:ext cx="550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tect them early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nd then alter their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6212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Threats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properties of a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steroids have affected Earth in the p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4"/>
          <a:stretch/>
        </p:blipFill>
        <p:spPr>
          <a:xfrm>
            <a:off x="324000" y="465300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5"/>
          <a:stretch/>
        </p:blipFill>
        <p:spPr>
          <a:xfrm>
            <a:off x="324000" y="5373720"/>
            <a:ext cx="5889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steroid Gaspra, found in the Asteroid Belt between Mars &amp; 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gaspra"/>
          <p:cNvPicPr/>
          <p:nvPr/>
        </p:nvPicPr>
        <p:blipFill>
          <a:blip r:embed="rId1"/>
          <a:stretch/>
        </p:blipFill>
        <p:spPr>
          <a:xfrm>
            <a:off x="4343400" y="304920"/>
            <a:ext cx="4548240" cy="60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eroid Ida with it’s moon Dact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idasmoondactyl"/>
          <p:cNvPicPr/>
          <p:nvPr/>
        </p:nvPicPr>
        <p:blipFill>
          <a:blip r:embed="rId1"/>
          <a:stretch/>
        </p:blipFill>
        <p:spPr>
          <a:xfrm>
            <a:off x="914400" y="1752480"/>
            <a:ext cx="7315200" cy="46483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4"/>
          <p:cNvSpPr/>
          <p:nvPr/>
        </p:nvSpPr>
        <p:spPr>
          <a:xfrm rot="1021200">
            <a:off x="7086240" y="259092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teroids are large rocks left over from the formation of the Solar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 mostly between the orbits of Mars and Jup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teroids (large rocks) have collide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he Earth in the past ca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rate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ejection of hot rock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idespread fi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unlight blocked by du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limat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pecies exti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llis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vidence for past collision on Earth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r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layers of unusual elements in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sudden changes of fossil number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between adjacent layers of r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50920" y="400320"/>
            <a:ext cx="8483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Asteroids are small ______________ which orbit the ______________, mainly between ______________ and ______________. Occasionally, a long time ago, ______________ are thought to have struck ______________, forming large ______________ and huge amounts of ______________ and ______________ vapour. An enormous asteroid is believed to have hit ______________ 65 ______________ years ago, leading to the ______________ of the ______________. ______________ could not penetrate the ______________ so ______________ fell, causing ______________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39640" y="4941720"/>
            <a:ext cx="792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steroid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tmospher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limat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ome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rate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inosau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ust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arth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xtinctio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Jupiter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eteo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illi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Neptun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ock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atur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nowball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nlight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mperature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water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203640" y="333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826920" y="692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5724360" y="692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826920" y="1052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755640" y="1484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611280" y="1844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5219640" y="1773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2627280" y="2205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5435640" y="2133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611280" y="28526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3564000" y="2924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1042920" y="3284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4500720" y="3284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nosa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539640" y="3645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6300720" y="3645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900000" y="4005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5076720" y="4005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9640" y="1557360"/>
            <a:ext cx="4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395280" y="4653000"/>
            <a:ext cx="5889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4:47:54Z</dcterms:created>
  <dc:creator>Heather Murphy</dc:creator>
  <dc:description/>
  <dc:language>en-US</dc:language>
  <cp:lastModifiedBy>RomaK</cp:lastModifiedBy>
  <dcterms:modified xsi:type="dcterms:W3CDTF">2015-08-01T07:07:34Z</dcterms:modified>
  <cp:revision>9</cp:revision>
  <dc:subject/>
  <dc:title>Threats to Earth</dc:title>
</cp:coreProperties>
</file>