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C372-EC9D-4BEA-AEF2-CC0816B0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earning objective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use to help 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tr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 standard protractor like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in the class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use a protractor, we need to line it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make sure the protractor is lined up cor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is ready to measure the ang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you right......................it was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the upside down ‘T’ in the middle of the straight line on your protract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needs to be exactly on the vertex of your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need to remember.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doesn’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roun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le is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n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ine the up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‘T’ to the ve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are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from the 0°, and follow the inn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reach 30° you need to be careful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hen need to look at the 1° markings on the outer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measu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ngle measures 35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, calculating and drawing angl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our learning objectives today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a protractor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cute and obtuse angles to the nearest degr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alculate angles on a straight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B8D-0E0D-484B-8775-7AB65685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35A-2745-4CD5-B5FD-056078A9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0A7-FE77-4A62-B116-91A80500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28B-F5C3-4E12-BCB6-E909BF49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ADA-50D5-4154-9152-94583CC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5A75-BCE2-4A2A-845A-EC62E867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4B2-518B-4655-8E72-D8817042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F58-97A5-4ABF-BE61-510FF095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8D19-5081-4263-A5A6-BC16244F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8C9-C8D0-4593-905E-3D199C0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1A61-4FE1-4528-9809-51C5D6B7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DDC-FF05-4CC9-BBCB-FDCB2BB7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5EA5-4D70-4C37-9203-6CE2A9BC5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Our learning objectives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375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825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What do we use to help 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2736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 protr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4" descr="Protractor"/>
          <p:cNvPicPr/>
          <p:nvPr/>
        </p:nvPicPr>
        <p:blipFill>
          <a:blip r:embed="rId1"/>
          <a:stretch/>
        </p:blipFill>
        <p:spPr>
          <a:xfrm>
            <a:off x="1547640" y="2133720"/>
            <a:ext cx="6048720" cy="331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801720" y="5589720"/>
            <a:ext cx="75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Here is a standard protractor like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use in the classro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When we use a protractor, we need to line it up correctl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5084280"/>
            <a:ext cx="727236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You need to make sure the protractor is lined up correct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this ready to measure the angl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Picture 4" descr="Protractor"/>
          <p:cNvPicPr/>
          <p:nvPr/>
        </p:nvPicPr>
        <p:blipFill>
          <a:blip r:embed="rId1"/>
          <a:stretch/>
        </p:blipFill>
        <p:spPr>
          <a:xfrm>
            <a:off x="2556000" y="278136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58" name="Line 5"/>
          <p:cNvSpPr/>
          <p:nvPr/>
        </p:nvSpPr>
        <p:spPr>
          <a:xfrm flipV="1">
            <a:off x="3348000" y="263664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6"/>
          <p:cNvSpPr/>
          <p:nvPr/>
        </p:nvSpPr>
        <p:spPr>
          <a:xfrm>
            <a:off x="3348000" y="472428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525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025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re you right......................it wasn’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50133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Look for the upside down ‘T’ in the middle of the straight line on your protract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needs to be exactly on the vertex of your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Picture 4" descr="Protractor"/>
          <p:cNvPicPr/>
          <p:nvPr/>
        </p:nvPicPr>
        <p:blipFill>
          <a:blip r:embed="rId1"/>
          <a:stretch/>
        </p:blipFill>
        <p:spPr>
          <a:xfrm>
            <a:off x="1258920" y="162864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3" name="Line 5"/>
          <p:cNvSpPr/>
          <p:nvPr/>
        </p:nvSpPr>
        <p:spPr>
          <a:xfrm flipV="1">
            <a:off x="3203640" y="148392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3203640" y="357336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2987640" y="3716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1975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00560" y="47628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e need to remember..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3" descr="Protractor"/>
          <p:cNvPicPr/>
          <p:nvPr/>
        </p:nvPicPr>
        <p:blipFill>
          <a:blip r:embed="rId1"/>
          <a:stretch/>
        </p:blipFill>
        <p:spPr>
          <a:xfrm rot="2578200">
            <a:off x="2700000" y="1844280"/>
            <a:ext cx="3960720" cy="217332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4067280" y="3502080"/>
            <a:ext cx="3600360" cy="503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5"/>
          <p:cNvSpPr/>
          <p:nvPr/>
        </p:nvSpPr>
        <p:spPr>
          <a:xfrm>
            <a:off x="4067280" y="3500280"/>
            <a:ext cx="2736720" cy="2592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6"/>
          <p:cNvSpPr/>
          <p:nvPr/>
        </p:nvSpPr>
        <p:spPr>
          <a:xfrm rot="2581200">
            <a:off x="341928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46400" y="2371680"/>
            <a:ext cx="3737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It doesn’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matter which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way round th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ngle is, y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ALWAYS ne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o line the ups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down ‘T’ to the ver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of the an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443640" y="162864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7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8775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275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ff00"/>
                </a:solidFill>
                <a:latin typeface="Comic Sans MS"/>
              </a:rPr>
              <a:t>Now you are ready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Read from the 0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, and follow the inn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76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4356000" y="40053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,-8,-8)"/>
                                          </p:val>
                                        </p:tav>
                                        <p:tav tm="50000">
                                          <p:val>
                                            <p:strVal val="rgb(96,-92,-8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1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Comic Sans MS"/>
              </a:rPr>
              <a:t>Once you reach 30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° you need to be careful!!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5300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You then need to look at the 1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 markings on the outer set of nu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2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82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ffff00"/>
                </a:solidFill>
                <a:latin typeface="Comic Sans MS"/>
              </a:rPr>
              <a:t>What does it measure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26920" y="46530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Comic Sans MS"/>
              </a:rPr>
              <a:t>This angle measures 35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4" descr="Protractor"/>
          <p:cNvPicPr/>
          <p:nvPr/>
        </p:nvPicPr>
        <p:blipFill>
          <a:blip r:embed="rId1"/>
          <a:stretch/>
        </p:blipFill>
        <p:spPr>
          <a:xfrm>
            <a:off x="1258920" y="1916280"/>
            <a:ext cx="3960720" cy="2172960"/>
          </a:xfrm>
          <a:prstGeom prst="rect">
            <a:avLst/>
          </a:prstGeom>
          <a:ln w="0">
            <a:noFill/>
          </a:ln>
        </p:spPr>
      </p:pic>
      <p:sp>
        <p:nvSpPr>
          <p:cNvPr id="88" name="Line 5"/>
          <p:cNvSpPr/>
          <p:nvPr/>
        </p:nvSpPr>
        <p:spPr>
          <a:xfrm flipV="1">
            <a:off x="3203640" y="1773000"/>
            <a:ext cx="2952720" cy="2089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203640" y="3860640"/>
            <a:ext cx="3673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 rot="16200000">
            <a:off x="5177520" y="23194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6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92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ffff00"/>
                </a:solidFill>
                <a:latin typeface="Comic Sans MS"/>
              </a:rPr>
              <a:t>Measuring, calculating and drawing angles..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Comic Sans MS"/>
              </a:rPr>
              <a:t>Remember our learning objectives today 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use a protractor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measure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draw acute and obtuse angles to the nearest degre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ff"/>
                </a:solidFill>
                <a:latin typeface="Comic Sans MS"/>
              </a:rPr>
              <a:t>To calculate angles on a straight l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Picture 4" descr="MCj03404080000[1]"/>
          <p:cNvPicPr/>
          <p:nvPr/>
        </p:nvPicPr>
        <p:blipFill>
          <a:blip r:embed="rId1"/>
          <a:stretch/>
        </p:blipFill>
        <p:spPr>
          <a:xfrm rot="1230000">
            <a:off x="1403280" y="5157720"/>
            <a:ext cx="280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775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65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3875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635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3T18:14:05Z</dcterms:created>
  <dc:creator>dan</dc:creator>
  <dc:description/>
  <dc:language>en-US</dc:language>
  <cp:lastModifiedBy>RomaK</cp:lastModifiedBy>
  <dcterms:modified xsi:type="dcterms:W3CDTF">2015-09-04T09:18:15Z</dcterms:modified>
  <cp:revision>5</cp:revision>
  <dc:subject/>
  <dc:title>Measuring, calculating and drawing angles...</dc:title>
</cp:coreProperties>
</file>