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65F8-77FD-441F-A009-F012A8FD5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585-C7E7-406F-8608-7DB1C591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925-0B29-4FA0-89C7-7D94B036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2EB-60F8-463C-8F85-52B21046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6CD-506F-4AF1-BA57-2711E0CB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E5E9-698C-458F-BC60-A8CDB04F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9DA-0103-409F-A1B9-0DB62EB1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FB2-0DA6-469A-8001-01E7DC2F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008-FA82-439F-839D-3379C6D9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076-DA14-43A4-B9F8-E4257BBA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FE5-9949-43A3-A0E8-A90D31A4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6D1-77EA-4EE0-B56F-A2EF257A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DAF4-52E6-486C-8968-01F29D64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3405-E762-48F5-ADD6-CA7A19E12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Our learning objectives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3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8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What do we use to help 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2736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 protr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4" descr="Protractor"/>
          <p:cNvPicPr/>
          <p:nvPr/>
        </p:nvPicPr>
        <p:blipFill>
          <a:blip r:embed="rId1"/>
          <a:stretch/>
        </p:blipFill>
        <p:spPr>
          <a:xfrm>
            <a:off x="1547640" y="2133720"/>
            <a:ext cx="6048720" cy="3317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801720" y="5589720"/>
            <a:ext cx="75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Here is a standard protractor like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use in the class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When we use a protractor, we need to line it up correctl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5084280"/>
            <a:ext cx="7272360" cy="12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u need to make sure the protractor is lined up correct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s this ready to measure the ang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4" descr="Protractor"/>
          <p:cNvPicPr/>
          <p:nvPr/>
        </p:nvPicPr>
        <p:blipFill>
          <a:blip r:embed="rId1"/>
          <a:stretch/>
        </p:blipFill>
        <p:spPr>
          <a:xfrm>
            <a:off x="2556000" y="278136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58" name="Line 5"/>
          <p:cNvSpPr/>
          <p:nvPr/>
        </p:nvSpPr>
        <p:spPr>
          <a:xfrm flipV="1">
            <a:off x="3348000" y="263664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348000" y="472428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re you right......................it wasn’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50133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Look for the upside down ‘T’ in the middle of the straight line on your protracto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needs to be exactly on the vertex of your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Protractor"/>
          <p:cNvPicPr/>
          <p:nvPr/>
        </p:nvPicPr>
        <p:blipFill>
          <a:blip r:embed="rId1"/>
          <a:stretch/>
        </p:blipFill>
        <p:spPr>
          <a:xfrm>
            <a:off x="1258920" y="162864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3" name="Line 5"/>
          <p:cNvSpPr/>
          <p:nvPr/>
        </p:nvSpPr>
        <p:spPr>
          <a:xfrm flipV="1">
            <a:off x="3203640" y="148392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203640" y="357336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987640" y="3716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975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00560" y="47628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 need to remember..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3" descr="Protractor"/>
          <p:cNvPicPr/>
          <p:nvPr/>
        </p:nvPicPr>
        <p:blipFill>
          <a:blip r:embed="rId1"/>
          <a:stretch/>
        </p:blipFill>
        <p:spPr>
          <a:xfrm rot="2578200">
            <a:off x="2700000" y="184428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4067280" y="3502080"/>
            <a:ext cx="3600360" cy="50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067280" y="3500280"/>
            <a:ext cx="2736720" cy="259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6"/>
          <p:cNvSpPr/>
          <p:nvPr/>
        </p:nvSpPr>
        <p:spPr>
          <a:xfrm rot="2581200">
            <a:off x="3419280" y="3500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46400" y="2371680"/>
            <a:ext cx="3737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It doesn’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atter 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way round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ngle is,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LWAYS ne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o line the up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down ‘T’ to the ver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of the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443640" y="162864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275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Now you are ready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Read from the 0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, and follow the inn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76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4356000" y="4005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Comic Sans MS"/>
              </a:rPr>
              <a:t>Once you reach 30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° you need to be careful!!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You then need to look at the 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 markings on the out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2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8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hat does it measure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465300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angle measures 35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6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925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Remember our learning objectives today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387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635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8:14:05Z</dcterms:created>
  <dc:creator>dan</dc:creator>
  <dc:description/>
  <dc:language>en-US</dc:language>
  <cp:lastModifiedBy>RomaK</cp:lastModifiedBy>
  <dcterms:modified xsi:type="dcterms:W3CDTF">2015-09-04T09:18:15Z</dcterms:modified>
  <cp:revision>5</cp:revision>
  <dc:subject/>
  <dc:title>Measuring, calculating and drawing angles...</dc:title>
</cp:coreProperties>
</file>