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51B3-8B6E-4CEA-82F1-13424E4DC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r learning objectives tod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earning objectives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 we use to help u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rotra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e is a standard protractor like you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 in the classro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use to help 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tr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a standard protractor like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in the class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we use a protractor, we need to line it up cor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need to make sure the protractor is lined up cor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this ready to measure the angl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use a protractor, we need to line it up cor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make sure the protractor is lined up cor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is ready to measure the ang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re you right......................it wasn’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ok for the upside down ‘T’ in the middle of the straight line on your protractor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needs to be exactly on the vertex of your 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you right......................it was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the upside down ‘T’ in the middle of the straight line on your protract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needs to be exactly on the vertex of your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need to remember..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doesn’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ter whic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y round th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le is, you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WAYS ne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line the up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wn ‘T’ to the vert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the 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remember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doesn’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 rou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le is,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ne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ine the up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‘T’ to the ve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w you are rea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d from the 0°, and follow the inner set of numb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are rea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from the 0°, and follow the inner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ce you reach 30° you need to be careful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then need to look at the 1° markings on the outer set of numb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reach 30° you need to be careful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then need to look at the 1° markings on the outer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es it measu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ngle measures 35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it meas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gle measures 35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ember our learning objectives today 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our learning objectives today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2D42-32B7-48B1-9B0F-4E5CD646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B19-CFD5-4DF6-B2B7-97CA2EF5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EC10-702B-4FC7-B54D-99B5670E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F072-1207-4E0E-A728-20792B9C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72C5-2C28-4360-A4B0-8306DD7A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B683-59B5-4BF6-9AFA-20E16978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B77E-437D-44DE-A736-000C6A89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9686-C6DE-4524-9051-C64F8D9A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290D-2642-4FE9-A3F9-B4389AF6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3EF3-BD83-43DF-B1DB-F5F3D5F2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B880-32BC-4533-B2C3-8501A239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1F16-0C32-4E04-9278-A61E76C2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8476-FD7E-4ECB-A7BB-D1E8159A00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Measuring, calculating and drawing angles..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Comic Sans MS"/>
              </a:rPr>
              <a:t>Our learning objectives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use a protractor t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measure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draw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calculate angles on a straight 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4" descr="MCj03404080000[1]"/>
          <p:cNvPicPr/>
          <p:nvPr/>
        </p:nvPicPr>
        <p:blipFill>
          <a:blip r:embed="rId1"/>
          <a:stretch/>
        </p:blipFill>
        <p:spPr>
          <a:xfrm rot="1230000">
            <a:off x="1403280" y="5157720"/>
            <a:ext cx="2806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375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825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305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525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ff00"/>
                </a:solidFill>
                <a:latin typeface="Comic Sans MS"/>
              </a:rPr>
              <a:t>What do we use to help 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2736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 protra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4" descr="Protractor"/>
          <p:cNvPicPr/>
          <p:nvPr/>
        </p:nvPicPr>
        <p:blipFill>
          <a:blip r:embed="rId1"/>
          <a:stretch/>
        </p:blipFill>
        <p:spPr>
          <a:xfrm>
            <a:off x="1547640" y="2133720"/>
            <a:ext cx="6048720" cy="33177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801720" y="5589720"/>
            <a:ext cx="75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Here is a standard protractor like y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use in the classro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When we use a protractor, we need to line it up correctly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5084280"/>
            <a:ext cx="7272360" cy="12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ou need to make sure the protractor is lined up correct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s this ready to measure the ang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4" descr="Protractor"/>
          <p:cNvPicPr/>
          <p:nvPr/>
        </p:nvPicPr>
        <p:blipFill>
          <a:blip r:embed="rId1"/>
          <a:stretch/>
        </p:blipFill>
        <p:spPr>
          <a:xfrm>
            <a:off x="2556000" y="278136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58" name="Line 5"/>
          <p:cNvSpPr/>
          <p:nvPr/>
        </p:nvSpPr>
        <p:spPr>
          <a:xfrm flipV="1">
            <a:off x="3348000" y="263664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348000" y="472428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525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025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ere you right......................it wasn’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501336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Look for the upside down ‘T’ in the middle of the straight line on your protractor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his needs to be exactly on the vertex of your an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4" descr="Protractor"/>
          <p:cNvPicPr/>
          <p:nvPr/>
        </p:nvPicPr>
        <p:blipFill>
          <a:blip r:embed="rId1"/>
          <a:stretch/>
        </p:blipFill>
        <p:spPr>
          <a:xfrm>
            <a:off x="1258920" y="162864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63" name="Line 5"/>
          <p:cNvSpPr/>
          <p:nvPr/>
        </p:nvSpPr>
        <p:spPr>
          <a:xfrm flipV="1">
            <a:off x="3203640" y="148392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203640" y="357336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2987640" y="3716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1975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00560" y="47628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e need to remember..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3" descr="Protractor"/>
          <p:cNvPicPr/>
          <p:nvPr/>
        </p:nvPicPr>
        <p:blipFill>
          <a:blip r:embed="rId1"/>
          <a:stretch/>
        </p:blipFill>
        <p:spPr>
          <a:xfrm rot="2578200">
            <a:off x="2700000" y="184428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68" name="Line 4"/>
          <p:cNvSpPr/>
          <p:nvPr/>
        </p:nvSpPr>
        <p:spPr>
          <a:xfrm>
            <a:off x="4067280" y="3502080"/>
            <a:ext cx="3600360" cy="503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>
            <a:off x="4067280" y="3500280"/>
            <a:ext cx="2736720" cy="2592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6"/>
          <p:cNvSpPr/>
          <p:nvPr/>
        </p:nvSpPr>
        <p:spPr>
          <a:xfrm rot="2581200">
            <a:off x="3419280" y="3500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46400" y="2371680"/>
            <a:ext cx="3737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It doesn’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matter whi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way round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ngle is, y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LWAYS ne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o line the up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down ‘T’ to the vert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of the an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6443640" y="162864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75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8775"/>
                            </p:stCondLst>
                            <p:childTnLst>
                              <p:par>
                                <p:cTn id="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275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ff00"/>
                </a:solidFill>
                <a:latin typeface="Comic Sans MS"/>
              </a:rPr>
              <a:t>Now you are ready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53006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Read from the 0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, and follow the inner set of numb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76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4356000" y="400536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,-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96,-92,-8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,-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96,-92,-8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650"/>
                            </p:stCondLst>
                            <p:childTnLst>
                              <p:par>
                                <p:cTn id="1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Comic Sans MS"/>
              </a:rPr>
              <a:t>Once you reach 30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° you need to be careful!!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53006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You then need to look at the 1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 markings on the outer set of numb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82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7"/>
          <p:cNvSpPr/>
          <p:nvPr/>
        </p:nvSpPr>
        <p:spPr>
          <a:xfrm rot="16200000">
            <a:off x="5177520" y="23194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82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hat does it measure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920" y="465300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his angle measures 35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88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 rot="16200000">
            <a:off x="5177520" y="23194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6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8925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Measuring, calculating and drawing angles..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Comic Sans MS"/>
              </a:rPr>
              <a:t>Remember our learning objectives today 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use a protractor t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measure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draw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calculate angles on a straight 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4" descr="MCj03404080000[1]"/>
          <p:cNvPicPr/>
          <p:nvPr/>
        </p:nvPicPr>
        <p:blipFill>
          <a:blip r:embed="rId1"/>
          <a:stretch/>
        </p:blipFill>
        <p:spPr>
          <a:xfrm rot="1230000">
            <a:off x="1403280" y="5157720"/>
            <a:ext cx="2806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775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65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3875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635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8:14:05Z</dcterms:created>
  <dc:creator>dan</dc:creator>
  <dc:description/>
  <dc:language>en-US</dc:language>
  <cp:lastModifiedBy>RomaK</cp:lastModifiedBy>
  <dcterms:modified xsi:type="dcterms:W3CDTF">2015-09-04T09:18:15Z</dcterms:modified>
  <cp:revision>5</cp:revision>
  <dc:subject/>
  <dc:title>Measuring, calculating and drawing angles...</dc:title>
</cp:coreProperties>
</file>