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lause.wav" ContentType="audio/x-wav"/>
  <Override PartName="/ppt/media/image2.png" ContentType="image/png"/>
  <Override PartName="/ppt/media/breeze.wav" ContentType="audio/x-wav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872D-CF78-4130-A42F-9B3507066D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THAGORAS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sum of the bases times the altitud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fore, simplifications yield a2+ 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following calc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(a + b)2 = ½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2 = (ab + ab + c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+ 2ab = 2ab +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b2 = c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+ 42=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49 -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5.7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32 - 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169 -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122 +1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=144+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17.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2  + 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 81  + 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 +  s2  = 1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2 =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 =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202  + 35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400 + 1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 = 16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40.3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7D7-D047-49AD-9E62-1971A21B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EAD-AB76-45B1-8322-6DF915CE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BEE-08AB-4386-9ECD-BF183475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EFF-59E6-4A31-9334-F62B8002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EEC-E1A9-4030-ABD8-1F048BF7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893-9320-40FD-B54B-902A917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481-DFCF-476E-8C67-0E6595AD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297-B406-4AB4-B034-F3806FF2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1F6-C676-4B2A-9F4E-986528D1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E9B-C10A-49A5-9307-7F4DF1C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C0D-3C31-439E-9936-9155C3BA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A31-0881-4B6F-92D8-8BA308CA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7108-5B17-4774-AD0D-7FA3C18E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724280" y="1066680"/>
            <a:ext cx="358164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YTHAGORAS'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OREM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27636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 rot="5400000">
            <a:off x="2019240" y="571320"/>
            <a:ext cx="5257800" cy="5486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THANK YOU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121" name="Picture 5" descr="MCj04359890000[1]"/>
          <p:cNvPicPr/>
          <p:nvPr/>
        </p:nvPicPr>
        <p:blipFill>
          <a:blip r:embed="rId1"/>
          <a:stretch/>
        </p:blipFill>
        <p:spPr>
          <a:xfrm>
            <a:off x="3429000" y="762120"/>
            <a:ext cx="21337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502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828360" y="304560"/>
            <a:ext cx="763164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of was discovered by President J.A. Garfield in 18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proof41"/>
          <p:cNvPicPr/>
          <p:nvPr/>
        </p:nvPicPr>
        <p:blipFill>
          <a:blip r:embed="rId2"/>
          <a:stretch/>
        </p:blipFill>
        <p:spPr>
          <a:xfrm>
            <a:off x="533520" y="144792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819520" y="121788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is the formula for the area of a trapezoid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alf sum of the bases times the al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 * (a+b) * (a+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the picture another way, th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computed 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of areas of the three triangles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*a*b + ½*a*b + ½*c*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before, simplifications yield 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276720" y="37501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re is the following calc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(a + b) = ½ab + ½ab + ½c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½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½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(ab + ab + c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2ab = 2ab +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745200" y="4176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Find the unknown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5400000">
            <a:off x="1523520" y="990360"/>
            <a:ext cx="1218960" cy="2133720"/>
          </a:xfrm>
          <a:prstGeom prst="rtTriangl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738440" y="102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2043360" y="2093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48080" y="178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993240" y="3124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1075320" y="351648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132200" y="38466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9 -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585440" y="41511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 = 5.7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5562720" y="1295280"/>
            <a:ext cx="2438280" cy="14479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6781680" y="1295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H="1">
            <a:off x="67053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62485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5929200" y="171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377840" y="1690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7162920" y="281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7072560" y="27036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5320800" y="30844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775480" y="335268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5861880" y="36939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9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6"/>
          <p:cNvSpPr/>
          <p:nvPr/>
        </p:nvSpPr>
        <p:spPr>
          <a:xfrm>
            <a:off x="5874120" y="4038480"/>
            <a:ext cx="10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5928840" y="43038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5396040" y="46083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ve for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0"/>
          <p:cNvSpPr/>
          <p:nvPr/>
        </p:nvSpPr>
        <p:spPr>
          <a:xfrm>
            <a:off x="6080400" y="4989600"/>
            <a:ext cx="15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1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6164640" y="5294160"/>
            <a:ext cx="14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44+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6239880" y="5599080"/>
            <a:ext cx="10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3"/>
          <p:cNvSpPr/>
          <p:nvPr/>
        </p:nvSpPr>
        <p:spPr>
          <a:xfrm>
            <a:off x="6326280" y="59436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= 17.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93280" y="316080"/>
            <a:ext cx="239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93640" y="107784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length of a diagonal of a rect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ength 9 cm and width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905120" y="2286000"/>
            <a:ext cx="34290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5120" y="2286000"/>
            <a:ext cx="3429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320080" y="2703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262680" y="3465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050840" y="399888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49800" y="4332240"/>
            <a:ext cx="206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459440" y="474984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 81  +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460160" y="52578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525680" y="5638680"/>
            <a:ext cx="22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 = 9.8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57200" y="3808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quare has diagonals of length 10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sides of the 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1676520"/>
            <a:ext cx="1828800" cy="17524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600200" y="16765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555200" y="3886200"/>
            <a:ext cx="24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 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129040" y="433224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499840" y="4789440"/>
            <a:ext cx="228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= 7.07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MCj04247540000[1]"/>
          <p:cNvPicPr/>
          <p:nvPr/>
        </p:nvPicPr>
        <p:blipFill>
          <a:blip r:embed="rId1"/>
          <a:stretch/>
        </p:blipFill>
        <p:spPr>
          <a:xfrm>
            <a:off x="5105520" y="3809880"/>
            <a:ext cx="2562120" cy="24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609480" y="4572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ip sails 20 km due North and then 35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East.  How far is it from its starting poi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MCj04118680000[1]"/>
          <p:cNvPicPr/>
          <p:nvPr/>
        </p:nvPicPr>
        <p:blipFill>
          <a:blip r:embed="rId1"/>
          <a:stretch/>
        </p:blipFill>
        <p:spPr>
          <a:xfrm>
            <a:off x="1371600" y="47242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V="1">
            <a:off x="2209680" y="30477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0968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2209680" y="3048120"/>
            <a:ext cx="22860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45008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34080" y="2627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414600" y="384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22096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549400" y="2475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093000" y="2982960"/>
            <a:ext cx="18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3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6163560" y="33130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00 + 1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6170400" y="361800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233760" y="40021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0.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21280" y="36972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57200" y="114300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4 m ladder rests against a vertica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ts foot 2 m from the wall.  How fa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ll does the ladder r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Find the length of a diagonal of a rectangular box of length 12 cm, width 5 cm and height 4 c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2514600" y="4267080"/>
            <a:ext cx="39625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28954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4114800" y="1903680"/>
            <a:ext cx="470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better wither to be silent, or to say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ore value than sil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oner throw a pearl at haz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n an idle or useless wo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do not say a little in 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s, but a great deal in a few.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Pythag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5:59:10Z</dcterms:created>
  <dc:creator>APG</dc:creator>
  <dc:description/>
  <dc:language>en-US</dc:language>
  <cp:lastModifiedBy>RomaK</cp:lastModifiedBy>
  <dcterms:modified xsi:type="dcterms:W3CDTF">2015-09-04T09:18:29Z</dcterms:modified>
  <cp:revision>8</cp:revision>
  <dc:subject/>
  <dc:title>Pythagoras theorem</dc:title>
</cp:coreProperties>
</file>