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13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06B165-C411-4453-AD39-AE74BC20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VMS Library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legs are from home to first and from first to sec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:        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2  =  902 + 902 = 16,20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 = 127.28 ft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gs are from home to first and from first to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 =  902 + 902 = 16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high is the window? 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igh is the window?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draw a diagram that shows the sides of the right triangl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bel the sides: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is 25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 is 7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 a2 + b2 = c2 to solve for the missing sid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: 7 meter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sid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is 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 is 7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2 + b2 = c2 to solve for the missing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72 + b2 = 25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49 + b2 = 625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2 = 576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did you do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b2 =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 + b2 =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= 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24 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ived in southern Italy during the sixth century B.C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idered the first true mathematicia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d mathematics as a means to understand the natural world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in southern Italy during the sixth century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the first true mathematic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thematics as a means to understand the natur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ongest side is the hypotenuse, side c (opposite the 90o angle)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other two sides are the legs, sides a and b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st side is the hypotenuse, side c (opposite the 90o 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wo sides are the legs, sides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baseball “diamond” is really a squa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distance between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ecutive bases is 9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eet. How far does a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atcher have to throw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ball from home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late to second ba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 is the hypotenu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s are the legs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Now use: 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use: 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778-1C25-453F-97F1-FDD598F6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D35-93FA-4775-AE04-13B23414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D9950-7F1E-475F-B968-9B635AC1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6CB42-2D50-4685-ADA6-47EE88D6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F63F3-6EE3-48C1-807E-7A0A739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E7F9A-826F-4A8A-B78C-AC04A6F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3C95F-BB3D-49C7-9D19-00DCBE8D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4BF71-E9CA-4550-9940-FE0305BC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146CF-9155-4A4F-A936-A58275E2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ED389-A7C6-4BD3-92C3-09EAF491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BF010-D13D-4A65-9CC9-49B7CC89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7D996-771F-468A-BC8C-DFF37228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DAB-913F-47B3-AB5B-498D43F3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2D2EC-AB31-4DBD-883D-719C26B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34A3B-5A72-4B58-93D6-4206F88C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40C38-4D43-4AA0-92C4-0591AF23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0E59D-5B92-4820-B292-6650D062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81B16-00C1-4AAB-9EE9-94B97C4E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E85B9-14CB-4CC8-8EF0-082D73B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FBF8B-EDC1-40F0-9D8D-9ECBE8A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C30BA-D7FE-493A-94ED-24520096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DFB47-D2DB-404D-817D-4FBEFB52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E66BC-EF69-4DAE-930E-6CC5D47E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415-0CC3-4388-BB4E-917E2C2A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D8625-A518-47C8-A841-BCFDF020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002E2-5698-4794-88D9-2849935A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AFBF3-08F1-4B39-AF80-6E7C3A1D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D40A9-4130-4135-BA26-A0A910C2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7D5E7-8891-48D8-A06B-52F01BDE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D4EC2-2394-4FC7-BBAF-A5139900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0B20B-C897-497C-BE2B-70164DE0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81FCF-DCE7-4EB9-9DD9-42F51BB3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EEA2B-9C44-4D57-9EE3-BA98E582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61299-72C9-4570-8A41-BE557FA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C94C-DB60-4DE4-BA1A-19C3F94B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5B70F-79F2-423D-8BD8-D189CDBB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64AE0-7B7A-4ABF-8425-AC876295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5D733-03B3-44E6-BACD-419A65CA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880CA-344C-485A-AF04-7C86ADD0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41170-13D7-4186-B3D6-E1E0260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A9008-69E1-490C-9187-C5DAE4C1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A4C4B-E1F6-4B6D-B0B5-D8D8541E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54C31-8959-4128-B7E3-94E34EB0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B97AA-5165-4A59-B7EE-8818A0B5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897D2-2037-4D77-84CA-B7A04667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0DBC-EAB1-4571-BE3B-8DD766F5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2820E-816B-4A3C-8010-7A7D5B0A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A12FC-FA88-47C5-A206-6B03DD75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45579-15DA-4D9E-81ED-20A42CB6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B1C60-8DD9-422F-ADE7-EF4D0477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CD124-58B5-40F4-821E-05D325C2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472FA-13A8-4125-B84A-41B317B7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E415F-89E0-41BD-9950-87491F30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061D7-EADE-4B48-AF70-EC50BA1C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C5CFD-BD1C-4083-ADA3-9E212F63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E0BFF-5E4F-449C-A7AD-8755CA84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DDE4-1666-44B4-8534-D95B4D46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A1E0E-98A2-4BF2-9AB3-9ED8361E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73A0F-4E40-4F89-BA9E-11246EC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1A277-9B6A-437B-BE56-F6A18B0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69329-E2B2-4832-8BDB-DE969F84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303DF-8071-4F23-A122-44C40F2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2F67A-758F-4C81-A6EE-BC982C6B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7B964-1657-400E-8D53-AA975456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AFA-16EC-4703-BEB9-1EA1CFB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4905-79B0-4D25-8BEE-FFCF1D44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6B47-4D9F-4F6C-89CB-B5B3EE96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B6B3-5AD4-4AEE-8126-2CADC1E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339-CEAA-41C2-BB73-DEE3B8D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BB50-91D8-458B-9590-5153A6E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B41A-06B1-49E9-9899-72EB2AE5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259B-EFDF-4F52-B858-AE7EFDE7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2A90-0A4C-4949-98CB-711B4909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7594-025A-492A-844A-A3D386FB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A264-557E-446D-8E06-BF314AB7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A356-AF1F-4667-A704-C63558C2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63DD-5913-4094-8D3C-20552111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3947-8933-4248-968D-E891C33C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147F-867B-43CE-BC5A-A122D860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411-A7E4-48A3-A4D5-3C8C26E3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BD08-FE4E-4626-963D-31407088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E139-6F22-4FED-95DF-09AA3FA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3D90-1CC3-4AB5-906A-D9E87A7E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4134-B55D-404A-813B-9D497C4E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E28B-693D-4800-943E-02C5935B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BCC2-8626-4D0A-ABCB-DFEA5CA0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1B2C-8174-43C5-8B97-EAF39210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2A05-5C99-4DF2-B2B8-B7944881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ED01-FB09-448A-952B-E5CF304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FEA5-F4E9-4B0D-B715-DB8AB939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7ED-F10B-4AFF-B668-C2814CCF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3BD1-D849-4D20-A4E6-1F69C281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AF3E-6690-4F10-A903-41EB555D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4F0F-C122-4330-B846-76F107BB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39481-1FF6-4951-B595-E10BAD8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444D-EBE3-444D-B148-51107EB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B96A-3811-4A82-B5B0-B77279D5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800F-F115-4176-B029-37E12496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69B3-EFFE-425E-91D3-1F0CBE73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B4CE-50DA-489E-B2B2-D3BA7792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168B3-F72E-4ACB-B58D-1CA5A037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14E-5B95-4A1E-AF9A-6201F65B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01ABC-B4D1-440A-A614-508F0726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C6C0E-BAC7-44AC-BA85-E613C7B2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85E1-2E8A-4C3A-AC93-477C5BE5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4964-F78B-49CD-A6F8-CFB34AA6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7CA9-FEE7-4F8C-897E-2CA3ED35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9241E-B7A2-4955-AEFC-71602E29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CF756-25F1-4960-9787-4485524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06B6-6183-4EDC-A6F5-50FD6C89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816FC-9B8D-4935-B9FE-F0044639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FA469-1427-4F27-8362-792F0846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F86-CFAE-4CC6-885A-4869A8EB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824C-7748-4836-9D63-066C8F5C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DBB4E-CD12-44C5-AEE1-79BECA77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1161F-4BE7-4044-A2F9-ACE6CA47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1B501-B914-43F6-9D8B-FF815B76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4B390-532E-4F54-B71B-9ECD24C2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9A3E-B452-4AF1-9BDF-110F8186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C4D58-08A8-45AE-8E35-72564047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C646F-90DD-40FC-8682-D6A60F73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6EE91-E952-4872-A042-160D553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00848-AC88-49B7-8BB3-8CF37DF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563-3813-430F-8B32-C8D9E3D8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EEF6B-3ADE-4B79-8B01-CAB72C52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5422D-8358-4E26-8A1B-46F1AD79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63CED-4463-427E-BDCA-B1D0D1C7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AD081-6404-4E9F-943E-244F3CB1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B2D3-A017-4139-A198-00CD5310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D2EDD-9758-4699-A7A1-9AF0CF02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67DE7-A0A3-48A8-94E2-B2C9FE73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C9F18-6B4E-4370-8489-B852F754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7DE6-C89C-4B94-9907-CAA1B725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F78E8-1903-447C-9B16-76E716B6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97D-C68C-4CC5-BFA9-F46373BD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40B70-199A-4A1F-8938-A837959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F26EE-09DA-4EAA-A899-CB95684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EBE0F-0996-4B94-A6F4-76B85D54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49DBA-C127-4A4A-A71C-CC92E9E9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0C0C6-BCDF-41C6-9821-D7DE95F2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B1AE9-2FE5-4D1D-944F-F0D223B7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AB3EC-2882-4B74-ADBE-CE76418C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7DCB7-522E-4E0E-8434-E1B06583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B1884-078C-4BA7-9757-0903F9C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1711-2760-4D98-A198-0BCCE66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3BF-534F-4EFE-B017-8683A48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2F38-CFE4-49F5-B500-C2693CC1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A7B7-C68E-499C-ACAD-7061DD65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F0B0-2527-4001-83D7-4E1C8D8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FF60C-B7B6-4FB5-8BB7-091FAF95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73AD8-AF79-4AD3-9DCB-8C5FDDEE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7F60-E72A-42D6-A7DE-0C44D78E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7CFBE-E3A0-4C4D-BA09-54A1FE73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D1274-361B-4942-8198-21CE8039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F936A-E805-4BCB-91FC-9DD549F9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4CE85-EE8A-4873-9AF0-1FCBA80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AD18-5117-4A79-AE2D-5CE43ED3FF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86ED-76B5-4EFC-9242-A45E5D2A5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971D-DC23-44BA-8102-56CA7A74D8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7ABA-98B0-4982-BBF4-85FBEB21B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E4D2-0292-447F-818F-F870E624D6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C92-7288-4000-B3C3-6553263F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23F8-7332-471C-94F9-35CC409931C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55B0-91F0-46D3-845D-BD1BEA3ED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A9C4-D531-4AF8-B275-8FECA0F1A3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3A8C-01D2-46C5-B07B-B39C510BE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5B3E-FA05-474F-8F1F-9E3C7BA1994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1994-34DD-4DD4-A3CA-B2B5970D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6A58-6C04-4B14-821F-6AAEC8F422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F7B2-8A1F-4B67-BC78-342F97366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955-E8E9-403E-8E62-849BB40EB0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4FC5-774A-4988-B08B-ADD0AA93E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4A72-24C2-4F79-8615-ADE7036A4D8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7D44-4A2F-4738-A096-6CA01A6CD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CDCD-8603-40FE-A8B8-BB3F53467E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0CCC-6679-4B4B-AF5F-E47433EF8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A399-F456-4130-B19C-AC51461C06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D549-8B08-418B-A8BD-85F358CC1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4C2A-0167-4A97-BB46-3AE3DD0259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D000-DADA-40F2-8752-E6CF34514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D81D-FBBB-4A95-B026-D525565E67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6001-BD0C-47A3-AF03-3227D2366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r. Clutt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MS Library</a:t>
            </a:r>
            <a:endParaRPr b="0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54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ypotenu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s the distance from home to second, or side x in the pictur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g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e from home to first and from first to secon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lution:        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16,20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127.28 f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8" name="Picture 5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5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high is the window?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1" name="Picture 8" descr="house"/>
          <p:cNvPicPr/>
          <p:nvPr/>
        </p:nvPicPr>
        <p:blipFill>
          <a:blip r:embed="rId2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72" name="file.mid" descr=""/>
          <p:cNvPicPr/>
          <p:nvPr/>
        </p:nvPicPr>
        <p:blipFill>
          <a:blip r:embed="rId3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5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draw a diagram that shows the sides of the right triangl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el the sides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25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7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 solve for the missing sid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5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/>
            <a:ahLst/>
            <a:rect l="l" t="t" r="r" b="b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/>
            <a:ahLst/>
            <a:rect l="l" t="t" r="r" b="b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4213440" y="5573880"/>
            <a:ext cx="440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house: 7 meters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8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/>
            <a:ahLst/>
            <a:rect l="l" t="t" r="r" b="b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5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625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576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ow did you do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5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d in southern Italy during the sixth century B.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idered the first true mathematicia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d mathematics as a means to understand the natural worl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to teach that the earth was a sphere that revolves around the su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4" name="Picture 6" descr="Pythagoraspainting"/>
          <p:cNvPicPr/>
          <p:nvPr/>
        </p:nvPicPr>
        <p:blipFill>
          <a:blip r:embed="rId2"/>
          <a:stretch/>
        </p:blipFill>
        <p:spPr>
          <a:xfrm>
            <a:off x="4724280" y="1523880"/>
            <a:ext cx="3810240" cy="419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5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ngest side is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hypotenuse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opposite the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gle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other two sides are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egs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ythagoras developed a formula for finding the length of the sides of any </a:t>
            </a:r>
            <a:r>
              <a:rPr b="0" i="1" lang="en-US" sz="2400" spc="-1" strike="noStrike">
                <a:solidFill>
                  <a:srgbClr val="ff6600"/>
                </a:solidFill>
                <a:latin typeface="Comic Sans MS"/>
              </a:rPr>
              <a:t>righ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iangl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7" name="Picture 7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335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5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ff66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+ b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= c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0" name="Picture 15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5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3" name="Picture 4" descr="pythprf"/>
          <p:cNvPicPr/>
          <p:nvPr/>
        </p:nvPicPr>
        <p:blipFill>
          <a:blip r:embed="rId2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baseball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baseball “diamond” is really a squar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9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istance between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cutive bases is 9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t. How far does a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tcher have to thro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ball from home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late to second ba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2" name="Picture 9" descr="baball1"/>
          <p:cNvPicPr/>
          <p:nvPr/>
        </p:nvPicPr>
        <p:blipFill>
          <a:blip r:embed="rId2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 is the hypotenu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s are the legs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5" name="Picture 4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5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6:13:07Z</dcterms:created>
  <dc:creator>Mr. Clutter</dc:creator>
  <dc:description/>
  <dc:language>en-US</dc:language>
  <cp:lastModifiedBy>RomaK</cp:lastModifiedBy>
  <cp:lastPrinted>2000-06-22T06:41:35Z</cp:lastPrinted>
  <dcterms:modified xsi:type="dcterms:W3CDTF">2015-09-04T09:19:11Z</dcterms:modified>
  <cp:revision>39</cp:revision>
  <dc:subject/>
  <dc:title>Pythagorean Theorem</dc:title>
</cp:coreProperties>
</file>