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47.wmf" ContentType="image/x-wmf"/>
  <Override PartName="/ppt/media/image10.wmf" ContentType="image/x-wmf"/>
  <Override PartName="/ppt/media/image2.png" ContentType="image/png"/>
  <Override PartName="/ppt/media/image50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8.wmf" ContentType="image/x-wmf"/>
  <Override PartName="/ppt/media/image60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6.jpeg" ContentType="image/jpeg"/>
  <Override PartName="/ppt/media/image58.wmf" ContentType="image/x-wmf"/>
  <Override PartName="/ppt/media/image22.wmf" ContentType="image/x-wmf"/>
  <Override PartName="/ppt/media/image59.wmf" ContentType="image/x-wmf"/>
  <Override PartName="/ppt/media/image65.wmf" ContentType="image/x-wmf"/>
  <Override PartName="/ppt/media/image66.wmf" ContentType="image/x-wmf"/>
  <Override PartName="/ppt/media/image29.wmf" ContentType="image/x-wmf"/>
  <Override PartName="/ppt/media/image64.wmf" ContentType="image/x-wmf"/>
  <Override PartName="/ppt/media/image27.wmf" ContentType="image/x-wmf"/>
  <Override PartName="/ppt/media/image63.wmf" ContentType="image/x-wmf"/>
  <Override PartName="/ppt/media/image26.wmf" ContentType="image/x-wmf"/>
  <Override PartName="/ppt/media/image62.wmf" ContentType="image/x-wmf"/>
  <Override PartName="/ppt/media/image25.wmf" ContentType="image/x-wmf"/>
  <Override PartName="/ppt/media/image61.wmf" ContentType="image/x-wmf"/>
  <Override PartName="/ppt/media/image24.wmf" ContentType="image/x-wmf"/>
  <Override PartName="/ppt/media/image23.wmf" ContentType="image/x-wmf"/>
  <Override PartName="/ppt/media/image28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4.png" ContentType="image/png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3.png" ContentType="image/png"/>
  <Override PartName="/ppt/media/image11.wmf" ContentType="image/x-wmf"/>
  <Override PartName="/ppt/media/image48.wmf" ContentType="image/x-wmf"/>
  <Override PartName="/ppt/media/image30.wmf" ContentType="image/x-wmf"/>
  <Override PartName="/ppt/media/image31.wmf" ContentType="image/x-wmf"/>
  <Override PartName="/ppt/media/image32.wmf" ContentType="image/x-wmf"/>
  <Override PartName="/ppt/media/image33.wmf" ContentType="image/x-wmf"/>
  <Override PartName="/ppt/media/image34.wmf" ContentType="image/x-wmf"/>
  <Override PartName="/ppt/media/image36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75772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799F0-9103-4BA2-9574-8F057A7BA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Radical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Equations 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d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quation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= -1 is an extraneous solution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-1 is an extraneous 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et up the equation so that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re will be one radical on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each side of the equal sign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quare both sides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implify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x + 4 = x + 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= 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Verify your solution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refore, th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ution i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= 3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≥ -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ing Radical Equation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L.S.                    R.S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up the equation so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ill be one radical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side of the equal sig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both si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 + 4 = x +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your 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≥ 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Rad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.S.                    R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quaring a Binomial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a + 2)2 = a2 + 4a + 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Note that the middle term i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wice the product of the two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erms of the binomial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a√x + b)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 5 + √x - 2 )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middle term will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be twice the product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of the two terms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 final concept that you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hould know: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= a2x + ab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= a2(x + b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ing a Binom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 + 2)2 = a2 + 4a +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the middle term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ice the product of the tw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ms of the binom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√x + b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 5 + √x - 2 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ddle term wi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twice the produ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two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inal concept that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know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a2x + 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a2(x +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et up the equation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 that there will b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only one radical on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each side of the equal sign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quare both side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of the equation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implify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implify by dividing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by a common factor of 2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quare both sides of the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equation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Use Foil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Use Foil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ing Radical Equation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up the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that there will 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one radical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side of the equal sig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both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 by divi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a common factor of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both sides 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F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F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Rad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Distribute the 4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implify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Factor the quadratic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e for x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- 3 = 0    or  x - 7 = 0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= 3    or       x = 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Verify both solutions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ing Radical Equation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L.S.                   R.S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L.S.                   R.S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 the 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 the quadrat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 for 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- 3 = 0    or  x - 7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3    or       x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both solu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Rad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.S.                   R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.S.                   R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One more to see another extraneous solution: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radical is already isolate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ou must square the whole side NOT each term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quare both side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ince you have a quadratic equation (has an x2 term) get everything on one side = 0 and see if you can factor thi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ou MUST check these answer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must be FOILe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Doesn't work!</a:t>
            </a:r>
            <a:br>
              <a:rPr sz="1200"/>
            </a:b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Extraneou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It checks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more to see another extraneous solut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adical is already iso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square the whole side NOT each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both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you have a quadratic equation (has an x2 term) get everything on one side = 0 and see if you can factor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check these 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ust be FOI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't work!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a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heck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Let's try another one: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First isolate the radical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 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 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Now since it is a 1/3 power this means the same as a cube root so cube both side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Now solve for x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 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 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Let's check this answer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It checks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Remember that the 1/3 power means the same thing as a cube root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's try another on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isolate the rad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ince it is a 1/3 power this means the same as a cube root so cube both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olve for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's check this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heck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at the 1/3 power means the same thing as a cube ro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Graph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domain is  x &gt; -2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range is y &gt; 0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Graphing a Radical Function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main is  x &gt; -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ange is y &gt;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ng a Radical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How Do We Solve Radical Equations?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Do Now: Simplify the given expression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.                                   2. 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We Solve Radical Equa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Simplify the given expres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                                 2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solution will be th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intersection of the graph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nd the graph of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 = 0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solution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is x = 12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Check: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ing a Radical Equation Graphically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L.S.          R.S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ution will b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section of the gra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graph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x = 1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a Radical Equation Graph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.S.          R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solution i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= 3  or x = 7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ing a Radical Equation Graphically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u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3  or x = 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a Radical Equation Graph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Find the values for which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graph of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is above the graph of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 = 3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graphs intersect at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= 4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Note the radical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7x - 3 is defined only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when          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refore, the solution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is x &gt; 4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&gt; 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ing Radical Inequalitie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values for whi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aph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bove the graph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=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aphs intersect 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rad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x - 3 is defined on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        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e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x &gt; 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&gt;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Radical Inequa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solution i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1 &lt; x and x &lt; 8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graphs intersect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t the point where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= 8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≥ -1 and x &lt;  8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&gt; -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ing Radical Inequalitie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ution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 &lt; x and x &lt; 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aphs inters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point w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≥ -1 and x &lt; 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&gt; 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Radical Inequa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n equation in which a variable occurs in the radican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is called a radical equation. It should be noted, that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when solving a radical equation algebraically,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extraneous roots may be introduced when both sides of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n equation are squared. Therefore, you must check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our solutions for a radical equation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e:  √ x - 3  - 3 = 0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√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- 3  = 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√ x - 3  )2 = (3)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- 3 = 9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= 1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Check: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√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- 3  - 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√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2 - 3 - 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 - 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refore, the solution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is x = 12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≥ 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Radical Equation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L.S.             R.S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quation in which a variable occurs in the radic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called a radical equation. It should be noted, t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olving a radical equation algebraically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aneous roots may be introduced when both sides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quation are squared. Therefore, you must chec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solutions for a radical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:  √ x - 3  - 3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√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- 3 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√ x - 3  )2 = (3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- 3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√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- 3  -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√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- 3 -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-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the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x = 1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≥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.S.             R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 + √ 4 + x2  = x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√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 + x2  = x - 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 + x2 = x2 - 8x + 16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8x = 1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ince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solution of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x =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is extraneous. Therefore,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re are no real roots.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Check: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≠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√ 4 + x2)2 = (x - 4)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Solving Radical Equations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+ √ 4 + x2  = 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√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+ x2  = x -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+ x2 = x2 - 8x +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x =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u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=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extraneous. Therefor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no real roo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√ 4 + x2)2 = (x - 4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ing Radical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A0C1-4F36-44BE-8BA4-1C20D95A1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B960-A4F4-4194-9C6C-5B3E772F0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9726-AEC2-461C-BBA7-C85BAF6CD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1CC3-38F6-4E75-827B-815DDB03D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E98F7B-12A5-4330-B860-04BE4AB73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6032FE-6498-4DCF-81B7-1696708EE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2D7FC6-0406-4012-B22E-F97125E98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4A2FB6-C534-4C64-973C-8ADA276AE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96EFD9-30BC-452F-9B2E-2CC06EA3D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8ED7BB-5E30-4BD0-A15B-88802BB66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6C2237-908B-4CE0-A166-1650B397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B296-D700-4FDD-85F3-FA879A8D1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241864-E28F-49E5-9B12-344778B3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5C62A4-F5E0-4352-A543-1CB5AE7B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93B6DB-B2E6-4154-8666-087B315B1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AA3805-C760-4085-B2C5-92FD98278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3E9802-71DA-4C95-934F-453C46B91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D266-E0D3-43A0-8449-B64A3B4A2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F62E-BBF7-485B-84CF-FA195FB71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0296-1E60-4FFC-B908-5EF6C2D46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66CA-FB2C-43A2-9940-C1C2506FD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3F0D-A213-4AFE-89B2-363ED635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6E97-7EA4-47A0-9EC3-858BA6F9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5935-2CDB-46E6-9E92-1A942E25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6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6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6600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6600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9B19-7FCA-42B4-BDDF-B6FFEA996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6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6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6600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6600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183DF-677B-4DCB-949A-4D52C7710FA7}" type="slidenum">
              <a:rPr b="0" lang="en-US" sz="1400" spc="-1" strike="noStrike">
                <a:solidFill>
                  <a:srgbClr val="66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7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5.wmf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6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image" Target="../media/image5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9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6.wm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image" Target="../media/image6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4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7.wmf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50000">
              <a:srgbClr val="a3ffc2"/>
            </a:gs>
            <a:gs pos="100000">
              <a:srgbClr val="ff66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2"/>
          <p:cNvSpPr txBox="1"/>
          <p:nvPr/>
        </p:nvSpPr>
        <p:spPr>
          <a:xfrm>
            <a:off x="685800" y="1295280"/>
            <a:ext cx="800100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 Black"/>
              </a:rPr>
              <a:t>Radical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 Black"/>
              </a:rPr>
              <a:t>Equations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5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67" name="Object 4"/>
          <p:cNvGraphicFramePr/>
          <p:nvPr/>
        </p:nvGraphicFramePr>
        <p:xfrm>
          <a:off x="1600200" y="457200"/>
          <a:ext cx="5394240" cy="601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457200"/>
                    <a:ext cx="539424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438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5"/>
          <p:cNvSpPr/>
          <p:nvPr/>
        </p:nvSpPr>
        <p:spPr>
          <a:xfrm>
            <a:off x="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1219320" y="457200"/>
          <a:ext cx="44226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57200"/>
                    <a:ext cx="44226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Rectangle 6"/>
          <p:cNvSpPr/>
          <p:nvPr/>
        </p:nvSpPr>
        <p:spPr>
          <a:xfrm>
            <a:off x="685800" y="572076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00cc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6600cc"/>
                </a:solidFill>
                <a:latin typeface="Tahoma"/>
              </a:rPr>
              <a:t> = -1 is an extraneous solution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fdb"/>
            </a:gs>
            <a:gs pos="100000">
              <a:srgbClr val="d6d6d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Object 2"/>
          <p:cNvGraphicFramePr/>
          <p:nvPr/>
        </p:nvGraphicFramePr>
        <p:xfrm>
          <a:off x="1266840" y="866880"/>
          <a:ext cx="3119400" cy="42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6840" y="866880"/>
                    <a:ext cx="3119400" cy="42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Text Box 3"/>
          <p:cNvSpPr/>
          <p:nvPr/>
        </p:nvSpPr>
        <p:spPr>
          <a:xfrm>
            <a:off x="5943960" y="1574640"/>
            <a:ext cx="3131280" cy="100872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et up the equation so that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there will be one radical on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each side of the equal sign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78" name="Object 4"/>
          <p:cNvGraphicFramePr/>
          <p:nvPr/>
        </p:nvGraphicFramePr>
        <p:xfrm>
          <a:off x="838080" y="1920960"/>
          <a:ext cx="2913120" cy="44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920960"/>
                    <a:ext cx="291312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Text Box 5"/>
          <p:cNvSpPr/>
          <p:nvPr/>
        </p:nvSpPr>
        <p:spPr>
          <a:xfrm>
            <a:off x="5945400" y="2717640"/>
            <a:ext cx="217116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quare both sides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81" name="Object 6"/>
          <p:cNvGraphicFramePr/>
          <p:nvPr/>
        </p:nvGraphicFramePr>
        <p:xfrm>
          <a:off x="644400" y="2514600"/>
          <a:ext cx="3368880" cy="64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4400" y="2514600"/>
                    <a:ext cx="336888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Text Box 7"/>
          <p:cNvSpPr/>
          <p:nvPr/>
        </p:nvSpPr>
        <p:spPr>
          <a:xfrm>
            <a:off x="5947200" y="3200400"/>
            <a:ext cx="122760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implify. 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1231560" y="3092400"/>
            <a:ext cx="221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+ 4 =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+ 7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      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= 3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5943960" y="4241880"/>
            <a:ext cx="244080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Verify your solution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86" name="Object 10"/>
          <p:cNvGraphicFramePr/>
          <p:nvPr/>
        </p:nvGraphicFramePr>
        <p:xfrm>
          <a:off x="514440" y="4595760"/>
          <a:ext cx="3473280" cy="1025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7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4440" y="4595760"/>
                    <a:ext cx="3473280" cy="10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Object 11"/>
          <p:cNvGraphicFramePr/>
          <p:nvPr/>
        </p:nvGraphicFramePr>
        <p:xfrm>
          <a:off x="4114800" y="4648320"/>
          <a:ext cx="1298520" cy="1904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9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14800" y="4648320"/>
                    <a:ext cx="129852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Text Box 12"/>
          <p:cNvSpPr/>
          <p:nvPr/>
        </p:nvSpPr>
        <p:spPr>
          <a:xfrm>
            <a:off x="6005520" y="4799160"/>
            <a:ext cx="2347920" cy="1373760"/>
          </a:xfrm>
          <a:prstGeom prst="rect">
            <a:avLst/>
          </a:prstGeom>
          <a:solidFill>
            <a:srgbClr val="ffffcc"/>
          </a:solidFill>
          <a:ln w="76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refore, the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olution i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= 3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1" name="Text Box 13"/>
          <p:cNvSpPr/>
          <p:nvPr/>
        </p:nvSpPr>
        <p:spPr>
          <a:xfrm>
            <a:off x="4649040" y="91440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 ≥ -2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2" name="Text Box 15"/>
          <p:cNvSpPr/>
          <p:nvPr/>
        </p:nvSpPr>
        <p:spPr>
          <a:xfrm>
            <a:off x="290160" y="9144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Solve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3" name="Text Box 16"/>
          <p:cNvSpPr/>
          <p:nvPr/>
        </p:nvSpPr>
        <p:spPr>
          <a:xfrm>
            <a:off x="228960" y="4752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olving Radical Equation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4" name="Line 18"/>
          <p:cNvSpPr/>
          <p:nvPr/>
        </p:nvSpPr>
        <p:spPr>
          <a:xfrm>
            <a:off x="3429000" y="4267080"/>
            <a:ext cx="0" cy="243864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95" name="Object 19"/>
          <p:cNvGraphicFramePr/>
          <p:nvPr/>
        </p:nvGraphicFramePr>
        <p:xfrm>
          <a:off x="376200" y="5205240"/>
          <a:ext cx="2801880" cy="1576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6" name="Object 1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6200" y="5205240"/>
                    <a:ext cx="2801880" cy="15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Line 20"/>
          <p:cNvSpPr/>
          <p:nvPr/>
        </p:nvSpPr>
        <p:spPr>
          <a:xfrm>
            <a:off x="457200" y="4419720"/>
            <a:ext cx="4191120" cy="0"/>
          </a:xfrm>
          <a:prstGeom prst="line">
            <a:avLst/>
          </a:prstGeom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8" name="Text Box 21"/>
          <p:cNvSpPr/>
          <p:nvPr/>
        </p:nvSpPr>
        <p:spPr>
          <a:xfrm>
            <a:off x="1587600" y="4022640"/>
            <a:ext cx="27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L.S.                    R.S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ffd3"/>
            </a:gs>
            <a:gs pos="50000">
              <a:srgbClr val="ffffcc"/>
            </a:gs>
            <a:gs pos="100000">
              <a:srgbClr val="bdffd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2922480" y="-76320"/>
            <a:ext cx="332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Times New Roman"/>
              </a:rPr>
              <a:t>Squaring a Binomial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690480" y="838080"/>
            <a:ext cx="321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+ 2)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=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a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+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4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+ 4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4346640" y="609480"/>
            <a:ext cx="3911400" cy="119124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Note that the middle term is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twice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 the 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product of the two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terms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 of the binomial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4963680" y="5014800"/>
            <a:ext cx="163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√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925920" y="2043000"/>
            <a:ext cx="210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( 5 + √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2 )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4390920" y="2347920"/>
            <a:ext cx="2995560" cy="119124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The middle term will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be twice the product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of the two terms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05" name="Object 11"/>
          <p:cNvGraphicFramePr/>
          <p:nvPr/>
        </p:nvGraphicFramePr>
        <p:xfrm>
          <a:off x="900000" y="2716200"/>
          <a:ext cx="2162160" cy="109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716200"/>
                    <a:ext cx="2162160" cy="10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Line 12"/>
          <p:cNvSpPr/>
          <p:nvPr/>
        </p:nvSpPr>
        <p:spPr>
          <a:xfrm>
            <a:off x="1994040" y="2081160"/>
            <a:ext cx="60948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8" name="Line 13"/>
          <p:cNvSpPr/>
          <p:nvPr/>
        </p:nvSpPr>
        <p:spPr>
          <a:xfrm>
            <a:off x="5562720" y="5052960"/>
            <a:ext cx="60948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09" name="Object 14"/>
          <p:cNvGraphicFramePr/>
          <p:nvPr/>
        </p:nvGraphicFramePr>
        <p:xfrm>
          <a:off x="669960" y="4024440"/>
          <a:ext cx="1920960" cy="63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0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9960" y="4024440"/>
                    <a:ext cx="192096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Rectangle 15"/>
          <p:cNvSpPr/>
          <p:nvPr/>
        </p:nvSpPr>
        <p:spPr>
          <a:xfrm>
            <a:off x="228600" y="4024440"/>
            <a:ext cx="4038480" cy="205740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2" name="Text Box 16"/>
          <p:cNvSpPr/>
          <p:nvPr/>
        </p:nvSpPr>
        <p:spPr>
          <a:xfrm>
            <a:off x="4785480" y="4008600"/>
            <a:ext cx="337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A final concept that you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should know: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3" name="Rectangle 17"/>
          <p:cNvSpPr/>
          <p:nvPr/>
        </p:nvSpPr>
        <p:spPr>
          <a:xfrm>
            <a:off x="4648320" y="4011480"/>
            <a:ext cx="3886200" cy="205740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4" name="Rectangle 18"/>
          <p:cNvSpPr/>
          <p:nvPr/>
        </p:nvSpPr>
        <p:spPr>
          <a:xfrm>
            <a:off x="762120" y="2576520"/>
            <a:ext cx="2438280" cy="137160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5" name="AutoShape 19"/>
          <p:cNvSpPr/>
          <p:nvPr/>
        </p:nvSpPr>
        <p:spPr>
          <a:xfrm>
            <a:off x="3225960" y="3262320"/>
            <a:ext cx="1143000" cy="304920"/>
          </a:xfrm>
          <a:prstGeom prst="leftArrow">
            <a:avLst>
              <a:gd name="adj1" fmla="val 50000"/>
              <a:gd name="adj2" fmla="val 93713"/>
            </a:avLst>
          </a:prstGeom>
          <a:solidFill>
            <a:srgbClr val="cc66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6" name="AutoShape 20"/>
          <p:cNvSpPr/>
          <p:nvPr/>
        </p:nvSpPr>
        <p:spPr>
          <a:xfrm>
            <a:off x="3048120" y="2271600"/>
            <a:ext cx="1295280" cy="243000"/>
          </a:xfrm>
          <a:prstGeom prst="rightArrow">
            <a:avLst>
              <a:gd name="adj1" fmla="val 50000"/>
              <a:gd name="adj2" fmla="val 133259"/>
            </a:avLst>
          </a:prstGeom>
          <a:solidFill>
            <a:srgbClr val="cc66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17" name="Object 21"/>
          <p:cNvGraphicFramePr/>
          <p:nvPr/>
        </p:nvGraphicFramePr>
        <p:xfrm>
          <a:off x="380880" y="4786200"/>
          <a:ext cx="762120" cy="38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8" name="Object 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4786200"/>
                    <a:ext cx="76212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Object 22"/>
          <p:cNvGraphicFramePr/>
          <p:nvPr/>
        </p:nvGraphicFramePr>
        <p:xfrm>
          <a:off x="1112760" y="4735440"/>
          <a:ext cx="1735200" cy="441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0" name="Object 2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12760" y="4735440"/>
                    <a:ext cx="173520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Object 23"/>
          <p:cNvGraphicFramePr/>
          <p:nvPr/>
        </p:nvGraphicFramePr>
        <p:xfrm>
          <a:off x="2895480" y="4767120"/>
          <a:ext cx="1371600" cy="436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2" name="Object 2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95480" y="4767120"/>
                    <a:ext cx="137160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Object 24"/>
          <p:cNvGraphicFramePr/>
          <p:nvPr/>
        </p:nvGraphicFramePr>
        <p:xfrm>
          <a:off x="380880" y="5319720"/>
          <a:ext cx="3124440" cy="477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4" name="Object 2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0880" y="5319720"/>
                    <a:ext cx="312444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Rectangle 25"/>
          <p:cNvSpPr/>
          <p:nvPr/>
        </p:nvSpPr>
        <p:spPr>
          <a:xfrm>
            <a:off x="6589080" y="5396040"/>
            <a:ext cx="166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a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ab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26" name="Rectangle 26"/>
          <p:cNvSpPr/>
          <p:nvPr/>
        </p:nvSpPr>
        <p:spPr>
          <a:xfrm>
            <a:off x="6599160" y="502776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a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+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7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1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05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1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d6d6"/>
            </a:gs>
            <a:gs pos="50000">
              <a:srgbClr val="c9ffdb"/>
            </a:gs>
            <a:gs pos="100000">
              <a:srgbClr val="d6d6d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Object 2"/>
          <p:cNvGraphicFramePr/>
          <p:nvPr/>
        </p:nvGraphicFramePr>
        <p:xfrm>
          <a:off x="1077840" y="838080"/>
          <a:ext cx="3570480" cy="46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7840" y="838080"/>
                    <a:ext cx="357048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Text Box 3"/>
          <p:cNvSpPr/>
          <p:nvPr/>
        </p:nvSpPr>
        <p:spPr>
          <a:xfrm>
            <a:off x="5998320" y="609480"/>
            <a:ext cx="3070080" cy="131364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et up the equation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o that there will be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only one radical on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each side of the equal sign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5983920" y="2006640"/>
            <a:ext cx="2107080" cy="70380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quare both sides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of the equation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5995080" y="3556080"/>
            <a:ext cx="116388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implify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5992200" y="4191120"/>
            <a:ext cx="2890440" cy="70380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implify by dividing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by a common factor of 2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5981400" y="5257800"/>
            <a:ext cx="2852280" cy="70380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quare both sides of the 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equation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34" name="Object 8"/>
          <p:cNvGraphicFramePr/>
          <p:nvPr/>
        </p:nvGraphicFramePr>
        <p:xfrm>
          <a:off x="38160" y="2209680"/>
          <a:ext cx="4114800" cy="68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5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160" y="2209680"/>
                    <a:ext cx="411480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Object 9"/>
          <p:cNvGraphicFramePr/>
          <p:nvPr/>
        </p:nvGraphicFramePr>
        <p:xfrm>
          <a:off x="660240" y="3009960"/>
          <a:ext cx="990720" cy="384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7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0240" y="3009960"/>
                    <a:ext cx="99072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Object 10"/>
          <p:cNvGraphicFramePr/>
          <p:nvPr/>
        </p:nvGraphicFramePr>
        <p:xfrm>
          <a:off x="685800" y="3568680"/>
          <a:ext cx="4114800" cy="485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9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5800" y="3568680"/>
                    <a:ext cx="41148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Object 11"/>
          <p:cNvGraphicFramePr/>
          <p:nvPr/>
        </p:nvGraphicFramePr>
        <p:xfrm>
          <a:off x="609480" y="4191120"/>
          <a:ext cx="2895840" cy="476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1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480" y="4191120"/>
                    <a:ext cx="289584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Object 12"/>
          <p:cNvGraphicFramePr/>
          <p:nvPr/>
        </p:nvGraphicFramePr>
        <p:xfrm>
          <a:off x="914400" y="4800600"/>
          <a:ext cx="2666880" cy="487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3" name="Object 1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14400" y="4800600"/>
                    <a:ext cx="266688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Object 13"/>
          <p:cNvGraphicFramePr/>
          <p:nvPr/>
        </p:nvGraphicFramePr>
        <p:xfrm>
          <a:off x="571680" y="5334120"/>
          <a:ext cx="3276360" cy="672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45" name="Object 1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71680" y="5334120"/>
                    <a:ext cx="3276360" cy="67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14"/>
          <p:cNvGraphicFramePr/>
          <p:nvPr/>
        </p:nvGraphicFramePr>
        <p:xfrm>
          <a:off x="0" y="6095880"/>
          <a:ext cx="3429000" cy="493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47" name="Object 1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0" y="6095880"/>
                    <a:ext cx="342900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Text Box 15"/>
          <p:cNvSpPr/>
          <p:nvPr/>
        </p:nvSpPr>
        <p:spPr>
          <a:xfrm>
            <a:off x="5986440" y="6202440"/>
            <a:ext cx="112860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Use Foil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49" name="Object 16"/>
          <p:cNvGraphicFramePr/>
          <p:nvPr/>
        </p:nvGraphicFramePr>
        <p:xfrm>
          <a:off x="380880" y="1600200"/>
          <a:ext cx="3429000" cy="4748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50" name="Object 1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80880" y="1600200"/>
                    <a:ext cx="342900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Text Box 17"/>
          <p:cNvSpPr/>
          <p:nvPr/>
        </p:nvSpPr>
        <p:spPr>
          <a:xfrm>
            <a:off x="5998320" y="2886120"/>
            <a:ext cx="131616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Use Foil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52" name="Object 18"/>
          <p:cNvGraphicFramePr/>
          <p:nvPr/>
        </p:nvGraphicFramePr>
        <p:xfrm>
          <a:off x="1663560" y="3013200"/>
          <a:ext cx="609840" cy="3538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53" name="Object 18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663560" y="3013200"/>
                    <a:ext cx="609840" cy="35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Object 19"/>
          <p:cNvGraphicFramePr/>
          <p:nvPr/>
        </p:nvGraphicFramePr>
        <p:xfrm>
          <a:off x="2273400" y="2975040"/>
          <a:ext cx="1676160" cy="4428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55" name="Object 19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273400" y="2975040"/>
                    <a:ext cx="167616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20"/>
          <p:cNvGraphicFramePr/>
          <p:nvPr/>
        </p:nvGraphicFramePr>
        <p:xfrm>
          <a:off x="4038480" y="2975040"/>
          <a:ext cx="1511280" cy="4302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57" name="Object 20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038480" y="2975040"/>
                    <a:ext cx="151128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Text Box 22"/>
          <p:cNvSpPr/>
          <p:nvPr/>
        </p:nvSpPr>
        <p:spPr>
          <a:xfrm>
            <a:off x="77400" y="84312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olve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9" name="Text Box 24"/>
          <p:cNvSpPr/>
          <p:nvPr/>
        </p:nvSpPr>
        <p:spPr>
          <a:xfrm>
            <a:off x="2438640" y="1440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6600"/>
                </a:solidFill>
                <a:uFillTx/>
                <a:latin typeface="Times New Roman"/>
              </a:rPr>
              <a:t>Solving Radical Equation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9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5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d6d6"/>
            </a:gs>
            <a:gs pos="50000">
              <a:srgbClr val="c9ffdb"/>
            </a:gs>
            <a:gs pos="100000">
              <a:srgbClr val="d6d6d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Object 2"/>
          <p:cNvGraphicFramePr/>
          <p:nvPr/>
        </p:nvGraphicFramePr>
        <p:xfrm>
          <a:off x="952560" y="609480"/>
          <a:ext cx="3505320" cy="5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609480"/>
                    <a:ext cx="350532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Text Box 3"/>
          <p:cNvSpPr/>
          <p:nvPr/>
        </p:nvSpPr>
        <p:spPr>
          <a:xfrm>
            <a:off x="5648400" y="533520"/>
            <a:ext cx="194400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Distribute the 4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63" name="Object 4"/>
          <p:cNvGraphicFramePr/>
          <p:nvPr/>
        </p:nvGraphicFramePr>
        <p:xfrm>
          <a:off x="914400" y="1066680"/>
          <a:ext cx="3581280" cy="4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066680"/>
                    <a:ext cx="3581280" cy="4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Text Box 5"/>
          <p:cNvSpPr/>
          <p:nvPr/>
        </p:nvSpPr>
        <p:spPr>
          <a:xfrm>
            <a:off x="5664600" y="1079640"/>
            <a:ext cx="116388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implify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66" name="Object 6"/>
          <p:cNvGraphicFramePr/>
          <p:nvPr/>
        </p:nvGraphicFramePr>
        <p:xfrm>
          <a:off x="660240" y="1600200"/>
          <a:ext cx="2667240" cy="438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0240" y="1600200"/>
                    <a:ext cx="266724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Text Box 7"/>
          <p:cNvSpPr/>
          <p:nvPr/>
        </p:nvSpPr>
        <p:spPr>
          <a:xfrm>
            <a:off x="5642640" y="1676520"/>
            <a:ext cx="249732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Factor the quadratic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69" name="Object 8"/>
          <p:cNvGraphicFramePr/>
          <p:nvPr/>
        </p:nvGraphicFramePr>
        <p:xfrm>
          <a:off x="685800" y="2158920"/>
          <a:ext cx="2666880" cy="438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0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5800" y="2158920"/>
                    <a:ext cx="266688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Text Box 9"/>
          <p:cNvSpPr/>
          <p:nvPr/>
        </p:nvSpPr>
        <p:spPr>
          <a:xfrm>
            <a:off x="5641200" y="2438280"/>
            <a:ext cx="140760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olve for </a:t>
            </a:r>
            <a:r>
              <a:rPr b="1" i="1" lang="en-US" sz="20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72" name="Text Box 10"/>
          <p:cNvSpPr/>
          <p:nvPr/>
        </p:nvSpPr>
        <p:spPr>
          <a:xfrm>
            <a:off x="640080" y="2590920"/>
            <a:ext cx="3655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6600cc"/>
                </a:solidFill>
                <a:latin typeface="Times New Roman"/>
              </a:rPr>
              <a:t> - 3 = 0    or  </a:t>
            </a:r>
            <a:r>
              <a:rPr b="0" i="1" lang="en-US" sz="30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6600cc"/>
                </a:solidFill>
                <a:latin typeface="Times New Roman"/>
              </a:rPr>
              <a:t> - 7 = 0</a:t>
            </a:r>
            <a:endParaRPr b="0" lang="en-US" sz="30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6600"/>
                </a:solidFill>
                <a:latin typeface="Times New Roman"/>
              </a:rPr>
              <a:t>     </a:t>
            </a:r>
            <a:r>
              <a:rPr b="1" i="1" lang="en-US" sz="3000" spc="-1" strike="noStrike">
                <a:solidFill>
                  <a:srgbClr val="cc6600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cc6600"/>
                </a:solidFill>
                <a:latin typeface="Times New Roman"/>
              </a:rPr>
              <a:t> = 3    or       </a:t>
            </a:r>
            <a:r>
              <a:rPr b="1" i="1" lang="en-US" sz="3000" spc="-1" strike="noStrike">
                <a:solidFill>
                  <a:srgbClr val="cc6600"/>
                </a:solidFill>
                <a:latin typeface="Times New Roman"/>
              </a:rPr>
              <a:t>x</a:t>
            </a:r>
            <a:r>
              <a:rPr b="1" lang="en-US" sz="3000" spc="-1" strike="noStrike">
                <a:solidFill>
                  <a:srgbClr val="cc6600"/>
                </a:solidFill>
                <a:latin typeface="Times New Roman"/>
              </a:rPr>
              <a:t> = 7</a:t>
            </a:r>
            <a:endParaRPr b="0" lang="en-US" sz="3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73" name="Text Box 11"/>
          <p:cNvSpPr/>
          <p:nvPr/>
        </p:nvSpPr>
        <p:spPr>
          <a:xfrm>
            <a:off x="5638680" y="3200400"/>
            <a:ext cx="2526120" cy="398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Verify both solutions.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274" name="Object 12"/>
          <p:cNvGraphicFramePr/>
          <p:nvPr/>
        </p:nvGraphicFramePr>
        <p:xfrm>
          <a:off x="36360" y="4521240"/>
          <a:ext cx="4307040" cy="2184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5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360" y="4521240"/>
                    <a:ext cx="4307040" cy="21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Object 13"/>
          <p:cNvGraphicFramePr/>
          <p:nvPr/>
        </p:nvGraphicFramePr>
        <p:xfrm>
          <a:off x="4875120" y="4495680"/>
          <a:ext cx="4119480" cy="2133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7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75120" y="4495680"/>
                    <a:ext cx="411948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Object 14"/>
          <p:cNvGraphicFramePr/>
          <p:nvPr/>
        </p:nvGraphicFramePr>
        <p:xfrm>
          <a:off x="4191120" y="5562720"/>
          <a:ext cx="934920" cy="1066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9" name="Object 1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191120" y="5562720"/>
                    <a:ext cx="93492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Object 15"/>
          <p:cNvGraphicFramePr/>
          <p:nvPr/>
        </p:nvGraphicFramePr>
        <p:xfrm>
          <a:off x="8185320" y="5562720"/>
          <a:ext cx="882360" cy="990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81" name="Object 1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8185320" y="5562720"/>
                    <a:ext cx="88236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Text Box 17"/>
          <p:cNvSpPr/>
          <p:nvPr/>
        </p:nvSpPr>
        <p:spPr>
          <a:xfrm>
            <a:off x="76680" y="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olving Radical Equation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83" name="Line 20"/>
          <p:cNvSpPr/>
          <p:nvPr/>
        </p:nvSpPr>
        <p:spPr>
          <a:xfrm>
            <a:off x="3733920" y="4419720"/>
            <a:ext cx="0" cy="243828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84" name="Line 21"/>
          <p:cNvSpPr/>
          <p:nvPr/>
        </p:nvSpPr>
        <p:spPr>
          <a:xfrm>
            <a:off x="457200" y="4419720"/>
            <a:ext cx="4343400" cy="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85" name="Text Box 22"/>
          <p:cNvSpPr/>
          <p:nvPr/>
        </p:nvSpPr>
        <p:spPr>
          <a:xfrm>
            <a:off x="1968480" y="3946680"/>
            <a:ext cx="26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L.S.                   R.S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86" name="Line 23"/>
          <p:cNvSpPr/>
          <p:nvPr/>
        </p:nvSpPr>
        <p:spPr>
          <a:xfrm>
            <a:off x="8153280" y="4435560"/>
            <a:ext cx="0" cy="243828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87" name="Line 24"/>
          <p:cNvSpPr/>
          <p:nvPr/>
        </p:nvSpPr>
        <p:spPr>
          <a:xfrm>
            <a:off x="4876920" y="4435560"/>
            <a:ext cx="4343400" cy="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88" name="Text Box 25"/>
          <p:cNvSpPr/>
          <p:nvPr/>
        </p:nvSpPr>
        <p:spPr>
          <a:xfrm>
            <a:off x="6388200" y="3962520"/>
            <a:ext cx="26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L.S.                   R.S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1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9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0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2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0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0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304920" y="38088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One more to see another extraneous solution:</a:t>
            </a: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ct 3"/>
              <p:cNvSpPr txBox="1"/>
              <p:nvPr/>
            </p:nvSpPr>
            <p:spPr>
              <a:xfrm>
                <a:off x="228600" y="1144440"/>
                <a:ext cx="35114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1" name="Text Box 4"/>
          <p:cNvSpPr/>
          <p:nvPr/>
        </p:nvSpPr>
        <p:spPr>
          <a:xfrm>
            <a:off x="3886200" y="1295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e radical is already isolated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92" name="AutoShape 5"/>
          <p:cNvSpPr/>
          <p:nvPr/>
        </p:nvSpPr>
        <p:spPr>
          <a:xfrm>
            <a:off x="304920" y="2209680"/>
            <a:ext cx="1828800" cy="99072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2133720" y="19810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94" name="AutoShape 7"/>
          <p:cNvSpPr/>
          <p:nvPr/>
        </p:nvSpPr>
        <p:spPr>
          <a:xfrm>
            <a:off x="2590920" y="2286000"/>
            <a:ext cx="1143000" cy="83808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95" name="Text Box 8"/>
          <p:cNvSpPr/>
          <p:nvPr/>
        </p:nvSpPr>
        <p:spPr>
          <a:xfrm>
            <a:off x="3733920" y="20574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96" name="Text Box 9"/>
          <p:cNvSpPr/>
          <p:nvPr/>
        </p:nvSpPr>
        <p:spPr>
          <a:xfrm>
            <a:off x="3962520" y="2590920"/>
            <a:ext cx="487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You must square the whole side NOT each term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Object 10"/>
              <p:cNvSpPr txBox="1"/>
              <p:nvPr/>
            </p:nvSpPr>
            <p:spPr>
              <a:xfrm>
                <a:off x="228600" y="3657600"/>
                <a:ext cx="442764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8" name="Text Box 11"/>
          <p:cNvSpPr/>
          <p:nvPr/>
        </p:nvSpPr>
        <p:spPr>
          <a:xfrm>
            <a:off x="4191120" y="213372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quare both side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99" name="Text Box 12"/>
          <p:cNvSpPr/>
          <p:nvPr/>
        </p:nvSpPr>
        <p:spPr>
          <a:xfrm>
            <a:off x="304920" y="449568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ince you have a quadratic equation (has an x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term) get everything on one side = 0 and see if you can factor thi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Object 13"/>
              <p:cNvSpPr txBox="1"/>
              <p:nvPr/>
            </p:nvSpPr>
            <p:spPr>
              <a:xfrm>
                <a:off x="685800" y="6019920"/>
                <a:ext cx="264492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1" name="Text Box 14"/>
          <p:cNvSpPr/>
          <p:nvPr/>
        </p:nvSpPr>
        <p:spPr>
          <a:xfrm>
            <a:off x="4952880" y="3962520"/>
            <a:ext cx="38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You MUST check these answer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15"/>
              <p:cNvSpPr txBox="1"/>
              <p:nvPr/>
            </p:nvSpPr>
            <p:spPr>
              <a:xfrm>
                <a:off x="4343400" y="5105520"/>
                <a:ext cx="3753000" cy="17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deg/>
                          <m:e>
                            <m:r>
                              <m:t xml:space="preserve">3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8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16"/>
              <p:cNvSpPr txBox="1"/>
              <p:nvPr/>
            </p:nvSpPr>
            <p:spPr>
              <a:xfrm>
                <a:off x="304920" y="2209680"/>
                <a:ext cx="35114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4" name="Text Box 17"/>
          <p:cNvSpPr/>
          <p:nvPr/>
        </p:nvSpPr>
        <p:spPr>
          <a:xfrm>
            <a:off x="3809880" y="320040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his must be FOILed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05" name="Freeform 18"/>
          <p:cNvSpPr/>
          <p:nvPr/>
        </p:nvSpPr>
        <p:spPr>
          <a:xfrm>
            <a:off x="3124080" y="2971800"/>
            <a:ext cx="685800" cy="533520"/>
          </a:xfrm>
          <a:custGeom>
            <a:avLst/>
            <a:gdLst/>
            <a:ahLst/>
            <a:rect l="l" t="t" r="r" b="b"/>
            <a:pathLst>
              <a:path w="432" h="400">
                <a:moveTo>
                  <a:pt x="432" y="384"/>
                </a:moveTo>
                <a:cubicBezTo>
                  <a:pt x="300" y="392"/>
                  <a:pt x="168" y="400"/>
                  <a:pt x="96" y="336"/>
                </a:cubicBezTo>
                <a:cubicBezTo>
                  <a:pt x="24" y="272"/>
                  <a:pt x="12" y="136"/>
                  <a:pt x="0" y="0"/>
                </a:cubicBezTo>
              </a:path>
            </a:pathLst>
          </a:custGeom>
          <a:noFill/>
          <a:ln w="5724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Object 19"/>
              <p:cNvSpPr txBox="1"/>
              <p:nvPr/>
            </p:nvSpPr>
            <p:spPr>
              <a:xfrm>
                <a:off x="380880" y="4495680"/>
                <a:ext cx="341784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20"/>
              <p:cNvSpPr txBox="1"/>
              <p:nvPr/>
            </p:nvSpPr>
            <p:spPr>
              <a:xfrm>
                <a:off x="289080" y="5386320"/>
                <a:ext cx="37558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21"/>
              <p:cNvSpPr txBox="1"/>
              <p:nvPr/>
            </p:nvSpPr>
            <p:spPr>
              <a:xfrm>
                <a:off x="4419720" y="4952880"/>
                <a:ext cx="3608280" cy="19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deg/>
                          <m:e>
                            <m:r>
                              <m:t xml:space="preserve">3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9" name="Text Box 22"/>
          <p:cNvSpPr/>
          <p:nvPr/>
        </p:nvSpPr>
        <p:spPr>
          <a:xfrm>
            <a:off x="6248520" y="58672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oesn't work!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xtraneou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10" name="Line 23"/>
          <p:cNvSpPr/>
          <p:nvPr/>
        </p:nvSpPr>
        <p:spPr>
          <a:xfrm>
            <a:off x="2209680" y="6172200"/>
            <a:ext cx="1219320" cy="4572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11" name="Line 24"/>
          <p:cNvSpPr/>
          <p:nvPr/>
        </p:nvSpPr>
        <p:spPr>
          <a:xfrm flipV="1">
            <a:off x="2222640" y="6019560"/>
            <a:ext cx="1206360" cy="6728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12" name="Text Box 25"/>
          <p:cNvSpPr/>
          <p:nvPr/>
        </p:nvSpPr>
        <p:spPr>
          <a:xfrm>
            <a:off x="6019920" y="60199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t checks!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13" name="AutoShape 26"/>
          <p:cNvSpPr/>
          <p:nvPr/>
        </p:nvSpPr>
        <p:spPr>
          <a:xfrm>
            <a:off x="609480" y="6095880"/>
            <a:ext cx="1398600" cy="5637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14" name="AutoShape 27"/>
          <p:cNvSpPr/>
          <p:nvPr/>
        </p:nvSpPr>
        <p:spPr>
          <a:xfrm>
            <a:off x="3505320" y="457200"/>
            <a:ext cx="3657600" cy="4572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grpSp>
        <p:nvGrpSpPr>
          <p:cNvPr id="315" name="Group 28"/>
          <p:cNvGrpSpPr/>
          <p:nvPr/>
        </p:nvGrpSpPr>
        <p:grpSpPr>
          <a:xfrm>
            <a:off x="914400" y="914400"/>
            <a:ext cx="8001000" cy="1724760"/>
            <a:chOff x="914400" y="914400"/>
            <a:chExt cx="8001000" cy="1724760"/>
          </a:xfrm>
        </p:grpSpPr>
        <p:sp>
          <p:nvSpPr>
            <p:cNvPr id="316" name="Text Box 29"/>
            <p:cNvSpPr/>
            <p:nvPr/>
          </p:nvSpPr>
          <p:spPr>
            <a:xfrm>
              <a:off x="914400" y="1447920"/>
              <a:ext cx="8001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a solution that you find algebraically but DOES NOT make a true statement when you substitute it back into the equation.</a:t>
              </a:r>
              <a:endParaRPr b="0" lang="en-US" sz="2400" spc="-1" strike="noStrike">
                <a:solidFill>
                  <a:srgbClr val="6600cc"/>
                </a:solidFill>
                <a:latin typeface="Tahoma"/>
              </a:endParaRPr>
            </a:p>
          </p:txBody>
        </p:sp>
        <p:sp>
          <p:nvSpPr>
            <p:cNvPr id="317" name="Line 30"/>
            <p:cNvSpPr/>
            <p:nvPr/>
          </p:nvSpPr>
          <p:spPr>
            <a:xfrm flipV="1">
              <a:off x="4190760" y="914400"/>
              <a:ext cx="7632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00cc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2"/>
          <p:cNvSpPr/>
          <p:nvPr/>
        </p:nvSpPr>
        <p:spPr>
          <a:xfrm>
            <a:off x="304920" y="3808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Let's try another one:</a:t>
            </a:r>
            <a:r>
              <a:rPr b="0" lang="en-US" sz="24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Object 3"/>
              <p:cNvSpPr txBox="1"/>
              <p:nvPr/>
            </p:nvSpPr>
            <p:spPr>
              <a:xfrm>
                <a:off x="61920" y="952560"/>
                <a:ext cx="3848040" cy="12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0" name="Text Box 4"/>
          <p:cNvSpPr/>
          <p:nvPr/>
        </p:nvSpPr>
        <p:spPr>
          <a:xfrm>
            <a:off x="4267080" y="12952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irst isolate the radical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2209680" y="19051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- 1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3124080" y="19051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- 1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23" name="Line 7"/>
          <p:cNvSpPr/>
          <p:nvPr/>
        </p:nvSpPr>
        <p:spPr>
          <a:xfrm>
            <a:off x="2286000" y="1219320"/>
            <a:ext cx="457200" cy="121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Object 8"/>
              <p:cNvSpPr txBox="1"/>
              <p:nvPr/>
            </p:nvSpPr>
            <p:spPr>
              <a:xfrm>
                <a:off x="426960" y="2705040"/>
                <a:ext cx="3416400" cy="124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5" name="AutoShape 9"/>
          <p:cNvSpPr/>
          <p:nvPr/>
        </p:nvSpPr>
        <p:spPr>
          <a:xfrm>
            <a:off x="609480" y="2819520"/>
            <a:ext cx="1981440" cy="106668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26" name="Text Box 10"/>
          <p:cNvSpPr/>
          <p:nvPr/>
        </p:nvSpPr>
        <p:spPr>
          <a:xfrm>
            <a:off x="2666880" y="25909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27" name="AutoShape 11"/>
          <p:cNvSpPr/>
          <p:nvPr/>
        </p:nvSpPr>
        <p:spPr>
          <a:xfrm>
            <a:off x="3048120" y="2971800"/>
            <a:ext cx="685800" cy="83808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28" name="Text Box 12"/>
          <p:cNvSpPr/>
          <p:nvPr/>
        </p:nvSpPr>
        <p:spPr>
          <a:xfrm>
            <a:off x="3733920" y="274320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Object 13"/>
              <p:cNvSpPr txBox="1"/>
              <p:nvPr/>
            </p:nvSpPr>
            <p:spPr>
              <a:xfrm>
                <a:off x="681120" y="4133880"/>
                <a:ext cx="25984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0" name="Text Box 14"/>
          <p:cNvSpPr/>
          <p:nvPr/>
        </p:nvSpPr>
        <p:spPr>
          <a:xfrm>
            <a:off x="4191120" y="2133720"/>
            <a:ext cx="4190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ow since it is a 1/3 power this means the same as a cube root so cube both side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31" name="Text Box 15"/>
          <p:cNvSpPr/>
          <p:nvPr/>
        </p:nvSpPr>
        <p:spPr>
          <a:xfrm>
            <a:off x="4038480" y="4114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ow solve for x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32" name="Text Box 16"/>
          <p:cNvSpPr/>
          <p:nvPr/>
        </p:nvSpPr>
        <p:spPr>
          <a:xfrm>
            <a:off x="1523880" y="47242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- 1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33" name="Text Box 17"/>
          <p:cNvSpPr/>
          <p:nvPr/>
        </p:nvSpPr>
        <p:spPr>
          <a:xfrm>
            <a:off x="2590920" y="47242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- 1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18"/>
              <p:cNvSpPr txBox="1"/>
              <p:nvPr/>
            </p:nvSpPr>
            <p:spPr>
              <a:xfrm>
                <a:off x="966960" y="5257800"/>
                <a:ext cx="19713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Object 19"/>
              <p:cNvSpPr txBox="1"/>
              <p:nvPr/>
            </p:nvSpPr>
            <p:spPr>
              <a:xfrm>
                <a:off x="1147680" y="5967360"/>
                <a:ext cx="16351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6" name="Text Box 20"/>
          <p:cNvSpPr/>
          <p:nvPr/>
        </p:nvSpPr>
        <p:spPr>
          <a:xfrm>
            <a:off x="3505320" y="480060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et's check this answer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Object 21"/>
              <p:cNvSpPr txBox="1"/>
              <p:nvPr/>
            </p:nvSpPr>
            <p:spPr>
              <a:xfrm>
                <a:off x="3833640" y="5257800"/>
                <a:ext cx="408960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22"/>
              <p:cNvSpPr txBox="1"/>
              <p:nvPr/>
            </p:nvSpPr>
            <p:spPr>
              <a:xfrm>
                <a:off x="3890880" y="6059520"/>
                <a:ext cx="12985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9" name="Text Box 23"/>
          <p:cNvSpPr/>
          <p:nvPr/>
        </p:nvSpPr>
        <p:spPr>
          <a:xfrm>
            <a:off x="5324400" y="613584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t checks!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40" name="Text Box 24"/>
          <p:cNvSpPr/>
          <p:nvPr/>
        </p:nvSpPr>
        <p:spPr>
          <a:xfrm>
            <a:off x="4267080" y="182880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member that the 1/3 power means the same thing as a cube root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nodeType="clickEffect" fill="hold">
                      <p:stCondLst>
                        <p:cond delay="0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nodeType="clickEffect" fill="hold">
                      <p:stCondLst>
                        <p:cond delay="indefinite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1" name="Object 2"/>
          <p:cNvGraphicFramePr/>
          <p:nvPr/>
        </p:nvGraphicFramePr>
        <p:xfrm>
          <a:off x="1655640" y="696960"/>
          <a:ext cx="2170080" cy="59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5640" y="696960"/>
                    <a:ext cx="2170080" cy="59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Text Box 3"/>
          <p:cNvSpPr/>
          <p:nvPr/>
        </p:nvSpPr>
        <p:spPr>
          <a:xfrm>
            <a:off x="281160" y="747720"/>
            <a:ext cx="13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Graph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pic>
        <p:nvPicPr>
          <p:cNvPr id="344" name="Picture 4" descr=""/>
          <p:cNvPicPr/>
          <p:nvPr/>
        </p:nvPicPr>
        <p:blipFill>
          <a:blip r:embed="rId3"/>
          <a:stretch/>
        </p:blipFill>
        <p:spPr>
          <a:xfrm>
            <a:off x="320760" y="1585800"/>
            <a:ext cx="6019560" cy="364824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5"/>
          <p:cNvSpPr/>
          <p:nvPr/>
        </p:nvSpPr>
        <p:spPr>
          <a:xfrm>
            <a:off x="803160" y="5562720"/>
            <a:ext cx="3454560" cy="94716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The domain is 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6600cc"/>
                </a:solidFill>
                <a:uFillTx/>
                <a:latin typeface="Times New Roman"/>
              </a:rPr>
              <a:t>&gt;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2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The range is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6600cc"/>
                </a:solidFill>
                <a:uFillTx/>
                <a:latin typeface="Times New Roman"/>
              </a:rPr>
              <a:t>&gt;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0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46" name="Text Box 6"/>
          <p:cNvSpPr/>
          <p:nvPr/>
        </p:nvSpPr>
        <p:spPr>
          <a:xfrm>
            <a:off x="2577600" y="-46080"/>
            <a:ext cx="463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Times New Roman"/>
              </a:rPr>
              <a:t>Graphing a Radical Function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9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nodeType="clickEffect" fill="hold">
                      <p:stCondLst>
                        <p:cond delay="indefinite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Tahoma"/>
              </a:rPr>
              <a:t>How Do We Solve Radical Equations?</a:t>
            </a:r>
            <a:endParaRPr b="0" lang="en-US" sz="40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Do Now: </a:t>
            </a:r>
            <a:r>
              <a:rPr b="0" i="1" lang="en-US" sz="3200" spc="-1" strike="noStrike">
                <a:solidFill>
                  <a:srgbClr val="6600cc"/>
                </a:solidFill>
                <a:latin typeface="Tahoma"/>
              </a:rPr>
              <a:t>Simplify the given expression.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1.                                   2. 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219320" y="2590920"/>
            <a:ext cx="1295280" cy="1157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"/>
          <p:cNvPicPr/>
          <p:nvPr/>
        </p:nvPicPr>
        <p:blipFill>
          <a:blip r:embed="rId2"/>
          <a:stretch/>
        </p:blipFill>
        <p:spPr>
          <a:xfrm>
            <a:off x="6248520" y="2438280"/>
            <a:ext cx="13158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fdb"/>
            </a:gs>
            <a:gs pos="50000">
              <a:srgbClr val="ffffd9"/>
            </a:gs>
            <a:gs pos="100000">
              <a:srgbClr val="c9ffdb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2"/>
          <p:cNvSpPr/>
          <p:nvPr/>
        </p:nvSpPr>
        <p:spPr>
          <a:xfrm>
            <a:off x="539280" y="91584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olve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pic>
        <p:nvPicPr>
          <p:cNvPr id="348" name="Picture 4" descr=""/>
          <p:cNvPicPr/>
          <p:nvPr/>
        </p:nvPicPr>
        <p:blipFill>
          <a:blip r:embed="rId1"/>
          <a:stretch/>
        </p:blipFill>
        <p:spPr>
          <a:xfrm>
            <a:off x="0" y="1603440"/>
            <a:ext cx="4800600" cy="3578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9" name="Object 5"/>
          <p:cNvGraphicFramePr/>
          <p:nvPr/>
        </p:nvGraphicFramePr>
        <p:xfrm>
          <a:off x="1596960" y="930240"/>
          <a:ext cx="2979720" cy="441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96960" y="930240"/>
                    <a:ext cx="297972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Text Box 6"/>
          <p:cNvSpPr/>
          <p:nvPr/>
        </p:nvSpPr>
        <p:spPr>
          <a:xfrm>
            <a:off x="5691960" y="838080"/>
            <a:ext cx="337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The solution will be the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intersection of the graph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352" name="Object 7"/>
          <p:cNvGraphicFramePr/>
          <p:nvPr/>
        </p:nvGraphicFramePr>
        <p:xfrm>
          <a:off x="5681520" y="1641600"/>
          <a:ext cx="2428920" cy="492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3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81520" y="1641600"/>
                    <a:ext cx="242892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Text Box 8"/>
          <p:cNvSpPr/>
          <p:nvPr/>
        </p:nvSpPr>
        <p:spPr>
          <a:xfrm>
            <a:off x="5666400" y="2209680"/>
            <a:ext cx="23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and the graph of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 = 0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55" name="Oval 9"/>
          <p:cNvSpPr/>
          <p:nvPr/>
        </p:nvSpPr>
        <p:spPr>
          <a:xfrm>
            <a:off x="2590920" y="3203640"/>
            <a:ext cx="609480" cy="53316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56" name="Text Box 10"/>
          <p:cNvSpPr/>
          <p:nvPr/>
        </p:nvSpPr>
        <p:spPr>
          <a:xfrm>
            <a:off x="5830560" y="3397320"/>
            <a:ext cx="2068920" cy="947160"/>
          </a:xfrm>
          <a:prstGeom prst="rect">
            <a:avLst/>
          </a:prstGeom>
          <a:solidFill>
            <a:srgbClr val="663300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 solution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is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= 12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57" name="Text Box 11"/>
          <p:cNvSpPr/>
          <p:nvPr/>
        </p:nvSpPr>
        <p:spPr>
          <a:xfrm>
            <a:off x="1449720" y="426708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Check: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358" name="Object 12"/>
          <p:cNvGraphicFramePr/>
          <p:nvPr/>
        </p:nvGraphicFramePr>
        <p:xfrm>
          <a:off x="2209680" y="4800600"/>
          <a:ext cx="2344680" cy="501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59" name="Object 1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09680" y="4800600"/>
                    <a:ext cx="234468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Line 13"/>
          <p:cNvSpPr/>
          <p:nvPr/>
        </p:nvSpPr>
        <p:spPr>
          <a:xfrm>
            <a:off x="4800600" y="4711680"/>
            <a:ext cx="0" cy="20574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61" name="Text Box 14"/>
          <p:cNvSpPr/>
          <p:nvPr/>
        </p:nvSpPr>
        <p:spPr>
          <a:xfrm>
            <a:off x="5014440" y="47545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362" name="Object 15"/>
          <p:cNvGraphicFramePr/>
          <p:nvPr/>
        </p:nvGraphicFramePr>
        <p:xfrm>
          <a:off x="1981080" y="5410080"/>
          <a:ext cx="2570400" cy="501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63" name="Object 1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5410080"/>
                    <a:ext cx="2570400" cy="5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Object 16"/>
          <p:cNvGraphicFramePr/>
          <p:nvPr/>
        </p:nvGraphicFramePr>
        <p:xfrm>
          <a:off x="2994120" y="5943600"/>
          <a:ext cx="1577880" cy="501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65" name="Object 1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994120" y="5943600"/>
                    <a:ext cx="157788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Object 17"/>
          <p:cNvGraphicFramePr/>
          <p:nvPr/>
        </p:nvGraphicFramePr>
        <p:xfrm>
          <a:off x="3444840" y="6405480"/>
          <a:ext cx="1127160" cy="4017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67" name="Object 1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444840" y="6405480"/>
                    <a:ext cx="112716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Object 18"/>
          <p:cNvGraphicFramePr/>
          <p:nvPr/>
        </p:nvGraphicFramePr>
        <p:xfrm>
          <a:off x="5589720" y="4952880"/>
          <a:ext cx="1195200" cy="17528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69" name="Object 1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589720" y="4952880"/>
                    <a:ext cx="119520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Text Box 20"/>
          <p:cNvSpPr/>
          <p:nvPr/>
        </p:nvSpPr>
        <p:spPr>
          <a:xfrm>
            <a:off x="1447920" y="76320"/>
            <a:ext cx="623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6600"/>
                </a:solidFill>
                <a:uFillTx/>
                <a:latin typeface="Times New Roman"/>
              </a:rPr>
              <a:t>Solving a Radical Equation Graphically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71" name="Line 21"/>
          <p:cNvSpPr/>
          <p:nvPr/>
        </p:nvSpPr>
        <p:spPr>
          <a:xfrm>
            <a:off x="2590920" y="4724280"/>
            <a:ext cx="335268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72" name="Text Box 22"/>
          <p:cNvSpPr/>
          <p:nvPr/>
        </p:nvSpPr>
        <p:spPr>
          <a:xfrm>
            <a:off x="3645000" y="4251240"/>
            <a:ext cx="200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L.S.          R.S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nodeType="clickEffect" fill="hold">
                      <p:stCondLst>
                        <p:cond delay="indefinite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3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3" nodeType="afterEffect" fill="hold" presetClass="entr" presetID="2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8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nodeType="clickEffect" fill="hold">
                      <p:stCondLst>
                        <p:cond delay="indefinite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fdb"/>
            </a:gs>
            <a:gs pos="100000">
              <a:srgbClr val="e0e0e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Object 2"/>
          <p:cNvGraphicFramePr/>
          <p:nvPr/>
        </p:nvGraphicFramePr>
        <p:xfrm>
          <a:off x="1523880" y="711360"/>
          <a:ext cx="3976920" cy="51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711360"/>
                    <a:ext cx="397692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75" name="Picture 3" descr=""/>
          <p:cNvPicPr/>
          <p:nvPr/>
        </p:nvPicPr>
        <p:blipFill>
          <a:blip r:embed="rId3"/>
          <a:stretch/>
        </p:blipFill>
        <p:spPr>
          <a:xfrm>
            <a:off x="533520" y="1235160"/>
            <a:ext cx="8153280" cy="5622840"/>
          </a:xfrm>
          <a:prstGeom prst="rect">
            <a:avLst/>
          </a:prstGeom>
          <a:ln w="0">
            <a:noFill/>
          </a:ln>
        </p:spPr>
      </p:pic>
      <p:sp>
        <p:nvSpPr>
          <p:cNvPr id="376" name="Oval 4"/>
          <p:cNvSpPr/>
          <p:nvPr/>
        </p:nvSpPr>
        <p:spPr>
          <a:xfrm>
            <a:off x="2895480" y="3581280"/>
            <a:ext cx="685800" cy="83844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77" name="Oval 5"/>
          <p:cNvSpPr/>
          <p:nvPr/>
        </p:nvSpPr>
        <p:spPr>
          <a:xfrm>
            <a:off x="7315200" y="3581280"/>
            <a:ext cx="685800" cy="83844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4458600" y="4572000"/>
            <a:ext cx="2395080" cy="947160"/>
          </a:xfrm>
          <a:prstGeom prst="rect">
            <a:avLst/>
          </a:prstGeom>
          <a:solidFill>
            <a:srgbClr val="ffffd9"/>
          </a:solidFill>
          <a:ln w="76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 solution i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= 3  or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= 7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79" name="Text Box 8"/>
          <p:cNvSpPr/>
          <p:nvPr/>
        </p:nvSpPr>
        <p:spPr>
          <a:xfrm>
            <a:off x="505800" y="77616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olve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80" name="Text Box 9"/>
          <p:cNvSpPr/>
          <p:nvPr/>
        </p:nvSpPr>
        <p:spPr>
          <a:xfrm>
            <a:off x="0" y="76320"/>
            <a:ext cx="623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olving a Radical Equation Graphically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3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nodeType="clickEffect" fill="hold">
                      <p:stCondLst>
                        <p:cond delay="indefinite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1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"/>
          <p:cNvPicPr/>
          <p:nvPr/>
        </p:nvPicPr>
        <p:blipFill>
          <a:blip r:embed="rId1"/>
          <a:stretch/>
        </p:blipFill>
        <p:spPr>
          <a:xfrm>
            <a:off x="457200" y="3429000"/>
            <a:ext cx="3505320" cy="3411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2" name="Object 3"/>
          <p:cNvGraphicFramePr/>
          <p:nvPr/>
        </p:nvGraphicFramePr>
        <p:xfrm>
          <a:off x="1744560" y="774720"/>
          <a:ext cx="2675160" cy="48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3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4560" y="774720"/>
                    <a:ext cx="267516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4" name="Text Box 4"/>
          <p:cNvSpPr/>
          <p:nvPr/>
        </p:nvSpPr>
        <p:spPr>
          <a:xfrm>
            <a:off x="5394960" y="988920"/>
            <a:ext cx="356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Find the values for which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the graph of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385" name="Object 5"/>
          <p:cNvGraphicFramePr/>
          <p:nvPr/>
        </p:nvGraphicFramePr>
        <p:xfrm>
          <a:off x="5473800" y="1963800"/>
          <a:ext cx="2298600" cy="471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6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473800" y="1963800"/>
                    <a:ext cx="229860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Text Box 6"/>
          <p:cNvSpPr/>
          <p:nvPr/>
        </p:nvSpPr>
        <p:spPr>
          <a:xfrm>
            <a:off x="5411160" y="2589120"/>
            <a:ext cx="296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is above the graph of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 = 3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5410080" y="3732120"/>
            <a:ext cx="326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The graphs intersect at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= 4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89" name="Text Box 9"/>
          <p:cNvSpPr/>
          <p:nvPr/>
        </p:nvSpPr>
        <p:spPr>
          <a:xfrm>
            <a:off x="533520" y="1371600"/>
            <a:ext cx="2936880" cy="144720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Note the radical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7</a:t>
            </a:r>
            <a:r>
              <a:rPr b="1" i="1" lang="en-US" sz="24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 - 3 is defined only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when          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90" name="Text Box 10"/>
          <p:cNvSpPr/>
          <p:nvPr/>
        </p:nvSpPr>
        <p:spPr>
          <a:xfrm>
            <a:off x="5549400" y="4951440"/>
            <a:ext cx="3155400" cy="825480"/>
          </a:xfrm>
          <a:prstGeom prst="rect">
            <a:avLst/>
          </a:prstGeom>
          <a:solidFill>
            <a:srgbClr val="ffffcc"/>
          </a:solidFill>
          <a:ln w="76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Therefore, the solution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is </a:t>
            </a:r>
            <a:r>
              <a:rPr b="1" i="1" lang="en-US" sz="24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 &gt; 4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91" name="Rectangle 11"/>
          <p:cNvSpPr/>
          <p:nvPr/>
        </p:nvSpPr>
        <p:spPr>
          <a:xfrm>
            <a:off x="380880" y="2971800"/>
            <a:ext cx="3733920" cy="1828800"/>
          </a:xfrm>
          <a:prstGeom prst="rect">
            <a:avLst/>
          </a:prstGeom>
          <a:solidFill>
            <a:srgbClr val="49a4ff">
              <a:alpha val="50000"/>
            </a:srgbClr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92" name="Oval 8"/>
          <p:cNvSpPr/>
          <p:nvPr/>
        </p:nvSpPr>
        <p:spPr>
          <a:xfrm>
            <a:off x="2819520" y="4572000"/>
            <a:ext cx="457200" cy="45720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93" name="Freeform 13"/>
          <p:cNvSpPr/>
          <p:nvPr/>
        </p:nvSpPr>
        <p:spPr>
          <a:xfrm>
            <a:off x="3030480" y="4046400"/>
            <a:ext cx="1038240" cy="755640"/>
          </a:xfrm>
          <a:custGeom>
            <a:avLst/>
            <a:gdLst/>
            <a:ahLst/>
            <a:rect l="l" t="t" r="r" b="b"/>
            <a:pathLst>
              <a:path w="654" h="476">
                <a:moveTo>
                  <a:pt x="17" y="465"/>
                </a:moveTo>
                <a:cubicBezTo>
                  <a:pt x="64" y="420"/>
                  <a:pt x="0" y="476"/>
                  <a:pt x="58" y="441"/>
                </a:cubicBezTo>
                <a:cubicBezTo>
                  <a:pt x="98" y="416"/>
                  <a:pt x="135" y="373"/>
                  <a:pt x="181" y="359"/>
                </a:cubicBezTo>
                <a:cubicBezTo>
                  <a:pt x="206" y="333"/>
                  <a:pt x="228" y="321"/>
                  <a:pt x="262" y="310"/>
                </a:cubicBezTo>
                <a:cubicBezTo>
                  <a:pt x="286" y="286"/>
                  <a:pt x="296" y="271"/>
                  <a:pt x="328" y="261"/>
                </a:cubicBezTo>
                <a:cubicBezTo>
                  <a:pt x="339" y="243"/>
                  <a:pt x="377" y="192"/>
                  <a:pt x="393" y="180"/>
                </a:cubicBezTo>
                <a:cubicBezTo>
                  <a:pt x="409" y="165"/>
                  <a:pt x="431" y="159"/>
                  <a:pt x="450" y="147"/>
                </a:cubicBezTo>
                <a:cubicBezTo>
                  <a:pt x="455" y="138"/>
                  <a:pt x="458" y="128"/>
                  <a:pt x="466" y="122"/>
                </a:cubicBezTo>
                <a:cubicBezTo>
                  <a:pt x="472" y="116"/>
                  <a:pt x="483" y="117"/>
                  <a:pt x="491" y="114"/>
                </a:cubicBezTo>
                <a:cubicBezTo>
                  <a:pt x="516" y="101"/>
                  <a:pt x="528" y="83"/>
                  <a:pt x="556" y="73"/>
                </a:cubicBezTo>
                <a:cubicBezTo>
                  <a:pt x="585" y="44"/>
                  <a:pt x="625" y="28"/>
                  <a:pt x="654" y="0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94" name="AutoShape 14"/>
          <p:cNvSpPr/>
          <p:nvPr/>
        </p:nvSpPr>
        <p:spPr>
          <a:xfrm>
            <a:off x="3048120" y="4572000"/>
            <a:ext cx="1371600" cy="485640"/>
          </a:xfrm>
          <a:prstGeom prst="rightArrow">
            <a:avLst>
              <a:gd name="adj1" fmla="val 50000"/>
              <a:gd name="adj2" fmla="val 70608"/>
            </a:avLst>
          </a:prstGeom>
          <a:solidFill>
            <a:srgbClr val="49a4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 &gt; 4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95" name="Text Box 16"/>
          <p:cNvSpPr/>
          <p:nvPr/>
        </p:nvSpPr>
        <p:spPr>
          <a:xfrm>
            <a:off x="2209680" y="76320"/>
            <a:ext cx="443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6600"/>
                </a:solidFill>
                <a:uFillTx/>
                <a:latin typeface="Times New Roman"/>
              </a:rPr>
              <a:t>Solving Radical Inequalitie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96" name="Text Box 18"/>
          <p:cNvSpPr/>
          <p:nvPr/>
        </p:nvSpPr>
        <p:spPr>
          <a:xfrm>
            <a:off x="810720" y="80172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olve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397" name="Object 19"/>
          <p:cNvGraphicFramePr/>
          <p:nvPr/>
        </p:nvGraphicFramePr>
        <p:xfrm>
          <a:off x="1371600" y="2106720"/>
          <a:ext cx="685800" cy="639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98" name="Object 1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71600" y="2106720"/>
                    <a:ext cx="68580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7" dur="indefinite" restart="never" nodeType="tmRoot">
          <p:childTnLst>
            <p:seq>
              <p:cTn id="1158" dur="indefinite" nodeType="mainSeq">
                <p:childTnLst>
                  <p:par>
                    <p:cTn id="1159" nodeType="clickEffect" fill="hold">
                      <p:stCondLst>
                        <p:cond delay="indefinite"/>
                      </p:stCondLst>
                      <p:childTnLst>
                        <p:par>
                          <p:cTn id="1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6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8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nodeType="clickEffect" fill="hold">
                      <p:stCondLst>
                        <p:cond delay="indefinite"/>
                      </p:stCondLst>
                      <p:childTnLst>
                        <p:par>
                          <p:cTn id="1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0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8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dffd3"/>
            </a:gs>
            <a:gs pos="50000">
              <a:srgbClr val="dceaec"/>
            </a:gs>
            <a:gs pos="100000">
              <a:srgbClr val="bdffd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"/>
          <p:cNvPicPr/>
          <p:nvPr/>
        </p:nvPicPr>
        <p:blipFill>
          <a:blip r:embed="rId1"/>
          <a:stretch/>
        </p:blipFill>
        <p:spPr>
          <a:xfrm>
            <a:off x="0" y="1995480"/>
            <a:ext cx="6019920" cy="2973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0" name="Object 3"/>
          <p:cNvGraphicFramePr/>
          <p:nvPr/>
        </p:nvGraphicFramePr>
        <p:xfrm>
          <a:off x="1741320" y="723960"/>
          <a:ext cx="2005200" cy="52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1320" y="723960"/>
                    <a:ext cx="200520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Text Box 4"/>
          <p:cNvSpPr/>
          <p:nvPr/>
        </p:nvSpPr>
        <p:spPr>
          <a:xfrm>
            <a:off x="6289560" y="4738680"/>
            <a:ext cx="2611440" cy="947160"/>
          </a:xfrm>
          <a:prstGeom prst="rect">
            <a:avLst/>
          </a:prstGeom>
          <a:solidFill>
            <a:srgbClr val="ffffcc"/>
          </a:solidFill>
          <a:ln w="76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 solution is 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-1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Times New Roman"/>
              </a:rPr>
              <a:t>&lt;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&lt; 8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6102720" y="3062160"/>
            <a:ext cx="2858400" cy="11912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The graphs intersect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at the point where 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</a:rPr>
              <a:t> = 8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04" name="Rectangle 10"/>
          <p:cNvSpPr/>
          <p:nvPr/>
        </p:nvSpPr>
        <p:spPr>
          <a:xfrm>
            <a:off x="0" y="3164040"/>
            <a:ext cx="6019920" cy="2057400"/>
          </a:xfrm>
          <a:prstGeom prst="rect">
            <a:avLst/>
          </a:prstGeom>
          <a:solidFill>
            <a:srgbClr val="49a4ff">
              <a:alpha val="50000"/>
            </a:srgbClr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05" name="Oval 5"/>
          <p:cNvSpPr/>
          <p:nvPr/>
        </p:nvSpPr>
        <p:spPr>
          <a:xfrm>
            <a:off x="4495680" y="2833560"/>
            <a:ext cx="533520" cy="60984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06" name="Line 7"/>
          <p:cNvSpPr/>
          <p:nvPr/>
        </p:nvSpPr>
        <p:spPr>
          <a:xfrm flipV="1">
            <a:off x="4724280" y="1537920"/>
            <a:ext cx="0" cy="3048120"/>
          </a:xfrm>
          <a:prstGeom prst="line">
            <a:avLst/>
          </a:prstGeom>
          <a:ln w="5724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07" name="Line 8"/>
          <p:cNvSpPr/>
          <p:nvPr/>
        </p:nvSpPr>
        <p:spPr>
          <a:xfrm flipV="1">
            <a:off x="1511280" y="1550520"/>
            <a:ext cx="0" cy="3048120"/>
          </a:xfrm>
          <a:prstGeom prst="line">
            <a:avLst/>
          </a:prstGeom>
          <a:ln w="5724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08" name="AutoShape 9"/>
          <p:cNvSpPr/>
          <p:nvPr/>
        </p:nvSpPr>
        <p:spPr>
          <a:xfrm>
            <a:off x="1523880" y="4433760"/>
            <a:ext cx="3200400" cy="762120"/>
          </a:xfrm>
          <a:prstGeom prst="leftRightArrow">
            <a:avLst>
              <a:gd name="adj1" fmla="val 33991"/>
              <a:gd name="adj2" fmla="val 55194"/>
            </a:avLst>
          </a:prstGeom>
          <a:solidFill>
            <a:srgbClr val="ff6600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</a:rPr>
              <a:t> ≥ -1 and </a:t>
            </a:r>
            <a:r>
              <a:rPr b="1" i="1" lang="en-US" sz="20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</a:rPr>
              <a:t> &lt;  8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09" name="Freeform 12"/>
          <p:cNvSpPr/>
          <p:nvPr/>
        </p:nvSpPr>
        <p:spPr>
          <a:xfrm>
            <a:off x="1503360" y="3137040"/>
            <a:ext cx="3265560" cy="1100160"/>
          </a:xfrm>
          <a:custGeom>
            <a:avLst/>
            <a:gdLst/>
            <a:ahLst/>
            <a:rect l="l" t="t" r="r" b="b"/>
            <a:pathLst>
              <a:path w="2057" h="693">
                <a:moveTo>
                  <a:pt x="0" y="693"/>
                </a:moveTo>
                <a:cubicBezTo>
                  <a:pt x="9" y="665"/>
                  <a:pt x="19" y="647"/>
                  <a:pt x="41" y="628"/>
                </a:cubicBezTo>
                <a:cubicBezTo>
                  <a:pt x="50" y="598"/>
                  <a:pt x="63" y="593"/>
                  <a:pt x="82" y="571"/>
                </a:cubicBezTo>
                <a:cubicBezTo>
                  <a:pt x="119" y="523"/>
                  <a:pt x="163" y="495"/>
                  <a:pt x="220" y="473"/>
                </a:cubicBezTo>
                <a:cubicBezTo>
                  <a:pt x="244" y="463"/>
                  <a:pt x="269" y="456"/>
                  <a:pt x="294" y="448"/>
                </a:cubicBezTo>
                <a:cubicBezTo>
                  <a:pt x="310" y="442"/>
                  <a:pt x="343" y="432"/>
                  <a:pt x="343" y="432"/>
                </a:cubicBezTo>
                <a:cubicBezTo>
                  <a:pt x="351" y="426"/>
                  <a:pt x="358" y="419"/>
                  <a:pt x="367" y="416"/>
                </a:cubicBezTo>
                <a:cubicBezTo>
                  <a:pt x="382" y="409"/>
                  <a:pt x="416" y="400"/>
                  <a:pt x="416" y="400"/>
                </a:cubicBezTo>
                <a:cubicBezTo>
                  <a:pt x="478" y="357"/>
                  <a:pt x="541" y="364"/>
                  <a:pt x="612" y="342"/>
                </a:cubicBezTo>
                <a:cubicBezTo>
                  <a:pt x="662" y="325"/>
                  <a:pt x="715" y="312"/>
                  <a:pt x="767" y="302"/>
                </a:cubicBezTo>
                <a:cubicBezTo>
                  <a:pt x="796" y="272"/>
                  <a:pt x="834" y="273"/>
                  <a:pt x="873" y="261"/>
                </a:cubicBezTo>
                <a:cubicBezTo>
                  <a:pt x="922" y="211"/>
                  <a:pt x="1063" y="196"/>
                  <a:pt x="1135" y="187"/>
                </a:cubicBezTo>
                <a:cubicBezTo>
                  <a:pt x="1219" y="158"/>
                  <a:pt x="1297" y="152"/>
                  <a:pt x="1388" y="146"/>
                </a:cubicBezTo>
                <a:cubicBezTo>
                  <a:pt x="1451" y="135"/>
                  <a:pt x="1511" y="120"/>
                  <a:pt x="1575" y="114"/>
                </a:cubicBezTo>
                <a:cubicBezTo>
                  <a:pt x="1656" y="94"/>
                  <a:pt x="1736" y="71"/>
                  <a:pt x="1820" y="57"/>
                </a:cubicBezTo>
                <a:cubicBezTo>
                  <a:pt x="1837" y="53"/>
                  <a:pt x="1900" y="44"/>
                  <a:pt x="1918" y="40"/>
                </a:cubicBezTo>
                <a:cubicBezTo>
                  <a:pt x="1943" y="33"/>
                  <a:pt x="1966" y="20"/>
                  <a:pt x="1992" y="16"/>
                </a:cubicBezTo>
                <a:cubicBezTo>
                  <a:pt x="2046" y="7"/>
                  <a:pt x="2026" y="15"/>
                  <a:pt x="2057" y="0"/>
                </a:cubicBezTo>
              </a:path>
            </a:pathLst>
          </a:custGeom>
          <a:noFill/>
          <a:ln w="7632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10" name="Text Box 13"/>
          <p:cNvSpPr/>
          <p:nvPr/>
        </p:nvSpPr>
        <p:spPr>
          <a:xfrm>
            <a:off x="5852520" y="7603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&gt; -1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11" name="Text Box 15"/>
          <p:cNvSpPr/>
          <p:nvPr/>
        </p:nvSpPr>
        <p:spPr>
          <a:xfrm>
            <a:off x="25560" y="76320"/>
            <a:ext cx="443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olving Radical Inequalitie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12" name="Text Box 16"/>
          <p:cNvSpPr/>
          <p:nvPr/>
        </p:nvSpPr>
        <p:spPr>
          <a:xfrm>
            <a:off x="763200" y="80172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olve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5" dur="indefinite" restart="never" nodeType="tmRoot">
          <p:childTnLst>
            <p:seq>
              <p:cTn id="1236" dur="indefinite" nodeType="mainSeq">
                <p:childTnLst>
                  <p:par>
                    <p:cTn id="1237" nodeType="clickEffect" fill="hold">
                      <p:stCondLst>
                        <p:cond delay="indefinite"/>
                      </p:stCondLst>
                      <p:childTnLst>
                        <p:par>
                          <p:cTn id="1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4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nodeType="clickEffect" fill="hold">
                      <p:stCondLst>
                        <p:cond delay="indefinite"/>
                      </p:stCondLst>
                      <p:childTnLst>
                        <p:par>
                          <p:cTn id="1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nodeType="clickEffect" fill="hold">
                      <p:stCondLst>
                        <p:cond delay="indefinite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nodeType="clickEffect" fill="hold">
                      <p:stCondLst>
                        <p:cond delay="indefinite"/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9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nodeType="clickEffect" fill="hold">
                      <p:stCondLst>
                        <p:cond delay="indefinite"/>
                      </p:stCondLst>
                      <p:childTnLst>
                        <p:par>
                          <p:cTn id="1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nodeType="clickEffect" fill="hold">
                      <p:stCondLst>
                        <p:cond delay="indefinite"/>
                      </p:stCondLst>
                      <p:childTnLst>
                        <p:par>
                          <p:cTn id="1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9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nodeType="clickEffect" fill="hold">
                      <p:stCondLst>
                        <p:cond delay="indefinite"/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9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nodeType="clickEffect" fill="hold">
                      <p:stCondLst>
                        <p:cond delay="indefinite"/>
                      </p:stCondLst>
                      <p:childTnLst>
                        <p:par>
                          <p:cTn id="1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232200" y="577800"/>
            <a:ext cx="8517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An equation in which a 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variable occurs in the radicand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is called a 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radical equation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. It should be noted, that 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when solving a radical equation algebraically, 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extraneous roots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may be introduced when both sides of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an equation are squared.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refore, you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Times New Roman"/>
              </a:rPr>
              <a:t>must check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your solutions for a radical equation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368280" y="3411360"/>
            <a:ext cx="33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Solve:  √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3  - 3 = 0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765440" y="3448080"/>
            <a:ext cx="761760" cy="0"/>
          </a:xfrm>
          <a:prstGeom prst="line">
            <a:avLst/>
          </a:prstGeom>
          <a:ln w="1260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892160" y="3944880"/>
            <a:ext cx="17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√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3  = 3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9" name="Line 6"/>
          <p:cNvSpPr/>
          <p:nvPr/>
        </p:nvSpPr>
        <p:spPr>
          <a:xfrm>
            <a:off x="2184480" y="3981600"/>
            <a:ext cx="83808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1483920" y="4464000"/>
            <a:ext cx="25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(√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3  )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= (3)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1" name="Line 8"/>
          <p:cNvSpPr/>
          <p:nvPr/>
        </p:nvSpPr>
        <p:spPr>
          <a:xfrm>
            <a:off x="1879560" y="4502160"/>
            <a:ext cx="83808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2197080" y="5087880"/>
            <a:ext cx="162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3 = 9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    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= 12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5184360" y="3124080"/>
            <a:ext cx="126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Check: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5778000" y="3868560"/>
            <a:ext cx="167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√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3  - 3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6083280" y="3905280"/>
            <a:ext cx="68580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5717160" y="4478400"/>
            <a:ext cx="176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√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12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3 - 3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7" name="Line 17"/>
          <p:cNvSpPr/>
          <p:nvPr/>
        </p:nvSpPr>
        <p:spPr>
          <a:xfrm>
            <a:off x="6048360" y="4514760"/>
            <a:ext cx="990720" cy="0"/>
          </a:xfrm>
          <a:prstGeom prst="line">
            <a:avLst/>
          </a:prstGeom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6658200" y="4935600"/>
            <a:ext cx="83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3 - 3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7924680" y="3701880"/>
            <a:ext cx="0" cy="289584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0" name="Text Box 20"/>
          <p:cNvSpPr/>
          <p:nvPr/>
        </p:nvSpPr>
        <p:spPr>
          <a:xfrm>
            <a:off x="8443800" y="3792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1" name="Text Box 21"/>
          <p:cNvSpPr/>
          <p:nvPr/>
        </p:nvSpPr>
        <p:spPr>
          <a:xfrm>
            <a:off x="3858480" y="5835600"/>
            <a:ext cx="3644640" cy="947160"/>
          </a:xfrm>
          <a:prstGeom prst="rect">
            <a:avLst/>
          </a:prstGeom>
          <a:solidFill>
            <a:srgbClr val="bdffd3"/>
          </a:solidFill>
          <a:ln w="76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refore, the solution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is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= 12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2" name="Text Box 22"/>
          <p:cNvSpPr/>
          <p:nvPr/>
        </p:nvSpPr>
        <p:spPr>
          <a:xfrm>
            <a:off x="4192200" y="3473280"/>
            <a:ext cx="8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66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 ≥ 3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3" name="Text Box 23"/>
          <p:cNvSpPr/>
          <p:nvPr/>
        </p:nvSpPr>
        <p:spPr>
          <a:xfrm>
            <a:off x="3096720" y="14400"/>
            <a:ext cx="297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Times New Roman"/>
              </a:rPr>
              <a:t>Radical Equation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4" name="Line 25"/>
          <p:cNvSpPr/>
          <p:nvPr/>
        </p:nvSpPr>
        <p:spPr>
          <a:xfrm>
            <a:off x="6019920" y="3708360"/>
            <a:ext cx="3124080" cy="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5" name="Text Box 26"/>
          <p:cNvSpPr/>
          <p:nvPr/>
        </p:nvSpPr>
        <p:spPr>
          <a:xfrm>
            <a:off x="6632640" y="3276720"/>
            <a:ext cx="22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L.S.             R.S.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Object 2"/>
          <p:cNvGraphicFramePr/>
          <p:nvPr/>
        </p:nvGraphicFramePr>
        <p:xfrm>
          <a:off x="0" y="0"/>
          <a:ext cx="9144000" cy="26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8" name="Picture 2" descr="C:\Users\HP_Administrator\Pictures\My Pictures\Thomas Jefferson.jpg"/>
          <p:cNvPicPr/>
          <p:nvPr/>
        </p:nvPicPr>
        <p:blipFill>
          <a:blip r:embed="rId3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99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4"/>
              <p:cNvSpPr txBox="1"/>
              <p:nvPr/>
            </p:nvSpPr>
            <p:spPr>
              <a:xfrm>
                <a:off x="2514600" y="533520"/>
                <a:ext cx="4349880" cy="495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090000" cy="2057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4"/>
              <p:cNvSpPr txBox="1"/>
              <p:nvPr/>
            </p:nvSpPr>
            <p:spPr>
              <a:xfrm>
                <a:off x="2057400" y="228600"/>
                <a:ext cx="5087880" cy="563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9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477360" y="866880"/>
            <a:ext cx="259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4 + √ 4 +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 =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6" name="Line 5"/>
          <p:cNvSpPr/>
          <p:nvPr/>
        </p:nvSpPr>
        <p:spPr>
          <a:xfrm>
            <a:off x="1434960" y="1523880"/>
            <a:ext cx="838440" cy="0"/>
          </a:xfrm>
          <a:prstGeom prst="line">
            <a:avLst/>
          </a:prstGeom>
          <a:ln w="1260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766800" y="1476360"/>
            <a:ext cx="270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   √ 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4 +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4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1359000" y="888840"/>
            <a:ext cx="914400" cy="0"/>
          </a:xfrm>
          <a:prstGeom prst="line">
            <a:avLst/>
          </a:prstGeom>
          <a:ln w="1260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9" name="Line 8"/>
          <p:cNvSpPr/>
          <p:nvPr/>
        </p:nvSpPr>
        <p:spPr>
          <a:xfrm>
            <a:off x="1282680" y="1981080"/>
            <a:ext cx="914400" cy="0"/>
          </a:xfrm>
          <a:prstGeom prst="line">
            <a:avLst/>
          </a:prstGeom>
          <a:ln w="1260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1451880" y="2390760"/>
            <a:ext cx="307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4 +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=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8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+ 16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8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= 12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1" name="Line 11"/>
          <p:cNvSpPr/>
          <p:nvPr/>
        </p:nvSpPr>
        <p:spPr>
          <a:xfrm>
            <a:off x="7848720" y="1066680"/>
            <a:ext cx="0" cy="533412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8215200" y="1081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33" name="Object 13"/>
          <p:cNvGraphicFramePr/>
          <p:nvPr/>
        </p:nvGraphicFramePr>
        <p:xfrm>
          <a:off x="8305920" y="1752480"/>
          <a:ext cx="29844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05920" y="1752480"/>
                    <a:ext cx="2984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Line 14"/>
          <p:cNvSpPr/>
          <p:nvPr/>
        </p:nvSpPr>
        <p:spPr>
          <a:xfrm>
            <a:off x="5715000" y="1676520"/>
            <a:ext cx="3124080" cy="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36" name="Object 15"/>
          <p:cNvGraphicFramePr/>
          <p:nvPr/>
        </p:nvGraphicFramePr>
        <p:xfrm>
          <a:off x="1146240" y="4335480"/>
          <a:ext cx="121608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6240" y="4335480"/>
                    <a:ext cx="121608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Text Box 16"/>
          <p:cNvSpPr/>
          <p:nvPr/>
        </p:nvSpPr>
        <p:spPr>
          <a:xfrm>
            <a:off x="230400" y="4510080"/>
            <a:ext cx="99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Since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9" name="Text Box 17"/>
          <p:cNvSpPr/>
          <p:nvPr/>
        </p:nvSpPr>
        <p:spPr>
          <a:xfrm>
            <a:off x="2363760" y="4510080"/>
            <a:ext cx="23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the solution of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40" name="Text Box 18"/>
          <p:cNvSpPr/>
          <p:nvPr/>
        </p:nvSpPr>
        <p:spPr>
          <a:xfrm>
            <a:off x="291240" y="5348160"/>
            <a:ext cx="73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= 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41" name="Object 19"/>
          <p:cNvGraphicFramePr/>
          <p:nvPr/>
        </p:nvGraphicFramePr>
        <p:xfrm>
          <a:off x="863640" y="5207040"/>
          <a:ext cx="330120" cy="8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63640" y="5207040"/>
                    <a:ext cx="3301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Text Box 20"/>
          <p:cNvSpPr/>
          <p:nvPr/>
        </p:nvSpPr>
        <p:spPr>
          <a:xfrm>
            <a:off x="234000" y="5057640"/>
            <a:ext cx="500868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is 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extraneous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.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refore,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re are no real roots.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44" name="Text Box 21"/>
          <p:cNvSpPr/>
          <p:nvPr/>
        </p:nvSpPr>
        <p:spPr>
          <a:xfrm>
            <a:off x="4194000" y="990720"/>
            <a:ext cx="126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Check: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45" name="Object 22"/>
          <p:cNvGraphicFramePr/>
          <p:nvPr/>
        </p:nvGraphicFramePr>
        <p:xfrm>
          <a:off x="5943600" y="1066680"/>
          <a:ext cx="1746360" cy="503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6" name="Object 2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43600" y="1066680"/>
                    <a:ext cx="174636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23"/>
          <p:cNvGraphicFramePr/>
          <p:nvPr/>
        </p:nvGraphicFramePr>
        <p:xfrm>
          <a:off x="5943600" y="1752480"/>
          <a:ext cx="1752480" cy="852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8" name="Object 2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943600" y="1752480"/>
                    <a:ext cx="175248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24"/>
          <p:cNvGraphicFramePr/>
          <p:nvPr/>
        </p:nvGraphicFramePr>
        <p:xfrm>
          <a:off x="6095880" y="2836800"/>
          <a:ext cx="1447920" cy="828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0" name="Object 2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95880" y="2836800"/>
                    <a:ext cx="144792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25"/>
          <p:cNvGraphicFramePr/>
          <p:nvPr/>
        </p:nvGraphicFramePr>
        <p:xfrm>
          <a:off x="6400800" y="3809880"/>
          <a:ext cx="1143000" cy="851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2" name="Object 2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400800" y="3809880"/>
                    <a:ext cx="114300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26"/>
          <p:cNvGraphicFramePr/>
          <p:nvPr/>
        </p:nvGraphicFramePr>
        <p:xfrm>
          <a:off x="6705720" y="4803840"/>
          <a:ext cx="869760" cy="838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4" name="Object 2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705720" y="4803840"/>
                    <a:ext cx="8697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27"/>
          <p:cNvGraphicFramePr/>
          <p:nvPr/>
        </p:nvGraphicFramePr>
        <p:xfrm>
          <a:off x="7086600" y="5791320"/>
          <a:ext cx="461880" cy="863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6" name="Object 2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086600" y="5791320"/>
                    <a:ext cx="46188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28"/>
          <p:cNvGraphicFramePr/>
          <p:nvPr/>
        </p:nvGraphicFramePr>
        <p:xfrm>
          <a:off x="8107200" y="5791320"/>
          <a:ext cx="358920" cy="9144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58" name="Object 28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8107200" y="5791320"/>
                    <a:ext cx="3589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Text Box 29"/>
          <p:cNvSpPr/>
          <p:nvPr/>
        </p:nvSpPr>
        <p:spPr>
          <a:xfrm>
            <a:off x="7621920" y="5867280"/>
            <a:ext cx="45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≠</a:t>
            </a:r>
            <a:endParaRPr b="0" lang="en-US" sz="4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0" name="Rectangle 30"/>
          <p:cNvSpPr/>
          <p:nvPr/>
        </p:nvSpPr>
        <p:spPr>
          <a:xfrm>
            <a:off x="871200" y="1944720"/>
            <a:ext cx="29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√ 4 + 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cc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66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6600cc"/>
                </a:solidFill>
                <a:latin typeface="Times New Roman"/>
              </a:rPr>
              <a:t> - 4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  <p:graphicFrame>
        <p:nvGraphicFramePr>
          <p:cNvPr id="161" name="Object 32"/>
          <p:cNvGraphicFramePr/>
          <p:nvPr/>
        </p:nvGraphicFramePr>
        <p:xfrm>
          <a:off x="2184480" y="3327480"/>
          <a:ext cx="900000" cy="8380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62" name="Object 3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184480" y="3327480"/>
                    <a:ext cx="9000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Text Box 33"/>
          <p:cNvSpPr/>
          <p:nvPr/>
        </p:nvSpPr>
        <p:spPr>
          <a:xfrm>
            <a:off x="2362680" y="-4608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Times New Roman"/>
              </a:rPr>
              <a:t>Solving Radical Equations</a:t>
            </a:r>
            <a:endParaRPr b="0" lang="en-US" sz="2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Object 2" descr=""/>
          <p:cNvPicPr/>
          <p:nvPr/>
        </p:nvPicPr>
        <p:blipFill>
          <a:blip r:embed="rId1"/>
          <a:stretch/>
        </p:blipFill>
        <p:spPr>
          <a:xfrm>
            <a:off x="0" y="76320"/>
            <a:ext cx="9090000" cy="266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C:\Users\HP_Administrator\Pictures\My Pictures\Thomas Jefferson.jpg"/>
          <p:cNvPicPr/>
          <p:nvPr/>
        </p:nvPicPr>
        <p:blipFill>
          <a:blip r:embed="rId2"/>
          <a:stretch/>
        </p:blipFill>
        <p:spPr>
          <a:xfrm>
            <a:off x="8610480" y="6095880"/>
            <a:ext cx="533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0T20:34:57Z</dcterms:created>
  <dc:creator>R Kennedy</dc:creator>
  <dc:description/>
  <dc:language>en-US</dc:language>
  <cp:lastModifiedBy>RomaK</cp:lastModifiedBy>
  <cp:lastPrinted>1999-04-21T18:11:05Z</cp:lastPrinted>
  <dcterms:modified xsi:type="dcterms:W3CDTF">2015-09-04T09:19:20Z</dcterms:modified>
  <cp:revision>65</cp:revision>
  <dc:subject/>
  <dc:title>No Slide Title</dc:title>
</cp:coreProperties>
</file>