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10.jpeg" ContentType="image/jpeg"/>
  <Override PartName="/ppt/media/image9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hammer.wav" ContentType="audio/x-wav"/>
  <Override PartName="/ppt/media/click.wav" ContentType="audio/x-wav"/>
  <Override PartName="/ppt/media/arrow.wav" ContentType="audio/x-wav"/>
  <Override PartName="/ppt/media/image4.jpeg" ContentType="image/jpeg"/>
  <Override PartName="/ppt/media/type.wav" ContentType="audio/x-wav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AA6A-C9A4-4820-BDB8-7475E66497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23E-93AC-48C0-AD93-6FDF9C5A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EE5-AAAD-4667-BDA1-04F6FCA6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206-5737-40B3-8280-5D55057E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2C6-89B6-4670-9230-53B68B0E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D52D-D152-45E6-859B-0EC46822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5A46-EC1B-403B-9BCE-499EEA1C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6579-FCDD-4DAA-B90C-F44C267F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D744-BD75-483C-9ADA-EE82F79E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14C1-74D8-4DB7-AB00-6A417134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A021-9608-42F6-B078-76269A82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2C7D-35C9-4F65-9D27-4FF34A52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A0D-75DD-4D7A-931C-345192CD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0184-E15F-45B5-B27A-E7A91DF7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9E33-7762-4E14-BC4D-766E9A2A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355E-2922-4A8F-99FD-515F56BB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245A-6C5B-4C26-ACFD-87B3E8BE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0FBF-7F69-488B-9F4C-5580A4AF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6833-E1EC-4D38-B9DC-C69B366A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18D-04C1-42BB-8D47-705931B7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AD3-67C5-4B51-AD19-CF2652EB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A42-E258-4519-83CB-A6DDFB6F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8E1-BC38-4043-A388-2E714740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D52-3A89-4743-BC9A-F1C626A4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09C-44D5-437E-8CED-1A2B6257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E002-E3F8-4529-9CA3-CCC705AB192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B36D-04A9-4A4E-B726-860F2B6D786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ba-na.com/images/bathroom_acessories/77dwg_sm.gif&amp;imgrefurl=http://www.pba-na.com/bathroom/77.shtml&amp;h=250&amp;w=190&amp;sz=4&amp;tbnid=OgACVEX_L_9RVM:&amp;tbnh=106&amp;tbnw=80&amp;hl=en&amp;start=4&amp;prev=/images%3Fq%3Dbathroom%2Bsymbol%2Bmen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aiga.org/Resources/SymbolSigns/gif_large/13_toiletsq_women_inv.gif&amp;imgrefurl=http://www.aiga.org/content.cfm%3FContentAlias%3Dsymbolsigns&amp;h=613&amp;w=613&amp;sz=8&amp;tbnid=QagpGr2_zz4ZMM:&amp;tbnh=134&amp;tbnw=134&amp;hl=en&amp;start=4&amp;prev=/images%3Fq%3Dsymbol%2Bwomen%26svnum%3D10%26hl%3Den%26lr%3D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hammer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lantern.com/clipart/clips/bdayparty/partyhat1.gif&amp;imgrefurl=http://www.madlantern.com/clipart/Party.htm&amp;h=150&amp;w=142&amp;sz=8&amp;tbnid=YVI1nlna4yntPM:&amp;tbnh=90&amp;tbnw=85&amp;hl=en&amp;start=2&amp;prev=/images%3Fq%3Dparty%2Bhat%26svnum%3D10%26hl%3Den%26lr%3D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2" Type="http://schemas.openxmlformats.org/officeDocument/2006/relationships/image" Target="../media/image5.jpeg"/><Relationship Id="rId13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4" Type="http://schemas.openxmlformats.org/officeDocument/2006/relationships/image" Target="../media/image6.jpeg"/><Relationship Id="rId15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6" Type="http://schemas.openxmlformats.org/officeDocument/2006/relationships/image" Target="../media/image6.jpeg"/><Relationship Id="rId17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0" Type="http://schemas.openxmlformats.org/officeDocument/2006/relationships/image" Target="../media/image6.jpeg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8" Type="http://schemas.openxmlformats.org/officeDocument/2006/relationships/image" Target="../media/image8.jpeg"/><Relationship Id="rId1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0" Type="http://schemas.openxmlformats.org/officeDocument/2006/relationships/image" Target="../media/image8.jpeg"/><Relationship Id="rId2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2" Type="http://schemas.openxmlformats.org/officeDocument/2006/relationships/image" Target="../media/image7.jpeg"/><Relationship Id="rId2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4" Type="http://schemas.openxmlformats.org/officeDocument/2006/relationships/image" Target="../media/image7.jpeg"/><Relationship Id="rId2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6" Type="http://schemas.openxmlformats.org/officeDocument/2006/relationships/image" Target="../media/image8.jpe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O NOW (not later)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mpare the number of boys to girls in the cla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Equivalent Ratios can be formed by multiplying the ratio by any number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the rati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 : 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also be written 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: 6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: 9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: 12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26708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atio 2 : 3 can be expressed 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x to 3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ultiply the original ratio by any  numb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6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d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mpound Ratios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A ratio that compares more than 2 quantities is called a 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compound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rat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A cake recipe says the ratio of cups of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milk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sugar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and batter are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This means that there is </a:t>
            </a:r>
            <a:r>
              <a:rPr b="0" lang="en-US" sz="2400" spc="-1" strike="noStrike">
                <a:solidFill>
                  <a:srgbClr val="5e2908"/>
                </a:solidFill>
                <a:latin typeface="Arial"/>
              </a:rPr>
              <a:t>one cup of milk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for every </a:t>
            </a:r>
            <a:r>
              <a:rPr b="0" lang="en-US" sz="2400" spc="-1" strike="noStrike">
                <a:solidFill>
                  <a:srgbClr val="f11717"/>
                </a:solidFill>
                <a:latin typeface="Arial"/>
              </a:rPr>
              <a:t>two cups of sugar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 cups of b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baking"/>
          <p:cNvPicPr/>
          <p:nvPr/>
        </p:nvPicPr>
        <p:blipFill>
          <a:blip r:embed="rId1"/>
          <a:stretch/>
        </p:blipFill>
        <p:spPr>
          <a:xfrm>
            <a:off x="3733920" y="4983120"/>
            <a:ext cx="129528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8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6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A bag contains 18 yellow, blue, and red marbles. The ratio of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yellow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blue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red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marbles is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4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2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3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marbles"/>
          <p:cNvPicPr/>
          <p:nvPr/>
        </p:nvPicPr>
        <p:blipFill>
          <a:blip r:embed="rId1"/>
          <a:stretch/>
        </p:blipFill>
        <p:spPr>
          <a:xfrm>
            <a:off x="3886200" y="1295280"/>
            <a:ext cx="990720" cy="58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34290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2 can be simplified to 2 :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7391520" y="2819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62120" y="2362320"/>
            <a:ext cx="6933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Yellow : Blue : Red  is  4 : 2 :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any multiple of this is an equivalent ratio, this can also be written as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4x : 2x: 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Let 4x = yellow, 2x = blue , 3x = 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4x + 2x+ 3x = 18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9x = 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the question asks for yellow marbles,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there are 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 or 4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) = 8 yellow mar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8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7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7053E-007 L -0.0033 -0.21212 E">
                                      <p:cBhvr>
                                        <p:cTn id="737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Practice problem #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(1) You have </a:t>
            </a:r>
            <a:r>
              <a:rPr b="1" lang="en-US" sz="3000" spc="-1" strike="noStrike">
                <a:solidFill>
                  <a:srgbClr val="990099"/>
                </a:solidFill>
                <a:latin typeface="Comic Sans MS"/>
              </a:rPr>
              <a:t>100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different shirts.  The ratio of blue to black shirts is  20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                           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3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a) Write the ratio of blue to black shirts 3 different w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b) Write the ratio in simplest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c) Explain what this ratio tells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d) How many black shirts do you ha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5410080" y="2209680"/>
            <a:ext cx="6858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olution  - # 1                         </a:t>
            </a:r>
            <a:r>
              <a:rPr b="1" lang="en-US" sz="4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You have </a:t>
            </a:r>
            <a:r>
              <a:rPr b="1" lang="en-US" sz="1800" spc="-1" strike="noStrike">
                <a:solidFill>
                  <a:srgbClr val="cc9900"/>
                </a:solidFill>
                <a:latin typeface="Comic Sans MS"/>
              </a:rPr>
              <a:t>100</a:t>
            </a: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different shirts.  The ratio of blue to black shirts is 20 /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a) Write the ratio of blue to black shirts 3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0 to 30 ,   20 : 30,    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b) Write the ratio in simplest form.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c) Explain what this ratio tells us.  </a:t>
            </a:r>
            <a:r>
              <a:rPr b="0" lang="en-US" sz="1800" spc="-1" strike="noStrike">
                <a:solidFill>
                  <a:srgbClr val="f11717"/>
                </a:solidFill>
                <a:latin typeface="Comic Sans MS"/>
              </a:rPr>
              <a:t>For every two blue shirts, there are 3 black shi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d) How many black shirts do you ha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2x + 3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5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here are 2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black shirts  so 2 (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)  = 40 black shi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4800600" y="2057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434340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8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1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4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7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903" dur="20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roobie"/>
              </a:rPr>
              <a:t>Practice Word Probl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1717"/>
                </a:solidFill>
                <a:latin typeface="SimHei"/>
              </a:rPr>
              <a:t>You go to a party where the ratio of boys to girls is 28 to 56.  Express the ratio of boys to girls in simplest form.</a:t>
            </a:r>
            <a:r>
              <a:rPr b="0" lang="en-US" sz="3600" spc="-1" strike="noStrike">
                <a:solidFill>
                  <a:srgbClr val="000000"/>
                </a:solidFill>
                <a:latin typeface="SimHe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SimHei"/>
              </a:rPr>
              <a:t>Explain what this ratio tells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90720" y="3048120"/>
            <a:ext cx="74674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8 / 56 = 1 / 2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The ratio of boys to girls is 1 to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2) For every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y there ar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irls at the par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09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11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Croobie"/>
              </a:rPr>
              <a:t>Practice Word Problems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xplain what this ratio tell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34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36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Challenge Ques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we compare boys </a:t>
            </a: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rls we g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77dwg_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57200"/>
            <a:ext cx="762120" cy="100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3_toiletsq_women_in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457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What do we call a comparison between two or more quantitie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14400" y="18288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AT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410080" y="1676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e just found the RATIO of boys to gir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4120" y="3429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Is the ratio of </a:t>
            </a:r>
            <a:r>
              <a:rPr b="1" lang="en-US" sz="2400" spc="-1" strike="noStrike">
                <a:solidFill>
                  <a:srgbClr val="996600"/>
                </a:solidFill>
                <a:latin typeface="Comic Sans MS"/>
              </a:rPr>
              <a:t>girls to boys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 the sam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06668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No, when writing a ratio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DER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ma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0" descr="animation-teacher"/>
          <p:cNvPicPr/>
          <p:nvPr/>
        </p:nvPicPr>
        <p:blipFill>
          <a:blip r:embed="rId1"/>
          <a:stretch/>
        </p:blipFill>
        <p:spPr>
          <a:xfrm>
            <a:off x="762120" y="2057400"/>
            <a:ext cx="2057400" cy="19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omic Sans MS"/>
              </a:rPr>
              <a:t>AIM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What is a rati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Monotype Corsiva"/>
              </a:rPr>
              <a:t>It’s Friday night and your friends are having a party……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The ratio of girls to guys is 2 to 12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2514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ould you want to attend the part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7" descr="partyha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86200"/>
            <a:ext cx="1727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w many basketballs to footballs are there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For every 4 basketballs there are 6 footba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The </a:t>
            </a:r>
            <a:r>
              <a:rPr b="1" i="1" lang="en-US" sz="3600" spc="-1" strike="noStrike">
                <a:solidFill>
                  <a:srgbClr val="990099"/>
                </a:solidFill>
                <a:latin typeface="Comic Sans MS"/>
              </a:rPr>
              <a:t>ratio</a:t>
            </a: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 is 4 to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oo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990720"/>
            <a:ext cx="1114200" cy="66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footb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footb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6002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footba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100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footbal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816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footba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096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basketbal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76720" y="838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basketbal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19720" y="1066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basketball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352680" y="18288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basketball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91320" y="1905120"/>
            <a:ext cx="68580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8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6"/>
          <p:cNvSpPr/>
          <p:nvPr/>
        </p:nvSpPr>
        <p:spPr>
          <a:xfrm>
            <a:off x="5943600" y="2895480"/>
            <a:ext cx="3200400" cy="2819520"/>
          </a:xfrm>
          <a:prstGeom prst="rect">
            <a:avLst/>
          </a:prstGeom>
          <a:solidFill>
            <a:srgbClr val="33996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99"/>
                </a:solidFill>
                <a:latin typeface="Comic Sans MS"/>
              </a:rPr>
              <a:t>What are some other ways we can write the ratio of basketball to football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2133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85800" y="4724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905120" y="3124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05120" y="37339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828800" y="44956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v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second quantity (a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57200" y="2057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 ratio can be written in 3 way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144792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4" descr="baske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752480"/>
            <a:ext cx="111420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6095880" y="32004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Careful!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Order matters in a rati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4 to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Is NOT the same 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6 to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42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5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mic Sans MS"/>
              </a:rPr>
              <a:t>Write the ratio of sandwiches to coke bottles 3 different ways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8640" y="10666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5562720" y="137160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914400" y="37339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990720" y="37339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685800" y="480060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other words, ratios can be simplified to form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equival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atio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32" descr="sandwhich_lunch">
            <a:hlinkClick r:id="rId1"/>
          </p:cNvPr>
          <p:cNvPicPr/>
          <p:nvPr/>
        </p:nvPicPr>
        <p:blipFill>
          <a:blip r:embed="rId2"/>
          <a:stretch/>
        </p:blipFill>
        <p:spPr>
          <a:xfrm rot="5663400">
            <a:off x="2562480" y="13989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3" descr="sandwhich_lunch">
            <a:hlinkClick r:id="rId3"/>
          </p:cNvPr>
          <p:cNvPicPr/>
          <p:nvPr/>
        </p:nvPicPr>
        <p:blipFill>
          <a:blip r:embed="rId4"/>
          <a:stretch/>
        </p:blipFill>
        <p:spPr>
          <a:xfrm rot="5663400">
            <a:off x="962640" y="1323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4" descr="sandwhich_lunch">
            <a:hlinkClick r:id="rId5"/>
          </p:cNvPr>
          <p:cNvPicPr/>
          <p:nvPr/>
        </p:nvPicPr>
        <p:blipFill>
          <a:blip r:embed="rId6"/>
          <a:stretch/>
        </p:blipFill>
        <p:spPr>
          <a:xfrm rot="5663400">
            <a:off x="416304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sandwhich_lunch">
            <a:hlinkClick r:id="rId7"/>
          </p:cNvPr>
          <p:cNvPicPr/>
          <p:nvPr/>
        </p:nvPicPr>
        <p:blipFill>
          <a:blip r:embed="rId8"/>
          <a:stretch/>
        </p:blipFill>
        <p:spPr>
          <a:xfrm rot="5663400">
            <a:off x="583956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cok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" descr="cok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828800" y="137160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2" descr="cok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924680" y="15238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3" descr="cok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42900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4" descr="cok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800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5" descr="cok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39152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sandwhich_lunch">
            <a:hlinkClick r:id="rId21"/>
          </p:cNvPr>
          <p:cNvPicPr/>
          <p:nvPr/>
        </p:nvPicPr>
        <p:blipFill>
          <a:blip r:embed="rId22"/>
          <a:stretch/>
        </p:blipFill>
        <p:spPr>
          <a:xfrm rot="5663400">
            <a:off x="1114920" y="23133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7" descr="sandwhich_lunch">
            <a:hlinkClick r:id="rId23"/>
          </p:cNvPr>
          <p:cNvPicPr/>
          <p:nvPr/>
        </p:nvPicPr>
        <p:blipFill>
          <a:blip r:embed="rId24"/>
          <a:stretch/>
        </p:blipFill>
        <p:spPr>
          <a:xfrm rot="5663400">
            <a:off x="2410560" y="2466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9" descr="cok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495680" y="24382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0" descr="coke"/>
          <p:cNvPicPr/>
          <p:nvPr/>
        </p:nvPicPr>
        <p:blipFill>
          <a:blip r:embed="rId27"/>
          <a:stretch/>
        </p:blipFill>
        <p:spPr>
          <a:xfrm>
            <a:off x="3809880" y="2666880"/>
            <a:ext cx="648000" cy="9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quivalent Rati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33520" y="34290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38080" y="342900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Simplify the fraction (Find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atest common factor (GC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oth numbers and divide the numerator and denominator by the GCF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514600" y="1676520"/>
            <a:ext cx="2362320" cy="0"/>
          </a:xfrm>
          <a:prstGeom prst="line">
            <a:avLst/>
          </a:prstGeom>
          <a:ln w="604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257800" y="152388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4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1       = 1 to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   8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5943600" y="190512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51814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67816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181480" y="2590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CF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7696080" y="1447920"/>
            <a:ext cx="914400" cy="457200"/>
          </a:xfrm>
          <a:prstGeom prst="rect">
            <a:avLst/>
          </a:prstGeom>
          <a:noFill/>
          <a:ln w="442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0:33:06Z</dcterms:created>
  <dc:creator>buffena</dc:creator>
  <dc:description/>
  <dc:language>en-US</dc:language>
  <cp:lastModifiedBy>RomaK</cp:lastModifiedBy>
  <dcterms:modified xsi:type="dcterms:W3CDTF">2015-09-04T09:19:27Z</dcterms:modified>
  <cp:revision>36</cp:revision>
  <dc:subject/>
  <dc:title>DO NOW (not later):</dc:title>
</cp:coreProperties>
</file>