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3101-4C73-4923-9605-E60E1D8A3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1F2-B4C6-49DC-8456-411E58C0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9E3-F47C-4087-85C4-6E09D4F4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DBB-2923-4126-9711-DE9E5BD5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AEA-8900-40E8-AFEF-6EB7F9E5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6BD-8B4E-4796-AD19-1C07AA6F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BD0-4501-4FA6-852D-0603FD87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2C0-4CEF-4609-8577-9A1917E4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FDF-8583-4838-974F-75DD3528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D27-C806-4B1B-9795-A7C69E24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387-735B-481E-A9DF-E3A65D3E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BF8-29CF-4B70-A68A-78B63064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A31-B4FA-4CB3-82CC-9BE68D43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7EE7-AC09-4C2D-B5B8-B4F02CABD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472D-92D1-4DE8-944C-98189A055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143000" y="4876920"/>
            <a:ext cx="342900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2514600" cy="79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EB1F-C11D-45F3-B3D6-E1D0FB126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4040" y="344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 of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666880"/>
            <a:ext cx="8945640" cy="103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838080" y="4191120"/>
                <a:ext cx="160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B67C-7F88-4A59-969F-71F7B5083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2851200"/>
            <a:ext cx="914400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9D8F-2B1B-4038-B8A3-E7CAD0F74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523880" y="2286000"/>
                <a:ext cx="5562720" cy="34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D9B3-CBE9-4959-8DC4-D85EE0F19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404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2714760"/>
            <a:ext cx="8945640" cy="23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4B13-7B79-4B00-8B28-5B3FC0E73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</a:rPr>
              <a:t>m/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62120" y="2133720"/>
                <a:ext cx="6705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106B-822C-409D-BB7B-7ABF025EA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0"/>
            <a:ext cx="8377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005760" y="6659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2044800"/>
            <a:ext cx="9144000" cy="412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8E71-3603-4C52-B134-316647C89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600200" y="2057400"/>
                <a:ext cx="4648320" cy="36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EBC6-0061-454D-B3C5-9D3E9793C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371600" y="888840"/>
                <a:ext cx="6781680" cy="59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70F2-CDFD-44DE-A6EE-EFBD52F8B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828800" y="1525680"/>
                <a:ext cx="5410080" cy="50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8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3EF6-4C8B-469B-9B5B-7DEEDBEBC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04920" y="1905120"/>
                <a:ext cx="82296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0949-1528-460F-BDA8-CF64A4F61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numb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, the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c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non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143000" y="2514600"/>
                <a:ext cx="1066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" name="Object 7"/>
          <p:cNvGraphicFramePr/>
          <p:nvPr/>
        </p:nvGraphicFramePr>
        <p:xfrm>
          <a:off x="762120" y="4800600"/>
          <a:ext cx="32176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00600"/>
                    <a:ext cx="3217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A0C8-4EE6-4870-8C92-6CB9FD612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1905120"/>
                <a:ext cx="891540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F468-3C0C-4922-BD46-505528645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28600" y="1905120"/>
                <a:ext cx="86104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5AD9-3260-4EDC-9B22-9ACD81A11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28600" y="1905120"/>
                <a:ext cx="8686800" cy="39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202E-FBF5-4A96-BFF4-A52A224D6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0" y="2048040"/>
                <a:ext cx="914400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B56F-71B5-4C62-B174-F58BF2823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71600" y="1828800"/>
                <a:ext cx="30481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3B9A-1EE2-4DA7-ACAC-89C4A4042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981080" y="990720"/>
                <a:ext cx="2178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89F1-33BE-4EC5-91A3-6159FAA7E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143000" y="1576440"/>
                <a:ext cx="358128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B5F8-16ED-4E36-89A3-DF317CCA5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905120" y="1371600"/>
                <a:ext cx="3186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5961-24EA-4F2F-8ACC-08F644170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676520"/>
                <a:ext cx="30481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4DB0-3B83-413D-97B2-E8CA3DA93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38440" y="1738440"/>
                <a:ext cx="3671640" cy="35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8664-74CF-4346-85D2-BA7153A72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 Helvetica Bold"/>
              </a:rPr>
              <a:t>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BI Helvetica BoldOblique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 Helvetica BoldObliqu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257040" y="6567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05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666880" y="4343400"/>
                <a:ext cx="1752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C924-A2FF-4C28-BED8-96D015234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59120" y="1676520"/>
                <a:ext cx="35845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368F-F55A-4D9F-AE6E-7B5CEA39B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-257040" y="380880"/>
            <a:ext cx="985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0799-EF82-4BD8-9C5A-D63CFC6D4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040" y="77580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700360"/>
            <a:ext cx="9144000" cy="184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70DB-03AF-406B-B9CF-2AFE2F71E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5168-E66A-47C3-887D-C3BFD02E9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11200" y="533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8915400" cy="13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8E03-74AA-403B-AF88-96077AA55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9320" y="1782720"/>
                <a:ext cx="6933960" cy="46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FEC2-B112-4C7B-A8BC-9AB99FABE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82760" y="344520"/>
            <a:ext cx="8377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98360" y="2743200"/>
            <a:ext cx="8945640" cy="160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A7C4-1205-4B08-BADF-AFB5BB1B5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600200" y="1832040"/>
                <a:ext cx="4800600" cy="43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8:09:43Z</dcterms:created>
  <dc:creator>David W. Casey</dc:creator>
  <dc:description/>
  <dc:language>en-US</dc:language>
  <cp:lastModifiedBy>RomaK</cp:lastModifiedBy>
  <dcterms:modified xsi:type="dcterms:W3CDTF">2015-09-04T09:19:45Z</dcterms:modified>
  <cp:revision>118</cp:revision>
  <dc:subject/>
  <dc:title>Intermediate Algebra Chapter 7</dc:title>
</cp:coreProperties>
</file>