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D272-5417-4609-9D6A-82B872BAC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DEA-E12B-4F39-9F0A-D327552D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7A5B-60C1-4060-BAB7-F45E13B6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BED-1A46-4DBB-90BE-3AE63759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119-6152-46F6-8EA5-A26C8CFA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8AC-4B5C-4A08-89CC-17C49BC3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8DC-95A6-45B7-B9C1-7339ED89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DF5-F252-4FBA-A6C6-285F9434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646-7B43-40FA-8CDD-04752E49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1EC-D41B-4CCD-ABBA-3B28228D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6DC-49F2-4770-B749-3EA194ED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A59-DECF-4466-988F-632D4C8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514-CD56-4D50-969D-07F9C50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B8BB-3C1D-4105-806C-01B7DA856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B770-6310-4F7E-AABD-E92CF1F4D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143000" y="4876920"/>
            <a:ext cx="342900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2514600" cy="79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2E46-C694-429A-808E-6E5890D97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4040" y="344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 of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666880"/>
            <a:ext cx="8945640" cy="103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838080" y="4191120"/>
                <a:ext cx="160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CB29-31C3-404F-8DAB-4075F3C7E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2851200"/>
            <a:ext cx="914400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FC4B-5144-4066-B44D-FFCBB17C8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523880" y="2286000"/>
                <a:ext cx="5562720" cy="34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99E2-9C00-467F-874A-4EAD478D9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404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2714760"/>
            <a:ext cx="8945640" cy="23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EB64-ED05-4D1D-8B53-B758B6157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</a:rPr>
              <a:t>m/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62120" y="2133720"/>
                <a:ext cx="6705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0409-416F-4936-B5E2-D1ECFC40C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0"/>
            <a:ext cx="8377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005760" y="6659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2044800"/>
            <a:ext cx="9144000" cy="412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8AC4-C3E7-418A-9DB5-0E68B0035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600200" y="2057400"/>
                <a:ext cx="4648320" cy="36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C452-3B55-4E68-B7BD-70501F0DE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371600" y="888840"/>
                <a:ext cx="6781680" cy="59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5702-5BA6-49EE-803D-7A6F09CA0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828800" y="1525680"/>
                <a:ext cx="5410080" cy="50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8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420C-3C28-4927-9A0A-910EAAD9F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04920" y="1905120"/>
                <a:ext cx="82296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660C-633D-463D-BB40-E71C296AD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numb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, the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c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non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143000" y="2514600"/>
                <a:ext cx="1066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" name="Object 7"/>
          <p:cNvGraphicFramePr/>
          <p:nvPr/>
        </p:nvGraphicFramePr>
        <p:xfrm>
          <a:off x="762120" y="4800600"/>
          <a:ext cx="32176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00600"/>
                    <a:ext cx="3217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A455-B568-4C29-A73E-A09095CD5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1905120"/>
                <a:ext cx="891540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EC36-287F-4F95-BCE3-1BC7AC85D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28600" y="1905120"/>
                <a:ext cx="86104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3EA8-3995-4411-BE06-82EE0E92D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28600" y="1905120"/>
                <a:ext cx="8686800" cy="39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6315-A5EB-450F-9ADF-2FFCE1741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0" y="2048040"/>
                <a:ext cx="914400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0254-8621-4F52-BB32-F234580E2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71600" y="1828800"/>
                <a:ext cx="30481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903D-A6E9-4B21-BB8B-72071BD4A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981080" y="990720"/>
                <a:ext cx="2178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BB7B-23E5-4B73-A2CF-CA1F9AC28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143000" y="1576440"/>
                <a:ext cx="358128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DA8D-63E6-4CA2-9338-9EED42369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905120" y="1371600"/>
                <a:ext cx="3186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2102-D197-4E33-BB8D-BDCD89352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676520"/>
                <a:ext cx="30481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8402-2ECB-40A5-976C-2B8367A77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38440" y="1738440"/>
                <a:ext cx="3671640" cy="35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39CF-A653-4AFE-B300-48AAB5400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 Helvetica Bold"/>
              </a:rPr>
              <a:t>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BI Helvetica BoldOblique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 Helvetica BoldObliqu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257040" y="6567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05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666880" y="4343400"/>
                <a:ext cx="1752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E7B9-2D54-4645-A4A3-D0916D7E7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59120" y="1676520"/>
                <a:ext cx="35845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31F0-6D5E-4951-BFFF-A1BB5D148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-257040" y="380880"/>
            <a:ext cx="985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94CE-FD57-4F0B-A4B4-FB9709D1E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040" y="77580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700360"/>
            <a:ext cx="9144000" cy="184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E286-11F7-4D35-8BBB-0378BB170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312D-3170-4D26-8496-44F9DDBF5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11200" y="533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8915400" cy="13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B242-11AF-4EE4-B44B-7D9428A7D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9320" y="1782720"/>
                <a:ext cx="6933960" cy="46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063B-D723-4830-BB3F-51F8BCC6B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82760" y="344520"/>
            <a:ext cx="8377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98360" y="2743200"/>
            <a:ext cx="8945640" cy="160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8B1B-14B4-4E6A-A9F1-7C5A8D84E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600200" y="1832040"/>
                <a:ext cx="4800600" cy="43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8:09:43Z</dcterms:created>
  <dc:creator>David W. Casey</dc:creator>
  <dc:description/>
  <dc:language>en-US</dc:language>
  <cp:lastModifiedBy>RomaK</cp:lastModifiedBy>
  <dcterms:modified xsi:type="dcterms:W3CDTF">2015-09-04T09:19:45Z</dcterms:modified>
  <cp:revision>118</cp:revision>
  <dc:subject/>
  <dc:title>Intermediate Algebra Chapter 7</dc:title>
</cp:coreProperties>
</file>