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3AAB-4080-4873-B9A0-191A19911B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DA7D-9D9E-4BE1-90B1-05A86BB6A3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9D77-FC56-4A2F-8F99-7137903E23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7428-2A23-4E78-8096-B90B920025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B43D-31A5-4EBE-9DE3-7D9190A393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2B63-3BEF-445E-915C-724519BE08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09AA-4439-4D82-9A89-56A340CD09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C512-F596-48CF-86DE-1057773074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75D3-E1CC-49AD-9118-53C7CD65E3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7E5C-4189-41C0-B654-0EDCE44FCC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1B34-2EAB-41BB-AB2B-34774FBD8B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040E-6189-4738-83EA-FF1D95EEE3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F8AD-259B-4840-9192-0132541407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40BB-6687-4100-8C29-37C4A01C9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1233-A378-4E4D-A6BD-CC28BB2C79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0C8E-32A1-448F-8BE9-654A5FF669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CE1B-306E-4A95-92E2-AACA2F3284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B683-E08B-4803-83FA-645FC48A08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C214-35EB-4D55-AD10-1D09F2E866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441B-CD1E-476D-A671-140C2FFC89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7922-4F46-4704-BC9D-54BA331641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0C7D-E507-47CE-B400-309325609B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BFFB-329A-472A-B8F2-0EDF490D6F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076A-794D-42B8-B6F0-DAC22C275A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EECF-32DB-4D68-B4B3-0E9CB4C68F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7FA4-0DB2-42A9-B699-793498C22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C70C-CF38-4CC1-BE18-3878B93233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8AC8-54AF-40A0-9266-06DD1DECA8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1D77-2ABB-4C95-BD6D-D306FA59D3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2805-1B09-4646-B920-8272483325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C3AF-D2D2-4397-B5FE-5FD811E4C9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16D-E1A4-493A-8421-ED8B65DD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641-DCCD-4070-B00F-5DA4C4A5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0CE-C8A1-4EBD-A3FE-0B3F15CD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7E9-D24B-4A7B-A1D1-111BCB07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6756-EB0D-4609-A1AD-303A6F9E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284-B55C-4961-B913-D4EF3F6E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E02-05D8-4EFA-8BB4-7486B8D0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B94-9BD0-4A90-A4AB-0F7E9A22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4DB-0A04-4EB0-9ACB-28E668B4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669-8840-4E98-B927-1CB46C0F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171-D4F9-455B-9CC6-1FC7E20E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219-BD93-46D3-A036-07E6C2D5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25FD-ACFB-44A8-9B59-A910467BAB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539640" y="371628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6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1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RomaK</cp:lastModifiedBy>
  <dcterms:modified xsi:type="dcterms:W3CDTF">2015-08-06T10:56:26Z</dcterms:modified>
  <cp:revision>8</cp:revision>
  <dc:subject/>
  <dc:title>Slide 1</dc:title>
</cp:coreProperties>
</file>