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1662-0E6D-4E14-A475-07F8CC76C7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7131-5ED9-4EB5-B480-C1CE907DBB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DBAA-6227-498E-B273-62706A78E4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C3B4-FE0F-478D-A02D-BE668DB31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30E7-3069-4F01-98F9-D4AF45501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B75B-5BD6-4362-9193-7C3F52E55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6D57-9DE9-4995-B575-097300D32B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F48E-B42B-4914-95BB-88EE19D0F5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837C-74E4-489E-974D-15A802581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9B20-DBF9-48D7-BDC6-699F76161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9F29-1629-4479-AD73-2A493AF13F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0C58-DF0C-41BA-938E-03D5EFB5F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6317-49FF-48C1-9372-36775AAB2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27B4-1405-4CF6-83E9-C12B4D404E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E48E-DBA7-4F88-97C7-9751CB0778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FCC2-0136-4D15-86A9-BD1435BE8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BC86-D1A1-407F-8AD9-CE464859C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05B2-CC8F-4E4D-AFD9-C9BCFB4B09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1DB5-5C1F-48EB-A745-7A84796371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23ED-3CD2-4F0D-B7DA-C6F0107A56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6DF8-5BFF-4E23-8AE5-5AA250D6F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AF0D-4C4D-4485-BDEB-D0A0E3080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C96B-5696-4E36-8DD4-183A18062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BF4E-CEBF-4B9F-A682-98B48EF2D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51C9-391D-4430-9DAC-52CC68C0E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3470-4467-4641-A481-75780E80CF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1E92-7F3D-4A53-8FF8-72EA2A3B10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59EA-D562-474C-B3A5-393FCB6CBD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3640-4BEF-493C-9775-F5EF0F7A3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1D5D-787B-4A47-8A30-77F8B105F4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C942-4F6B-450A-9594-50446903C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B36-C593-4029-951C-C73CF351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7FA-A251-4DDF-9133-EB825CA2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4F0-246B-46A1-9F1C-7A14DBC4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DA6-C7D2-47B6-81DC-6DE9B10E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E4D-08CF-48C2-82C3-C89F8538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F27-A4CF-47AA-8987-F2E42FB9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045-356C-4EEF-98FD-5F510A75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4DF-C655-4753-95AD-BE3D1E4F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103-36CE-428D-8509-A9911B4D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D51-A590-44BD-A27D-FE4B63CB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4DF-D705-4721-B733-67E5887B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B86-F5FC-450A-B17A-A3764359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590D-5125-4412-B579-62BFC8D1CF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539640" y="371628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6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1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RomaK</cp:lastModifiedBy>
  <dcterms:modified xsi:type="dcterms:W3CDTF">2015-08-06T10:56:26Z</dcterms:modified>
  <cp:revision>8</cp:revision>
  <dc:subject/>
  <dc:title>Slide 1</dc:title>
</cp:coreProperties>
</file>