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DC65-CBEE-4886-AF47-DB1F24DBF0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9671-6AD2-476D-98E4-CD9A877133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7F14-6DA0-496E-85C1-1B56AE574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AE59-8197-4EB3-A5B4-4D9E56DEB9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3998-AA99-4B8E-9274-E92DA8852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447E-59EB-48A7-A948-2546B523D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75E5-0724-4457-8C36-4B97A204F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339F-9E78-408E-A2E4-E449215C80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2531-3BA2-415D-A746-5A004EAE4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D6A9-EE85-42B3-A7CF-F51C02C1CD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845F-5C95-4210-90DF-821923F8E0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F534-D6EB-4275-8DD2-7E8A83AD1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2ED6-A50A-44B4-B3C3-44F3789A2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490F-DFEE-4C89-983B-3E10482C4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1EB7-5117-45C5-A6D8-EEC2BDC0A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1389-1418-4382-9B20-A54DB6FFB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4C2-D614-48AE-B671-965F12232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9F9B-70DF-43D6-B8A2-C6A352E51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C9F1-E875-4BD5-BAB1-261FDED56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6487-9C1F-43E0-9DAA-678239E0A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5BB3-39AC-4577-8972-87369E082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DE89-B212-4964-9B68-B662E70FB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FE03-6B71-4E42-92B5-0EC071231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325A-506F-4BE6-8988-5A18C911B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4115-E28C-4055-8D74-925AD8097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7F91-D2DA-4046-8FEE-799C78F901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2E1E-22C5-4DDD-A0BE-0CE0D93A2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E160-8317-4540-BDBA-8EA58CCE9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9822-B610-4AA4-8A52-775579985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E3A0-CEF4-44B3-85CE-E09371A63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C8C0-78AF-4C26-87B6-E9A995FC2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72D-E721-4406-BF9B-587AB951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258-15DF-455B-95AC-DF8C0D71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0E9-C22D-4A48-9FC8-C416E468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E2D-6A1B-4241-B121-18F86DB1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04D-27DF-4D0C-B384-96E07161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4C8-57EC-4F99-9AF7-4195A390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F91-5A87-41A4-9303-0D3D4C64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5E0-34FA-46F5-B8BA-745B42B3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B1F-603B-44CE-9533-AE400929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EC0-6FFE-462D-9558-C1E8DFC9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03C-13E5-4F97-BFC0-9A0D99DA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995-1F22-4B6C-8813-B7F25CD8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F339-2EA7-483D-8763-BDB5A1A9D7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539640" y="371628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6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1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RomaK</cp:lastModifiedBy>
  <dcterms:modified xsi:type="dcterms:W3CDTF">2015-08-06T10:56:26Z</dcterms:modified>
  <cp:revision>8</cp:revision>
  <dc:subject/>
  <dc:title>Slide 1</dc:title>
</cp:coreProperties>
</file>