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9.jpeg" ContentType="image/jpeg"/>
  <Override PartName="/ppt/media/image11.png" ContentType="image/png"/>
  <Override PartName="/ppt/media/image12.jpeg" ContentType="image/jpeg"/>
  <Override PartName="/ppt/media/image13.png" ContentType="image/png"/>
  <Override PartName="/ppt/media/image6.jpeg" ContentType="image/jpeg"/>
  <Override PartName="/ppt/media/image33.jpeg" ContentType="image/jpeg"/>
  <Override PartName="/ppt/media/image27.jpeg" ContentType="image/jpeg"/>
  <Override PartName="/ppt/media/image29.jpeg" ContentType="image/jpeg"/>
  <Override PartName="/ppt/media/image8.jpeg" ContentType="image/jpeg"/>
  <Override PartName="/ppt/media/image7.jpeg" ContentType="image/jpeg"/>
  <Override PartName="/ppt/media/image28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2BFF5-74F2-4715-9909-5EDF491F9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9D662-B56B-4977-8503-7484F96482D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Water on M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A81EF-26DC-4462-A755-F411E177A98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562EF-93DF-4E2E-B04D-CEFBF15E128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D9156-D631-468A-BAE3-B7D8E679C3F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BF9DC-0D53-44EF-A7AE-1014ACD104D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A5CFE-FA75-4B7B-93AB-AD41D9CBEF7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778B3-2EB8-43D8-A5FC-CE254D0AB3B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C0ABE-0114-4D4B-83CF-2DB6918F9BC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rage place for Water: some in N Polar Cap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A8FA3-4FCF-45A5-897D-181AEE846E3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051A4-6528-4670-ACDA-8656CDEEA22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CE5F6-2F15-4940-81A4-CBCB0B1DC7D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82660-EC8D-452F-8CAE-05255C88F73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10286-28BA-4AC1-84FD-04BB6C6F13B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03D85-67F9-4EF3-BBD0-4874ACF081D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4EF63-F3F2-464A-B61F-92B83DE7688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logical Evidence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ered Sedimentary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179A7-F767-40FE-AC3B-0439E093D72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6875D-617D-43CE-96B4-12A4B5BBF10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2E55F-9D59-45C2-84AC-125A068514C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7B02C-AB93-4AE6-A664-888E706EF5F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E7609-BF95-4912-A3BB-0DA12070DD2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D3BFA-8613-4EDE-B0E3-8865909C40B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7322D-B666-405E-B0E8-9582BA9502B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168BB-8ACD-422D-B8C1-11B46C3A540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logical Evidence: Outflow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B5D96-CC7D-4F6D-AD7E-4C9BEE8AB2F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logical Evidence: Martian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9E1DF-9C23-4054-8C80-FE0F9A2D16F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logical Evidence: Sustained Water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F64BC-18EB-4BAF-A83D-6F1690949F3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39BB4-74BC-403F-ABCD-B9A67EA6937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ological Evidenc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Ancient Streambeds and Erosion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ADEC2-53AD-4039-AB76-31F5FBC1AB9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758F0-9733-486E-91A5-F625E9D24E1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695F-2694-4973-AFAE-65DBB1B28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A37D-601E-473D-87EF-6208C7AA0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7A03-9301-42E5-9119-FFFC58551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9D26-9C93-4B0E-A997-8B8162A63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0745-7BE6-4DA6-B518-12D45F617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04AC-E09B-4E25-94F7-CC50ABC17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DAE6-115C-415F-8F0B-4B911CFBF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B701-0A4C-42A3-B6EE-395794E8A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CA69-507E-4486-BBF1-33C0C24F1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3857-EAEF-43C0-92BA-D4DD50A22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DA2C-00DB-4164-A2EB-779220801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ED1E-F882-4B4F-8A1A-9CF01790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48449-307C-4E43-9965-DA9A37768BA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C830F-902A-4DD4-9AE6-1EAFEEBB332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2974320" y="228600"/>
            <a:ext cx="29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99"/>
                </a:solidFill>
                <a:uFillTx/>
                <a:latin typeface="Times New Roman"/>
              </a:rPr>
              <a:t>Water on Ma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371960" y="990720"/>
            <a:ext cx="6442560" cy="54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Geological Evidence for Water on Mars*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gullies, erosion chann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layers/sedimentary fea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e Physics of Water on M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lar ice caps – seasonal var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tmosphere - his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Chemical Evidence for Water on M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eories for Water on Mars –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debate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e Martian Meteor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096BE-729C-489D-8A51-91751F0212F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4" descr="day_temp_surface"/>
          <p:cNvPicPr/>
          <p:nvPr/>
        </p:nvPicPr>
        <p:blipFill>
          <a:blip r:embed="rId1"/>
          <a:stretch/>
        </p:blipFill>
        <p:spPr>
          <a:xfrm>
            <a:off x="457200" y="309600"/>
            <a:ext cx="8229600" cy="62388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529200" y="5791320"/>
            <a:ext cx="247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Mars Global Survey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TES instrum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70D95-A63F-49ED-AE1D-C09FE32F610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5" descr="night_temp_surface"/>
          <p:cNvPicPr/>
          <p:nvPr/>
        </p:nvPicPr>
        <p:blipFill>
          <a:blip r:embed="rId1"/>
          <a:stretch/>
        </p:blipFill>
        <p:spPr>
          <a:xfrm>
            <a:off x="457200" y="309600"/>
            <a:ext cx="8229600" cy="62388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529200" y="5791320"/>
            <a:ext cx="247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Mars Global Survey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TES instrum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44FFE-A005-40D6-9E73-307541F82FF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295920" y="240480"/>
            <a:ext cx="3736080" cy="60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Martian Atmosp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rbon Dioxide (C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: 95.32%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itrogen (N2): 2.7%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rgon (Ar): 1.6%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xygen (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: 0.13%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ater (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): 0.03%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on (Ne): 0.00025 %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/1,000 as much water as our ai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nly enough to cover the surfac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f the planet with 0.4 inches if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lted out of the atmosphere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rtian atmosphere does no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gulate the surface temperatur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n the planet as Earth’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3" descr="marsatmo"/>
          <p:cNvPicPr/>
          <p:nvPr/>
        </p:nvPicPr>
        <p:blipFill>
          <a:blip r:embed="rId1"/>
          <a:stretch/>
        </p:blipFill>
        <p:spPr>
          <a:xfrm>
            <a:off x="4419720" y="762120"/>
            <a:ext cx="4410000" cy="4952880"/>
          </a:xfrm>
          <a:prstGeom prst="rect">
            <a:avLst/>
          </a:prstGeom>
          <a:ln w="0">
            <a:noFill/>
          </a:ln>
        </p:spPr>
      </p:pic>
      <p:sp>
        <p:nvSpPr>
          <p:cNvPr id="133" name="Line 4"/>
          <p:cNvSpPr/>
          <p:nvPr/>
        </p:nvSpPr>
        <p:spPr>
          <a:xfrm>
            <a:off x="3886200" y="685800"/>
            <a:ext cx="2362320" cy="914400"/>
          </a:xfrm>
          <a:prstGeom prst="line">
            <a:avLst/>
          </a:prstGeom>
          <a:ln w="284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0C610-5703-4B03-83A2-220DA63ABC7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4" descr="mars_atmos_temp"/>
          <p:cNvPicPr/>
          <p:nvPr/>
        </p:nvPicPr>
        <p:blipFill>
          <a:blip r:embed="rId1"/>
          <a:stretch/>
        </p:blipFill>
        <p:spPr>
          <a:xfrm>
            <a:off x="457200" y="442800"/>
            <a:ext cx="8229600" cy="59724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529200" y="5715000"/>
            <a:ext cx="247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Mars Global Survey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TES instrum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56E17-E82F-496B-A97F-29A996F5CFF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677160" y="0"/>
            <a:ext cx="776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History of Mars’ atmosphere: first like Earth’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818280" y="4495680"/>
            <a:ext cx="7410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tmospheres of terrestrial planets created by out-gassing of volcano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~4 Billion years ago (Mars/Earth = same atmosphe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volcanic gasses: nitrogen, CO2, water vap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0" y="4419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1054800" y="5638680"/>
            <a:ext cx="6796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O in atmospheres condensed to create oceans on Ear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CO</a:t>
            </a:r>
            <a:r>
              <a:rPr b="0" lang="en-US" sz="20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 cycles through our atmosphere: volcanoes/carbonate roc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9" descr="figure 12-16"/>
          <p:cNvPicPr/>
          <p:nvPr/>
        </p:nvPicPr>
        <p:blipFill>
          <a:blip r:embed="rId1"/>
          <a:stretch/>
        </p:blipFill>
        <p:spPr>
          <a:xfrm>
            <a:off x="1981080" y="609480"/>
            <a:ext cx="5257800" cy="37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26895-D251-4635-A249-1A28F526314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1142640" y="152280"/>
            <a:ext cx="643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What happened to the atmosphere on Mar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449280" y="4038480"/>
            <a:ext cx="832464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nd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 may have condensed out and onto the surf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t so cold, that the water froze into 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permafr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d of volcanic activity, however, would stop the cyc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rong UV light from the Sun will break up chemicals on surf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cause them to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evapo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6" descr="figure 12-16"/>
          <p:cNvPicPr/>
          <p:nvPr/>
        </p:nvPicPr>
        <p:blipFill>
          <a:blip r:embed="rId1"/>
          <a:stretch/>
        </p:blipFill>
        <p:spPr>
          <a:xfrm>
            <a:off x="2057400" y="762120"/>
            <a:ext cx="462276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Місце для дати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Місце для нижнього колонтитула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Місце для номера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6BCA0-A492-4656-A86B-461D9BE1CF2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torage place for Water: some in N Polar Cap!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57" name="Picture 3" descr="hubble_mars"/>
          <p:cNvPicPr/>
          <p:nvPr/>
        </p:nvPicPr>
        <p:blipFill>
          <a:blip r:embed="rId1"/>
          <a:stretch/>
        </p:blipFill>
        <p:spPr>
          <a:xfrm>
            <a:off x="1066680" y="914400"/>
            <a:ext cx="2382840" cy="266688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4"/>
          <p:cNvSpPr/>
          <p:nvPr/>
        </p:nvSpPr>
        <p:spPr>
          <a:xfrm>
            <a:off x="4267080" y="1066680"/>
            <a:ext cx="4876920" cy="57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ps are frozen carbon dioxide 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‘dry ice’) and some frozen w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es on frozen 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C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freezes at T~150 K (~ -200 F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block of ‘dry ice’ T~ -110 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sublimes directly ice to g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uthern residual cap is ~300 km across, T ~150 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rthern cap is ~1,000 km, T~200K  (implies mostly water ice b/c 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ce would be sublimat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5" descr="mars_seasons"/>
          <p:cNvPicPr/>
          <p:nvPr/>
        </p:nvPicPr>
        <p:blipFill>
          <a:blip r:embed="rId2"/>
          <a:stretch/>
        </p:blipFill>
        <p:spPr>
          <a:xfrm>
            <a:off x="152280" y="3619440"/>
            <a:ext cx="396252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F9054-3659-49CB-A3CB-0D9D3F965B0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533520" y="15228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Chemical Evidence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Looking for presence of minerals which suggest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599400" y="1219320"/>
            <a:ext cx="74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mall amounts of water vapor in the atmosphere indic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at much of the planet’s water lost to space –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evapor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602640" y="2133720"/>
            <a:ext cx="79772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ent Mars missions have looked for evidence of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arbon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rge seafloor beds resulting from consumption of atmospheric C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nding little or none – this is problematic, controvers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454680" y="3581280"/>
            <a:ext cx="457704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ent Mars missions have fou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ematit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– a signature of dried-up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kes on a few places on the pla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from TES instrument on M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9" descr="hematiteMap2"/>
          <p:cNvPicPr/>
          <p:nvPr/>
        </p:nvPicPr>
        <p:blipFill>
          <a:blip r:embed="rId1"/>
          <a:stretch/>
        </p:blipFill>
        <p:spPr>
          <a:xfrm>
            <a:off x="5181480" y="3352680"/>
            <a:ext cx="32925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0BB3E-943A-43DF-AB0D-26B53720299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1219320" y="38088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Recent Chemical Evidence for water on Mars: </a:t>
            </a:r>
            <a:br>
              <a:rPr sz="2800"/>
            </a:b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Detection of Hydrogen  (Mars Odyssey - 200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3" descr="water_caps"/>
          <p:cNvPicPr/>
          <p:nvPr/>
        </p:nvPicPr>
        <p:blipFill>
          <a:blip r:embed="rId1"/>
          <a:stretch/>
        </p:blipFill>
        <p:spPr>
          <a:xfrm>
            <a:off x="990720" y="1523880"/>
            <a:ext cx="7391160" cy="49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39213-3479-4072-9E46-8E3EF0D4841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914400" y="2286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Recent chemical Evidence for water on Mars: </a:t>
            </a:r>
            <a:br>
              <a:rPr sz="2800"/>
            </a:b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Detection of Hydrogen  (Mars Odyssey - 200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5" descr="water_surface"/>
          <p:cNvPicPr/>
          <p:nvPr/>
        </p:nvPicPr>
        <p:blipFill>
          <a:blip r:embed="rId1"/>
          <a:stretch/>
        </p:blipFill>
        <p:spPr>
          <a:xfrm>
            <a:off x="533520" y="1168560"/>
            <a:ext cx="8229600" cy="54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E5DAA-D728-45FF-95DA-76E442942DD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2746440" y="228600"/>
            <a:ext cx="322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ater on Ma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3" descr="viking_channels"/>
          <p:cNvPicPr/>
          <p:nvPr/>
        </p:nvPicPr>
        <p:blipFill>
          <a:blip r:embed="rId1"/>
          <a:stretch/>
        </p:blipFill>
        <p:spPr>
          <a:xfrm>
            <a:off x="228600" y="1676520"/>
            <a:ext cx="4267080" cy="3563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gullies"/>
          <p:cNvPicPr/>
          <p:nvPr/>
        </p:nvPicPr>
        <p:blipFill>
          <a:blip r:embed="rId2"/>
          <a:stretch/>
        </p:blipFill>
        <p:spPr>
          <a:xfrm>
            <a:off x="4648320" y="1905120"/>
            <a:ext cx="4343400" cy="32572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541080" y="5562720"/>
            <a:ext cx="800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lthough many images suggest SIGNS of water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O LIQUID WATER or RAIN has ever been observed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1216080" y="4800600"/>
            <a:ext cx="188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2d2d"/>
                </a:solidFill>
                <a:latin typeface="Times New Roman"/>
              </a:rPr>
              <a:t>Viking 1 Orbi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4803120" y="464832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404280" y="990720"/>
            <a:ext cx="87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One of the most natural human curiosities – related to the ultimate question of LIFE on Ma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45D74-CECE-4809-9197-CEA38B17BAF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152280" y="3049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Theories for Water on Mars: WET, WARM M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898560" y="1407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0" y="342900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Theories for Water on Mars: COLD, DESERT M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153720" y="914400"/>
            <a:ext cx="67615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early atmosphere was den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- could support water in liquid fo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- could “rain” out the CO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onto the surf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99360" y="2133720"/>
            <a:ext cx="905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large beds of carbonate form in standing water like on Earth (Ocean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water would be plentiful on Mars, could generate the observed fea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295560" y="4038480"/>
            <a:ext cx="8554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Never right conditions for water to condense and to create ero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Have to rely on other eroding agent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- win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- dus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- liquid carbon dioxid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5F258-80F1-4C36-9D8D-7D528A7406B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685800" y="4572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eories for Water on Mars: Current Data &amp; Idea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371520" y="1295280"/>
            <a:ext cx="831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s probably did have a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“warmer, wetter”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past, but not extre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studies show water can exist in ice-covered lak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as long as temperatures get above freezing for a few da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clues from glacial regions on Earth have help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304920" y="3886200"/>
            <a:ext cx="4114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Geological Evidence: </a:t>
            </a:r>
            <a:br>
              <a:rPr sz="2800"/>
            </a:b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Use Ancient Lakebeds/Glacial Lak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as ana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7" descr="beacon_valley"/>
          <p:cNvPicPr/>
          <p:nvPr/>
        </p:nvPicPr>
        <p:blipFill>
          <a:blip r:embed="rId1"/>
          <a:stretch/>
        </p:blipFill>
        <p:spPr>
          <a:xfrm>
            <a:off x="4419720" y="3276720"/>
            <a:ext cx="44575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C4B4D-C3A4-4D3F-BA68-F95A87E8864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ological Evidence: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yered Sedimentary Feature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Picture 4" descr="holden_cntx1_i1"/>
          <p:cNvPicPr/>
          <p:nvPr/>
        </p:nvPicPr>
        <p:blipFill>
          <a:blip r:embed="rId1"/>
          <a:stretch/>
        </p:blipFill>
        <p:spPr>
          <a:xfrm>
            <a:off x="228600" y="2057400"/>
            <a:ext cx="3809880" cy="2924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200" name="Rectangle 5"/>
          <p:cNvSpPr/>
          <p:nvPr/>
        </p:nvSpPr>
        <p:spPr>
          <a:xfrm>
            <a:off x="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icture 6" descr="M03-02733sub1_i1"/>
          <p:cNvPicPr/>
          <p:nvPr/>
        </p:nvPicPr>
        <p:blipFill>
          <a:blip r:embed="rId2"/>
          <a:stretch/>
        </p:blipFill>
        <p:spPr>
          <a:xfrm>
            <a:off x="4419720" y="1828800"/>
            <a:ext cx="4246560" cy="4648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202" name="Line 7"/>
          <p:cNvSpPr/>
          <p:nvPr/>
        </p:nvSpPr>
        <p:spPr>
          <a:xfrm>
            <a:off x="1676520" y="4038480"/>
            <a:ext cx="2666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8"/>
          <p:cNvSpPr/>
          <p:nvPr/>
        </p:nvSpPr>
        <p:spPr>
          <a:xfrm>
            <a:off x="1295280" y="5181480"/>
            <a:ext cx="190512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1295280" y="5334120"/>
            <a:ext cx="19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141 km (88 mile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0"/>
          <p:cNvSpPr/>
          <p:nvPr/>
        </p:nvSpPr>
        <p:spPr>
          <a:xfrm>
            <a:off x="1066680" y="58672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lden Cr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11" descr="mars-candor-chasma-lrg"/>
          <p:cNvPicPr/>
          <p:nvPr/>
        </p:nvPicPr>
        <p:blipFill>
          <a:blip r:embed="rId3"/>
          <a:stretch/>
        </p:blipFill>
        <p:spPr>
          <a:xfrm>
            <a:off x="2057400" y="304920"/>
            <a:ext cx="48895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9105D-8CBD-4D71-A3FE-C2ADF1D4954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371160" y="3200400"/>
            <a:ext cx="750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Also can invoke an active underground system of w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- water lower down may be able to be liqui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(warmer near Mars’ cor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- volcanic soils (megaregolith) are incredibly poro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8"/>
          <p:cNvSpPr/>
          <p:nvPr/>
        </p:nvSpPr>
        <p:spPr>
          <a:xfrm>
            <a:off x="380880" y="99072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so can invok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YCL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of warm, wet clim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volcanic activity generates atmosphere for short period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water starts flowing again (unfreeze i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create the observed layers of water erosion featur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water freezes into permafrost under Mars surf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1450800" y="5105520"/>
            <a:ext cx="653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ff"/>
                </a:solidFill>
                <a:latin typeface="Times New Roman"/>
              </a:rPr>
              <a:t>The final word… keep watching the skies (NAS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ff"/>
                </a:solidFill>
                <a:latin typeface="Times New Roman"/>
              </a:rPr>
              <a:t>Monday: review of current/future Mars Explo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ff"/>
                </a:solidFill>
                <a:latin typeface="Times New Roman"/>
              </a:rPr>
              <a:t>New results in every day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3"/>
          <p:cNvSpPr/>
          <p:nvPr/>
        </p:nvSpPr>
        <p:spPr>
          <a:xfrm>
            <a:off x="304920" y="228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eories for Water on Mars: Current Data &amp; Idea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FA4BB-8B70-43F9-B78A-82FF687E48D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5" descr="9904microbes05sml"/>
          <p:cNvPicPr/>
          <p:nvPr/>
        </p:nvPicPr>
        <p:blipFill>
          <a:blip r:embed="rId1"/>
          <a:stretch/>
        </p:blipFill>
        <p:spPr>
          <a:xfrm>
            <a:off x="762120" y="990720"/>
            <a:ext cx="2819160" cy="173664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6"/>
          <p:cNvSpPr/>
          <p:nvPr/>
        </p:nvSpPr>
        <p:spPr>
          <a:xfrm>
            <a:off x="0" y="320040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What are these “meteorites”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7"/>
          <p:cNvSpPr/>
          <p:nvPr/>
        </p:nvSpPr>
        <p:spPr>
          <a:xfrm>
            <a:off x="2590920" y="2286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rtian Meteor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14" descr="meteorite"/>
          <p:cNvPicPr/>
          <p:nvPr/>
        </p:nvPicPr>
        <p:blipFill>
          <a:blip r:embed="rId2"/>
          <a:stretch/>
        </p:blipFill>
        <p:spPr>
          <a:xfrm>
            <a:off x="5486400" y="990720"/>
            <a:ext cx="2533680" cy="173340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15"/>
          <p:cNvSpPr/>
          <p:nvPr/>
        </p:nvSpPr>
        <p:spPr>
          <a:xfrm>
            <a:off x="228600" y="571500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Why aren’t they orange – the color of Mars surfac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16"/>
          <p:cNvSpPr/>
          <p:nvPr/>
        </p:nvSpPr>
        <p:spPr>
          <a:xfrm>
            <a:off x="304920" y="38098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How did they get to Earth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17"/>
          <p:cNvSpPr/>
          <p:nvPr/>
        </p:nvSpPr>
        <p:spPr>
          <a:xfrm>
            <a:off x="304920" y="441972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How do we know these meteorites are from Mar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20"/>
          <p:cNvSpPr/>
          <p:nvPr/>
        </p:nvSpPr>
        <p:spPr>
          <a:xfrm>
            <a:off x="3870720" y="1220760"/>
            <a:ext cx="145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rtian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ithout go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r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21"/>
          <p:cNvSpPr/>
          <p:nvPr/>
        </p:nvSpPr>
        <p:spPr>
          <a:xfrm>
            <a:off x="3565440" y="3236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22"/>
          <p:cNvSpPr/>
          <p:nvPr/>
        </p:nvSpPr>
        <p:spPr>
          <a:xfrm>
            <a:off x="3579840" y="327816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nusual rocks found in Antarct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23"/>
          <p:cNvSpPr/>
          <p:nvPr/>
        </p:nvSpPr>
        <p:spPr>
          <a:xfrm>
            <a:off x="3499560" y="3886200"/>
            <a:ext cx="49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n impact on Mars (crater size: 10-100 km) ejec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art of the Martian su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24"/>
          <p:cNvSpPr/>
          <p:nvPr/>
        </p:nvSpPr>
        <p:spPr>
          <a:xfrm>
            <a:off x="3499200" y="4724280"/>
            <a:ext cx="525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hemical composition does not match usual meteori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nly 1.3 billion yrs old (most asteroid-type meteori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UCH older); Higher content of volatile substan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25"/>
          <p:cNvSpPr/>
          <p:nvPr/>
        </p:nvSpPr>
        <p:spPr>
          <a:xfrm>
            <a:off x="5103000" y="6095880"/>
            <a:ext cx="386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as to do with how the rocks weathe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F8176-1BF0-490E-A932-78AA6F97E54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5" descr="9904microbes05sml"/>
          <p:cNvPicPr/>
          <p:nvPr/>
        </p:nvPicPr>
        <p:blipFill>
          <a:blip r:embed="rId1"/>
          <a:stretch/>
        </p:blipFill>
        <p:spPr>
          <a:xfrm>
            <a:off x="533520" y="4343400"/>
            <a:ext cx="3276360" cy="201780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7"/>
          <p:cNvSpPr/>
          <p:nvPr/>
        </p:nvSpPr>
        <p:spPr>
          <a:xfrm>
            <a:off x="1828800" y="38098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Case Study: Martian Rock ALH84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15"/>
          <p:cNvSpPr/>
          <p:nvPr/>
        </p:nvSpPr>
        <p:spPr>
          <a:xfrm>
            <a:off x="3958560" y="4573440"/>
            <a:ext cx="4395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ss = 1.9 k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gneous Ro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iscovered in Antarctica (easier to find) 198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ormed on Mars 4.5 Billion yr a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jected ~16 Million yr a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anded ~13,000 yr a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16"/>
          <p:cNvSpPr/>
          <p:nvPr/>
        </p:nvSpPr>
        <p:spPr>
          <a:xfrm>
            <a:off x="531720" y="304920"/>
            <a:ext cx="29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What DO they tell us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17"/>
          <p:cNvSpPr/>
          <p:nvPr/>
        </p:nvSpPr>
        <p:spPr>
          <a:xfrm>
            <a:off x="379440" y="2362320"/>
            <a:ext cx="34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What DON’T they tell us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18"/>
          <p:cNvSpPr/>
          <p:nvPr/>
        </p:nvSpPr>
        <p:spPr>
          <a:xfrm>
            <a:off x="3592440" y="457200"/>
            <a:ext cx="5546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ysical processes on Ma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ust/core developed early in Solar Syste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lcanism until &lt; 1 Billion Years a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emical composi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action with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w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tian atmosphere composi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19"/>
          <p:cNvSpPr/>
          <p:nvPr/>
        </p:nvSpPr>
        <p:spPr>
          <a:xfrm>
            <a:off x="4027320" y="2475000"/>
            <a:ext cx="446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cation of orig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ough about Mars’ water &amp; atmosp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ed to RETURN ROCKS from Mars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56D36-3640-4C81-9087-7BCD4537912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Picture 7" descr="9904microbes06sml"/>
          <p:cNvPicPr/>
          <p:nvPr/>
        </p:nvPicPr>
        <p:blipFill>
          <a:blip r:embed="rId1"/>
          <a:stretch/>
        </p:blipFill>
        <p:spPr>
          <a:xfrm>
            <a:off x="609480" y="1143000"/>
            <a:ext cx="3581640" cy="2468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244" name="Picture 8" descr="9904microbes07sml"/>
          <p:cNvPicPr/>
          <p:nvPr/>
        </p:nvPicPr>
        <p:blipFill>
          <a:blip r:embed="rId2"/>
          <a:stretch/>
        </p:blipFill>
        <p:spPr>
          <a:xfrm>
            <a:off x="4800600" y="1219320"/>
            <a:ext cx="3809880" cy="23889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245" name="Text Box 9"/>
          <p:cNvSpPr/>
          <p:nvPr/>
        </p:nvSpPr>
        <p:spPr>
          <a:xfrm>
            <a:off x="533520" y="380988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Globules of carbonate minerals (the yellow-orange grains) are scattered along cracks in this small chip of ALH 84001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10"/>
          <p:cNvSpPr/>
          <p:nvPr/>
        </p:nvSpPr>
        <p:spPr>
          <a:xfrm>
            <a:off x="4343400" y="3809880"/>
            <a:ext cx="43434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e rims contain iron oxides (including magnetite) and iron sulfides--incompatible minerals that on Earth would suggest microbial actio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Picture 11" descr=""/>
          <p:cNvPicPr/>
          <p:nvPr/>
        </p:nvPicPr>
        <p:blipFill>
          <a:blip r:embed="rId3"/>
          <a:stretch/>
        </p:blipFill>
        <p:spPr>
          <a:xfrm>
            <a:off x="1143000" y="990720"/>
            <a:ext cx="6781680" cy="45702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12"/>
          <p:cNvSpPr/>
          <p:nvPr/>
        </p:nvSpPr>
        <p:spPr>
          <a:xfrm>
            <a:off x="760680" y="382680"/>
            <a:ext cx="741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imes New Roman"/>
              </a:rPr>
              <a:t>Controversial – microbial presence in meteorites?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13"/>
          <p:cNvSpPr/>
          <p:nvPr/>
        </p:nvSpPr>
        <p:spPr>
          <a:xfrm>
            <a:off x="838080" y="5715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lose up views reveal structure similar to Earth microbe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244F7-ABFD-4F56-BC24-C4CD28C8965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228600" y="531720"/>
            <a:ext cx="876312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ars has a very thin atmosphere and no magnetospher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humans populated the Martian surface, what environment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roblems will they be concerned about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990720" y="2057400"/>
            <a:ext cx="7238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lobal War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2) Solar flare particles and ultraviolet radi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3) Nitrogen poison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4) Lead contamination from volcano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5) Magnetic anomalies in the interior causing brain disor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361B3-463D-4668-96B6-7DA73C03A88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4" descr="maccas"/>
          <p:cNvPicPr/>
          <p:nvPr/>
        </p:nvPicPr>
        <p:blipFill>
          <a:blip r:embed="rId1"/>
          <a:stretch/>
        </p:blipFill>
        <p:spPr>
          <a:xfrm>
            <a:off x="228600" y="228600"/>
            <a:ext cx="8474040" cy="635472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6"/>
          <p:cNvSpPr/>
          <p:nvPr/>
        </p:nvSpPr>
        <p:spPr>
          <a:xfrm>
            <a:off x="1593360" y="380880"/>
            <a:ext cx="60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Monday: Mars Surface Expl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AD030-0179-4CC9-AD59-8E19DE67D3A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2" descr="martians2"/>
          <p:cNvPicPr/>
          <p:nvPr/>
        </p:nvPicPr>
        <p:blipFill>
          <a:blip r:embed="rId1"/>
          <a:stretch/>
        </p:blipFill>
        <p:spPr>
          <a:xfrm>
            <a:off x="1219320" y="1295280"/>
            <a:ext cx="7016760" cy="527688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3"/>
          <p:cNvSpPr/>
          <p:nvPr/>
        </p:nvSpPr>
        <p:spPr>
          <a:xfrm>
            <a:off x="1593360" y="380880"/>
            <a:ext cx="60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Monday: Mars Surface Expl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C814B-F252-47F7-B0B5-09B7F5F2C32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imes New Roman"/>
              </a:rPr>
              <a:t>Geological Evidence: Outflow Channels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899280" y="5538960"/>
            <a:ext cx="7369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utflow channels suggest that massive floods happened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water discharge rates ~10,000 times Mississippi River flo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did these floods form into a massive ocea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9" descr="noachis_gullies"/>
          <p:cNvPicPr/>
          <p:nvPr/>
        </p:nvPicPr>
        <p:blipFill>
          <a:blip r:embed="rId1"/>
          <a:stretch/>
        </p:blipFill>
        <p:spPr>
          <a:xfrm>
            <a:off x="5181480" y="838080"/>
            <a:ext cx="3100680" cy="4648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figure 12-09"/>
          <p:cNvPicPr/>
          <p:nvPr/>
        </p:nvPicPr>
        <p:blipFill>
          <a:blip r:embed="rId2"/>
          <a:stretch/>
        </p:blipFill>
        <p:spPr>
          <a:xfrm>
            <a:off x="1066680" y="990720"/>
            <a:ext cx="3295800" cy="43941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1"/>
          <p:cNvSpPr/>
          <p:nvPr/>
        </p:nvSpPr>
        <p:spPr>
          <a:xfrm>
            <a:off x="2347200" y="4915080"/>
            <a:ext cx="125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res Val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6310080" y="4915080"/>
            <a:ext cx="11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GS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F708A-EB8A-465E-82B0-76F01C9C34E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imes New Roman"/>
              </a:rPr>
              <a:t>Geological Evidence: Martian Channels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77" name="Picture 3" descr="gullylables_70"/>
          <p:cNvPicPr/>
          <p:nvPr/>
        </p:nvPicPr>
        <p:blipFill>
          <a:blip r:embed="rId1"/>
          <a:stretch/>
        </p:blipFill>
        <p:spPr>
          <a:xfrm>
            <a:off x="3048120" y="1447920"/>
            <a:ext cx="5851440" cy="43894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78" name="Text Box 4"/>
          <p:cNvSpPr/>
          <p:nvPr/>
        </p:nvSpPr>
        <p:spPr>
          <a:xfrm>
            <a:off x="304920" y="1676520"/>
            <a:ext cx="2743200" cy="46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Martian Gullies: left (Mars) and right (Earth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n the Earth picture, rain water flowing under and seeping along the base of a recently-deposited volcanic ash layer has created the gully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For Mars, water is not actually </a:t>
            </a:r>
            <a:r>
              <a:rPr b="1" i="1" lang="en-US" sz="1600" spc="-1" strike="noStrike">
                <a:solidFill>
                  <a:srgbClr val="ffff99"/>
                </a:solidFill>
                <a:latin typeface="Times New Roman"/>
              </a:rPr>
              <a:t>seen</a:t>
            </a: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 but is inferred from the landforms and their similarity to examples on Earth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2133720" y="6095880"/>
            <a:ext cx="65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ars Global Surveyor Image (June 2000)           Earth (Mt. St. Helen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90E2D-B868-41E2-84C1-809D6BF03D2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4" descr="figure 12-10a"/>
          <p:cNvPicPr/>
          <p:nvPr/>
        </p:nvPicPr>
        <p:blipFill>
          <a:blip r:embed="rId1"/>
          <a:stretch/>
        </p:blipFill>
        <p:spPr>
          <a:xfrm>
            <a:off x="380880" y="1371600"/>
            <a:ext cx="4808520" cy="4851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figure 12-10b"/>
          <p:cNvPicPr/>
          <p:nvPr/>
        </p:nvPicPr>
        <p:blipFill>
          <a:blip r:embed="rId2"/>
          <a:stretch/>
        </p:blipFill>
        <p:spPr>
          <a:xfrm>
            <a:off x="5410080" y="1066680"/>
            <a:ext cx="2994120" cy="54104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imes New Roman"/>
              </a:rPr>
              <a:t>Geological Evidence: Sustained Water Flow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EB8B6-3B58-43EE-939C-4920E47FCA7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Picture 5" descr="gullies"/>
          <p:cNvPicPr/>
          <p:nvPr/>
        </p:nvPicPr>
        <p:blipFill>
          <a:blip r:embed="rId1"/>
          <a:stretch/>
        </p:blipFill>
        <p:spPr>
          <a:xfrm>
            <a:off x="685800" y="0"/>
            <a:ext cx="7772400" cy="67356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6"/>
          <p:cNvSpPr/>
          <p:nvPr/>
        </p:nvSpPr>
        <p:spPr>
          <a:xfrm>
            <a:off x="7241760" y="609588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85D2A-099B-4F6F-800D-FDAACC0619C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Geological Evidence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ssible Ancient Streambeds and Erosion Channel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-671400" y="234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6" descr="see caption"/>
          <p:cNvPicPr/>
          <p:nvPr/>
        </p:nvPicPr>
        <p:blipFill>
          <a:blip r:embed="rId1"/>
          <a:stretch/>
        </p:blipFill>
        <p:spPr>
          <a:xfrm>
            <a:off x="533520" y="1143000"/>
            <a:ext cx="8194680" cy="2676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99" name="Rectangle 7"/>
          <p:cNvSpPr/>
          <p:nvPr/>
        </p:nvSpPr>
        <p:spPr>
          <a:xfrm>
            <a:off x="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8" descr="sp_pit_i1"/>
          <p:cNvPicPr/>
          <p:nvPr/>
        </p:nvPicPr>
        <p:blipFill>
          <a:blip r:embed="rId2"/>
          <a:stretch/>
        </p:blipFill>
        <p:spPr>
          <a:xfrm>
            <a:off x="990720" y="4038480"/>
            <a:ext cx="3504960" cy="2630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01" name="Rectangle 9"/>
          <p:cNvSpPr/>
          <p:nvPr/>
        </p:nvSpPr>
        <p:spPr>
          <a:xfrm>
            <a:off x="939960" y="206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10" descr="marsnewton_mgs_med"/>
          <p:cNvPicPr/>
          <p:nvPr/>
        </p:nvPicPr>
        <p:blipFill>
          <a:blip r:embed="rId3"/>
          <a:stretch/>
        </p:blipFill>
        <p:spPr>
          <a:xfrm>
            <a:off x="4876920" y="4038480"/>
            <a:ext cx="3143160" cy="26402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10843-F054-472B-A274-71E8E3ACDFF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685800" y="227880"/>
            <a:ext cx="822960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Summers in the Martian southern hemisphere 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shorter than summers in the northern hemispher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Wh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685800" y="2057400"/>
            <a:ext cx="7924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northern hemisphere is chilled by a larger polar ca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re are more volcanoes in the southern hemisp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3) The southern hemisphere is at much lower elevation on average the Martian equatorial bulge makes the sun shine more directly on the Southern hemisp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4)This is a consequence of Mars’ elliptical orbi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CCA67-5B3D-49E3-9571-D2DFF0AD729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221040" y="533520"/>
            <a:ext cx="631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The physics of finding water on M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234360" y="1828800"/>
            <a:ext cx="7573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When/how does water (H</a:t>
            </a:r>
            <a:r>
              <a:rPr b="0" i="1" lang="en-US" sz="2800" spc="-1" strike="noStrike" baseline="-25000">
                <a:solidFill>
                  <a:srgbClr val="00ffff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0) exist in its liquid stat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fig-7a-water"/>
          <p:cNvPicPr/>
          <p:nvPr/>
        </p:nvPicPr>
        <p:blipFill>
          <a:blip r:embed="rId1"/>
          <a:stretch/>
        </p:blipFill>
        <p:spPr>
          <a:xfrm>
            <a:off x="6781680" y="380880"/>
            <a:ext cx="1828800" cy="13716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609480" y="2514600"/>
            <a:ext cx="82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IQUID water exists over a very NARROW range in TEMPER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if T is too high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g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if T is too low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solid (ic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80880" y="3809880"/>
            <a:ext cx="8610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TEMPERATURE of water will depend on the ATMOSPHERIC PRESS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if  Pressure is too low – water will vaporize (evaporat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if  Pressure is too high – water will stay liquid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57200" y="487692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392760" y="5105520"/>
            <a:ext cx="821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Mars’ atmospheric pressure is ~1% of Earth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-  LOW press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-  LOW temperature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FROZEN WATER (ice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3T15:11:34Z</dcterms:created>
  <dc:creator>Cornelia C Lang</dc:creator>
  <dc:description/>
  <dc:language>en-US</dc:language>
  <cp:lastModifiedBy>RomaK</cp:lastModifiedBy>
  <dcterms:modified xsi:type="dcterms:W3CDTF">2015-08-01T07:31:24Z</dcterms:modified>
  <cp:revision>17</cp:revision>
  <dc:subject/>
  <dc:title>Slide 1</dc:title>
</cp:coreProperties>
</file>