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EE1-0B1F-45B4-B688-034B370B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B9EB-5844-4558-A37C-B6AE072949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ater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216-6726-4A2F-8C0F-E5A40650EC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87F-3CAF-49A6-8B15-E293944572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790E-CB02-4CA3-862F-D936E529FE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5F6B-1507-46DF-9407-EC7A0C9025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2B6D-9D85-4F29-9CB7-9F7C46F643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CB29-1259-425E-849B-1F558B3A6C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4F21-F277-4272-AD8A-978EBA6EA9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place for Water: some in N Polar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F7D2-A535-4A06-8130-3AB44CF8D7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7797-8955-4406-AC3B-9B724E94A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C35-9E3F-4D98-BB4D-73797956E5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4008-C9DE-48BF-B550-F9AB04E812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137E-E285-4980-AD91-C3D430889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5508-0F32-4D84-8FE4-AEBC3BF1C4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C343-DA22-47EA-A56F-A7FB1B03DA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edimentary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306E-4C75-4B8C-84EE-8F7DC760D0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D208-4519-49A8-BE59-9396661979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A55B-EBCE-4B3D-A51D-FCC2315349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CE76-42C2-43E0-A64B-DBB0A0FC0A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0C3-25AB-419A-92F6-F94EFDF8D2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1182-994C-41E9-8B31-0C31AFF70C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ECE5-60A8-4363-A144-B92535599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6D05-4781-4F95-8908-629F7C8D61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Outflow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C3F5-9BB8-472B-986E-6E42D14B2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Martia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FDAA-E6D9-48FA-AAE1-510DE9F74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al Evidence: Sustained Wat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8624-A0B3-499D-B910-A07B0B6527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5B4-3726-4E89-942E-FBA68161A3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ological Eviden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ncient Streambeds and Erosion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7313-A5D1-41B5-863F-9EB4521964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AF7A-D6D4-4248-AF63-892D820ABC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D89-176C-4193-9109-265B8D1B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6FF-77F8-4B16-B388-235E454E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574-42A8-4379-B178-2872BCA3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F0C-E75F-4919-849F-63127703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84F-457F-41B8-BF99-E26D9652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EA8-1AED-4474-BDFE-D0DA2FD7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023-FBF0-463D-B71C-AB0186D8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D01-3CC1-4FFF-A4C2-107A80F6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4DB-B835-44FA-A57B-8EF89E50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060-C8F2-43DA-B5FB-E0CCAC2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EB1-1CDC-42CD-9BA6-AD8D9A23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D62-0047-4CEE-9408-71B847F9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BCBB-BB27-4388-8EEC-7D561FFD82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08F0-AE48-42C6-BB39-A968D146AB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974320" y="228600"/>
            <a:ext cx="29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Water on M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960" y="990720"/>
            <a:ext cx="64425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 for Water on Mars*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ullies, erosion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layers/sedimentary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hysics of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ar ice caps – seasonal var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mosphere -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 for Water on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 –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eb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artian Meteor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9220-3044-4B32-B52C-2B515F530E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day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422-0FE6-4B11-BB89-D7F2964ABA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ight_temp_surface"/>
          <p:cNvPicPr/>
          <p:nvPr/>
        </p:nvPicPr>
        <p:blipFill>
          <a:blip r:embed="rId1"/>
          <a:stretch/>
        </p:blipFill>
        <p:spPr>
          <a:xfrm>
            <a:off x="457200" y="309600"/>
            <a:ext cx="8229600" cy="623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29200" y="579132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17D2-A324-4D52-96F7-C46E4374B2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95920" y="240480"/>
            <a:ext cx="37360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rtian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Dioxide (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95.32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trogen (N2): 2.7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on (Ar): 1.6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xygen (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: 0.1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 (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): 0.03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on (Ne): 0.00025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1,000 as much water as our 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enough to cover the surf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the planet with 0.4 inches i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lted out of the atmospher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tian atmosphere does n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gulate the surface tempera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 the planet as Earth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marsatmo"/>
          <p:cNvPicPr/>
          <p:nvPr/>
        </p:nvPicPr>
        <p:blipFill>
          <a:blip r:embed="rId1"/>
          <a:stretch/>
        </p:blipFill>
        <p:spPr>
          <a:xfrm>
            <a:off x="4419720" y="762120"/>
            <a:ext cx="4410000" cy="495288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>
            <a:off x="3886200" y="685800"/>
            <a:ext cx="2362320" cy="91440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36A1-D6AC-4EDB-86FA-9C0A92261F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mars_atmos_temp"/>
          <p:cNvPicPr/>
          <p:nvPr/>
        </p:nvPicPr>
        <p:blipFill>
          <a:blip r:embed="rId1"/>
          <a:stretch/>
        </p:blipFill>
        <p:spPr>
          <a:xfrm>
            <a:off x="457200" y="442800"/>
            <a:ext cx="8229600" cy="5972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529200" y="5715000"/>
            <a:ext cx="24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s Global Survey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S instr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7CD7-5FD8-400D-BD90-6340E14FB5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77160" y="0"/>
            <a:ext cx="77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istory of Mars’ atmosphere: first like Earth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18280" y="4495680"/>
            <a:ext cx="74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es of terrestrial planets created by out-gassing of volcano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~4 Billion years ago (Mars/Earth = same atmosphe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volcanic gasses: nitrogen, CO2, water vap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54800" y="5638680"/>
            <a:ext cx="67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 in atmospheres condensed to create oceans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cycles through our atmosphere: volcanoes/carbonate r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9" descr="figure 12-16"/>
          <p:cNvPicPr/>
          <p:nvPr/>
        </p:nvPicPr>
        <p:blipFill>
          <a:blip r:embed="rId1"/>
          <a:stretch/>
        </p:blipFill>
        <p:spPr>
          <a:xfrm>
            <a:off x="1981080" y="609480"/>
            <a:ext cx="5257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3F92-242C-4022-B587-BDB7741AB5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142640" y="15228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at happened to the atmosphere on M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49280" y="4038480"/>
            <a:ext cx="8324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may have condensed out and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t so cold, that the water froze in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ermafr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of volcanic activity, however, would stop the 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UV light from the Sun will break up chemicals on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ause them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figure 12-16"/>
          <p:cNvPicPr/>
          <p:nvPr/>
        </p:nvPicPr>
        <p:blipFill>
          <a:blip r:embed="rId1"/>
          <a:stretch/>
        </p:blipFill>
        <p:spPr>
          <a:xfrm>
            <a:off x="2057400" y="762120"/>
            <a:ext cx="4622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омера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29F6-1E26-4830-9ED3-CCD2DF2C66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torage place for Water: some in N Polar Cap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hubble_mars"/>
          <p:cNvPicPr/>
          <p:nvPr/>
        </p:nvPicPr>
        <p:blipFill>
          <a:blip r:embed="rId1"/>
          <a:stretch/>
        </p:blipFill>
        <p:spPr>
          <a:xfrm>
            <a:off x="1066680" y="914400"/>
            <a:ext cx="2382840" cy="2666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267080" y="1066680"/>
            <a:ext cx="4876920" cy="57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s are frozen carbon dioxide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‘dry ice’) and some froze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s on frozen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reezes at T~150 K (~ -200 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block of ‘dry ice’ T~ -110 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ublimes directly ice to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ern residual cap is ~300 km across, T ~150 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ern cap is ~1,000 km, T~200K  (implies mostly water ice b/c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 would be sublima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mars_seasons"/>
          <p:cNvPicPr/>
          <p:nvPr/>
        </p:nvPicPr>
        <p:blipFill>
          <a:blip r:embed="rId2"/>
          <a:stretch/>
        </p:blipFill>
        <p:spPr>
          <a:xfrm>
            <a:off x="152280" y="361944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031F-B6FE-4DC0-9BD8-F818206A96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33520" y="1522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hemical Evidenc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ooking for presence of minerals which sugges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99400" y="121932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mounts of water vapor in the atmosphere ind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much of the planet’s water lost to space –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apo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02640" y="2133720"/>
            <a:ext cx="797724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looked for evidenc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rbon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seafloor beds resulting from consumption of atmospheric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ding little or none – this is problematic, controvers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54680" y="3581280"/>
            <a:ext cx="4577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nt Mars missions have f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mat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a signature of dried-u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kes on a few places on the pl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from TES instrument on M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" descr="hematiteMap2"/>
          <p:cNvPicPr/>
          <p:nvPr/>
        </p:nvPicPr>
        <p:blipFill>
          <a:blip r:embed="rId1"/>
          <a:stretch/>
        </p:blipFill>
        <p:spPr>
          <a:xfrm>
            <a:off x="5181480" y="3352680"/>
            <a:ext cx="329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90F8-EE1F-417E-B834-5663487815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21932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water_caps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EAE4-D56F-4CCE-9EC4-5012675143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14400" y="228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cent chemical Evidence for water on Mars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ction of Hydrogen  (Mars Odyssey -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water_surface"/>
          <p:cNvPicPr/>
          <p:nvPr/>
        </p:nvPicPr>
        <p:blipFill>
          <a:blip r:embed="rId1"/>
          <a:stretch/>
        </p:blipFill>
        <p:spPr>
          <a:xfrm>
            <a:off x="533520" y="1168560"/>
            <a:ext cx="8229600" cy="54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9EF-02CE-4971-A537-31AC7568F3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746440" y="228600"/>
            <a:ext cx="32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 on M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viking_channels"/>
          <p:cNvPicPr/>
          <p:nvPr/>
        </p:nvPicPr>
        <p:blipFill>
          <a:blip r:embed="rId1"/>
          <a:stretch/>
        </p:blipFill>
        <p:spPr>
          <a:xfrm>
            <a:off x="228600" y="1676520"/>
            <a:ext cx="4267080" cy="35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gullies"/>
          <p:cNvPicPr/>
          <p:nvPr/>
        </p:nvPicPr>
        <p:blipFill>
          <a:blip r:embed="rId2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41080" y="5562720"/>
            <a:ext cx="80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hough many images suggest SIGNS of water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 LIQUID WATER or RAIN has ever been observ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216080" y="4800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2d"/>
                </a:solidFill>
                <a:latin typeface="Times New Roman"/>
              </a:rPr>
              <a:t>Viking 1 Orb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803120" y="46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04280" y="99072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One of the most natural human curiosities – related to the ultimate question of LIFE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EF20-D290-4086-87BA-B20A5AA55D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522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ories for Water on Mars: WET, WARM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9856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34290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OLD, DESERT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53720" y="914400"/>
            <a:ext cx="6761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early atmosphere was d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support water in liquid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 could “rain” out the CO</a:t>
            </a:r>
            <a:r>
              <a:rPr b="0" lang="en-US" sz="24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nto the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9360" y="2133720"/>
            <a:ext cx="90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arge beds of carbonate form in standing water like on Earth (Ocea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 would be plentiful on Mars, could generate the observed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95560" y="4038480"/>
            <a:ext cx="85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Never right conditions for water to condense and to create ero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ve to rely on other eroding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i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du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liquid carbon diox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A6A0-9928-450F-BEB5-7CBBB8EA43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5800" y="457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71520" y="1295280"/>
            <a:ext cx="83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probably did have a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“warmer, wett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st, but not extr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udies show water can exist in ice-covered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s long as temperatures get above freezing for a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lues from glacial regions on Earth have hel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04920" y="388620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se Ancient Lakebeds/Glacial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ana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beacon_valley"/>
          <p:cNvPicPr/>
          <p:nvPr/>
        </p:nvPicPr>
        <p:blipFill>
          <a:blip r:embed="rId1"/>
          <a:stretch/>
        </p:blipFill>
        <p:spPr>
          <a:xfrm>
            <a:off x="4419720" y="3276720"/>
            <a:ext cx="4457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50A2-3BFE-4FE8-968B-518BEC0F6C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logical Evidence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yered Sedimentary Featur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holden_cntx1_i1"/>
          <p:cNvPicPr/>
          <p:nvPr/>
        </p:nvPicPr>
        <p:blipFill>
          <a:blip r:embed="rId1"/>
          <a:stretch/>
        </p:blipFill>
        <p:spPr>
          <a:xfrm>
            <a:off x="228600" y="2057400"/>
            <a:ext cx="3809880" cy="292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0" name="Rectangle 5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M03-02733sub1_i1"/>
          <p:cNvPicPr/>
          <p:nvPr/>
        </p:nvPicPr>
        <p:blipFill>
          <a:blip r:embed="rId2"/>
          <a:stretch/>
        </p:blipFill>
        <p:spPr>
          <a:xfrm>
            <a:off x="4419720" y="1828800"/>
            <a:ext cx="4246560" cy="4648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02" name="Line 7"/>
          <p:cNvSpPr/>
          <p:nvPr/>
        </p:nvSpPr>
        <p:spPr>
          <a:xfrm>
            <a:off x="1676520" y="403848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295280" y="51814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95280" y="5334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41 km (88 mil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0666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den Cr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mars-candor-chasma-lrg"/>
          <p:cNvPicPr/>
          <p:nvPr/>
        </p:nvPicPr>
        <p:blipFill>
          <a:blip r:embed="rId3"/>
          <a:stretch/>
        </p:blipFill>
        <p:spPr>
          <a:xfrm>
            <a:off x="2057400" y="304920"/>
            <a:ext cx="4889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912A-69C7-47F5-A3DF-798CE22660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71160" y="3200400"/>
            <a:ext cx="75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lso can invoke an active underground system of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water lower down may be able to be liq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(warmer near Mars’ co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volcanic soils (megaregolith) are incredibly por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8088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an invok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YC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warm, wet clim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volcanic activity generates atmosphere for short peri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starts flowing again (unfreeze 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reate the observed layers of water erosion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water freezes into permafrost under Mar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50800" y="5105520"/>
            <a:ext cx="65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The final word… keep watching the skies (NA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onday: review of current/future Mars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New results in every day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ories for Water on Mars: Current Data &amp; Idea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98F3-C51F-45FC-A58F-383001D302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4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5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5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D921-0A30-4D14-8FD4-D4BA469AA2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3592440" y="457200"/>
            <a:ext cx="55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027320" y="2475000"/>
            <a:ext cx="44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ion of ori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RETURN ROCKS from Mars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E8F3-0F03-49D2-ACE9-A520D819A0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44" name="Picture 8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5" name="Text Box 9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3"/>
          <a:stretch/>
        </p:blipFill>
        <p:spPr>
          <a:xfrm>
            <a:off x="1143000" y="990720"/>
            <a:ext cx="6781680" cy="4570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760680" y="38268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838080" y="5715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F384-EAFD-4D7D-AF07-967AD691AD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990720" y="205740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C64E-9AFE-496D-8313-8E2585908E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FDF7-B9C4-4D52-83D5-4F194C0202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1593360" y="380880"/>
            <a:ext cx="60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onday: Mars Surface Exp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6053-A125-45D2-A001-A77915B162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Outflow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99280" y="5538960"/>
            <a:ext cx="736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flow channels suggest that massive floods happene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water discharge rates ~10,000 times Mississippi River f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did these floods form into a massive oc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noachis_gullies"/>
          <p:cNvPicPr/>
          <p:nvPr/>
        </p:nvPicPr>
        <p:blipFill>
          <a:blip r:embed="rId1"/>
          <a:stretch/>
        </p:blipFill>
        <p:spPr>
          <a:xfrm>
            <a:off x="5181480" y="838080"/>
            <a:ext cx="3100680" cy="464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figure 12-09"/>
          <p:cNvPicPr/>
          <p:nvPr/>
        </p:nvPicPr>
        <p:blipFill>
          <a:blip r:embed="rId2"/>
          <a:stretch/>
        </p:blipFill>
        <p:spPr>
          <a:xfrm>
            <a:off x="1066680" y="990720"/>
            <a:ext cx="3295800" cy="439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2347200" y="4915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s Va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10080" y="491508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GS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E472-EBCB-4236-AD51-8BFB3D7E70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Martian Channel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7" name="Picture 3" descr="gullylables_70"/>
          <p:cNvPicPr/>
          <p:nvPr/>
        </p:nvPicPr>
        <p:blipFill>
          <a:blip r:embed="rId1"/>
          <a:stretch/>
        </p:blipFill>
        <p:spPr>
          <a:xfrm>
            <a:off x="3048120" y="1447920"/>
            <a:ext cx="5851440" cy="438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8" name="Text Box 4"/>
          <p:cNvSpPr/>
          <p:nvPr/>
        </p:nvSpPr>
        <p:spPr>
          <a:xfrm>
            <a:off x="304920" y="1676520"/>
            <a:ext cx="274320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ian Gullies: left (Mars) and right (Earth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 the Earth picture, rain water flowing under and seeping along the base of a recently-deposited volcanic ash layer has created the gull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For Mars, water is not actually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een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but is inferred from the landforms and their similarity to examples on Eart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133720" y="609588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rs Global Surveyor Image (June 2000)           Earth (Mt. St. Hele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93F9-E82C-4438-889D-DDF20AC09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figure 12-10a"/>
          <p:cNvPicPr/>
          <p:nvPr/>
        </p:nvPicPr>
        <p:blipFill>
          <a:blip r:embed="rId1"/>
          <a:stretch/>
        </p:blipFill>
        <p:spPr>
          <a:xfrm>
            <a:off x="380880" y="1371600"/>
            <a:ext cx="4808520" cy="4851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igure 12-10b"/>
          <p:cNvPicPr/>
          <p:nvPr/>
        </p:nvPicPr>
        <p:blipFill>
          <a:blip r:embed="rId2"/>
          <a:stretch/>
        </p:blipFill>
        <p:spPr>
          <a:xfrm>
            <a:off x="5410080" y="1066680"/>
            <a:ext cx="2994120" cy="5410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Geological Evidence: Sustained Water Flow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31CF-705F-42A5-9F36-DB12DC4E1A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5" descr="gullies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73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7241760" y="60958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B8CD-4B26-4471-9B00-850CEC0ED5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Geological Evide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Ancient Streambeds and Erosion Channe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-6714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see caption"/>
          <p:cNvPicPr/>
          <p:nvPr/>
        </p:nvPicPr>
        <p:blipFill>
          <a:blip r:embed="rId1"/>
          <a:stretch/>
        </p:blipFill>
        <p:spPr>
          <a:xfrm>
            <a:off x="533520" y="1143000"/>
            <a:ext cx="8194680" cy="2676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Rectangle 7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sp_pit_i1"/>
          <p:cNvPicPr/>
          <p:nvPr/>
        </p:nvPicPr>
        <p:blipFill>
          <a:blip r:embed="rId2"/>
          <a:stretch/>
        </p:blipFill>
        <p:spPr>
          <a:xfrm>
            <a:off x="990720" y="4038480"/>
            <a:ext cx="3504960" cy="26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" name="Rectangle 9"/>
          <p:cNvSpPr/>
          <p:nvPr/>
        </p:nvSpPr>
        <p:spPr>
          <a:xfrm>
            <a:off x="939960" y="20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marsnewton_mgs_med"/>
          <p:cNvPicPr/>
          <p:nvPr/>
        </p:nvPicPr>
        <p:blipFill>
          <a:blip r:embed="rId3"/>
          <a:stretch/>
        </p:blipFill>
        <p:spPr>
          <a:xfrm>
            <a:off x="4876920" y="4038480"/>
            <a:ext cx="314316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CB90-421F-4494-BB2B-9CB90EC859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85800" y="22788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ummers in the Martian southern hemisphere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horter than summers in the northern hemisphe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580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orthern hemisphere is chilled by a larger polar 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ore volcanoes i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The southern hemisphere is at much lower elevation on average the Martian equatorial bulge makes the sun shine more directly on the Southern hemi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This is a consequence of Mars’ elliptical orb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Sept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C.La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5AF3-13B9-4BFD-AD45-4DA764B74D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1040" y="5335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hysics of finding water on M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34360" y="1828800"/>
            <a:ext cx="757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hen/how does water (H</a:t>
            </a:r>
            <a:r>
              <a:rPr b="0" i="1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0) exist in its liquid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fig-7a-water"/>
          <p:cNvPicPr/>
          <p:nvPr/>
        </p:nvPicPr>
        <p:blipFill>
          <a:blip r:embed="rId1"/>
          <a:stretch/>
        </p:blipFill>
        <p:spPr>
          <a:xfrm>
            <a:off x="6781680" y="3808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09480" y="2514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QUID water exists over a very NARROW range i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hig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T is too low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lid (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0880" y="380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EMPERATURE of water will depend on the ATMOSPHERIC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low – water will vaporize (evapora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if  Pressure is too high – water will stay liqui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57200" y="4876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760" y="510552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ars’ atmospheric pressure is ~1% of Earth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-  LOW temperatur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FROZEN WATER (ice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11:34Z</dcterms:created>
  <dc:creator>Cornelia C Lang</dc:creator>
  <dc:description/>
  <dc:language>en-US</dc:language>
  <cp:lastModifiedBy>RomaK</cp:lastModifiedBy>
  <dcterms:modified xsi:type="dcterms:W3CDTF">2015-08-01T07:31:24Z</dcterms:modified>
  <cp:revision>17</cp:revision>
  <dc:subject/>
  <dc:title>Slide 1</dc:title>
</cp:coreProperties>
</file>