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814A-6F9A-42A3-97E3-424D4DFE34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4C7-576D-4663-8E59-7675069C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D04-5EC8-4879-8976-5F4FA96F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2FA-A669-4E0E-935A-47EB6DC9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1A9-7583-43DC-A983-FE61E7F5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ACA5-B87A-41C8-B776-FE9D095D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310B-B24A-44F6-91A7-06119A3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E5E2-9759-46A6-8A81-7499DEC3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FC94-2B35-400B-A24C-778C338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B88C-F3EB-4E85-9559-5494BC7D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11FC-3CFD-41DE-9F12-D1AA6AF9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89D3-A17F-4902-90A9-941D0A15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F6B-CFB3-4049-964F-54EBE5B8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26EA-BA19-469E-8BCA-A54026EA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7ED9-6F38-4AC7-8736-1ECFEE99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A9E4-A99E-476E-A001-60BB554C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527E-8AD6-417C-BFCF-91FA471D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3C38-EE21-4A35-98E0-5556FDE6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BD79-2251-43EC-B87C-0D83D71D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068C-7DB6-438E-BEC7-A194662F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5433-3872-4BD9-BFC8-9F0A76CC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94D5-0CA7-497D-A9AB-358754FE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7EB4-2AB5-41DB-ACE0-A5E7E2E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4CC-12B0-4822-B9DF-2B43E12A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35F4-9D66-4CB4-8C44-B27B7EA6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3EEA-BA27-4317-BA24-B0A35683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2BFF-64C1-4BEE-8373-755EF97C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A6B0-313B-4D01-9B88-758AC40B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9266-FA08-466B-AB0B-5744BBC6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BACE-C91F-475C-8115-D7BE969B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063D-9EF4-4D7B-96F6-22745B53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AE0E-2B16-411B-81FA-4B0475A9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29BA-0B0B-4EBB-9FDA-16A1070B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99CCC-1BF4-4BD4-AC28-792CE663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0D5-4996-49A7-BC02-4B184D8A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1E50-7E84-4B06-801A-FBB59E9A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7A33-B233-4945-ADA2-CD0225B3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E8A04-2316-4757-9AE9-7CE664BD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9D496-EC63-4F04-A635-7392E9AC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53C3-4FF3-4A16-AFE5-2CC7218E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32376-E56D-471F-9BF2-338580BC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879F-6E34-42CB-B1D4-B1C898FC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5C9F-7049-4C47-B97D-38EB34E4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9EC2A-25C3-4C12-B929-644238D1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34B-A295-4462-A6C3-56A45ADE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0DD-E953-47C3-A5BA-BD730769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439-B7B1-461F-A849-BDA6CF15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4E3-BDCA-43D0-B4D9-D1FFBA1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F52-E927-4688-91F4-9B8B891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E467-E5A8-4EBC-8ED0-41D0AD65B0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AC17-EE8C-4BDA-BBE1-37DFDF7F47EB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0629-9C37-4C35-B03B-E67A60C9FB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8209-59D4-404C-9EB0-EFD18A50673B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 rot="3130800">
            <a:off x="3768120" y="3369240"/>
            <a:ext cx="38782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ff"/>
                    </a:gs>
                  </a:gsLst>
                  <a:lin ang="20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QUENC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00ff"/>
                  </a:gs>
                </a:gsLst>
                <a:lin ang="20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nstant difference: coefficient of </a:t>
            </a:r>
            <a:r>
              <a:rPr b="0" i="1" lang="en-GB" sz="24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is the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n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squar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4, 9, 16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r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cub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8, 27, 64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ne of these helpful: look for powers of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(2     = 1, 2, 4, 8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Signs alternate: use (-1)  and (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-1 when k is odd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+1 when k is e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184560" y="44560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0880" y="34941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26880" y="3500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85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5800" y="2332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11360" y="3124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 flipH="1">
            <a:off x="3203280" y="4149720"/>
            <a:ext cx="64764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148360" y="4149720"/>
            <a:ext cx="115236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ext three terms in the sequence 5, 8, 11, 14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The nth term of a sequence is given by  x  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Find the first four terms of the sequ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b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Which term in the sequence is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c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Express the sequence as a recurrence rel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075360" y="126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1416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0782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222600" y="168444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573160" y="161136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3528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22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15088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th term of the sequence +1, -4, +9, -16, +25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1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is defined by a recurrence relation of the 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=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n 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4, find the 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hence fin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0720" y="11253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6984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7810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701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420720" y="184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set of terms, in a definite order, where the terms are obtained by some ru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0920" y="220500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nds after a certain number of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50920" y="364644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ne that continues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987640" y="40464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5, 7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his is a sequence of odd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20640" y="162864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1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1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68360" y="213372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2n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2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6280" y="263700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3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3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39640" y="494172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2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900000" y="2924280"/>
            <a:ext cx="769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5364000" y="1916280"/>
            <a:ext cx="71640" cy="50472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5364000" y="2492280"/>
            <a:ext cx="71640" cy="50508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50872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50872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219280" y="2997360"/>
            <a:ext cx="57636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635280" y="4869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63528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FINDING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FORMULA FOR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TERMS OF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A SEQUEN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7696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currence rela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fines the first term(s) in the sequence and the relation between successive te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0256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84360" y="170028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84360" y="2205000"/>
            <a:ext cx="7632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84360" y="4637160"/>
            <a:ext cx="813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3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69380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9856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003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902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0000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95280" y="189000"/>
            <a:ext cx="28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3059280" y="260280"/>
            <a:ext cx="53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, 8, 11, 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2916360" y="2708280"/>
            <a:ext cx="100800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93840" y="198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751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124000" y="493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79185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at to look f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en looking for the ru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defining a seque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42:18Z</dcterms:created>
  <dc:creator>zafer</dc:creator>
  <dc:description>Sequences - Finding a rule</dc:description>
  <cp:keywords>Sequences - Finding a rule</cp:keywords>
  <dc:language>en-US</dc:language>
  <cp:lastModifiedBy>RomaK</cp:lastModifiedBy>
  <dcterms:modified xsi:type="dcterms:W3CDTF">2015-09-04T09:20:13Z</dcterms:modified>
  <cp:revision>8</cp:revision>
  <dc:subject>Sequences - Finding a rule</dc:subject>
  <dc:title>Sequences - Finding a rule</dc:title>
</cp:coreProperties>
</file>