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B96C-F6FB-40AE-A26D-52B7C469D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= 1 x 1 x 1 =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= 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 = 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= 4 x 4 x 4 =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= 5 x 5 x 5 =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= 1 x 1 x 1 =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= 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 = 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= 4 x 4 x 4 =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= 5 x 5 x 5 =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 A special form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given by               where a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in AU (astronomical units) and 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 A special form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given by               where a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in AU (astronomical units) and 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is the radical sign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is the radic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2 = y then x is a square root of 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is the radical sign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is the radic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2 = y then x is a square root of 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2, -6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2, -6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1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6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, 64, 81, 100, 121, 144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1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6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, 64, 81, 100, 121, 144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F47-CF06-4750-9EB4-C68D96F7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48E-A441-41E6-A919-43903720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DDA-F775-4164-8D3E-4E67A06F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8F3-A153-49EF-A101-E21101D8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668-A8D1-4C5B-BC57-9F18AE6F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0580-1B99-43BD-A9B5-2BBB7A09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E8C-3913-4E14-8F14-2B18179D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F23-1700-49C2-8D4D-FE4F152A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DC4-D9AA-4BA3-B18C-0FFCB852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36F-0920-4482-9FA6-693EA405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6D1-DBA1-4EC6-8E75-1970B0A8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675-86FB-4B49-A5C4-07E257DF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D175-ABA6-41C2-9613-46808C58B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7"/>
          <p:cNvGraphicFramePr/>
          <p:nvPr/>
        </p:nvGraphicFramePr>
        <p:xfrm>
          <a:off x="1143000" y="4495680"/>
          <a:ext cx="6705720" cy="10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95680"/>
                    <a:ext cx="670572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76312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-152280" y="304920"/>
            <a:ext cx="952488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4038480" y="914400"/>
          <a:ext cx="95436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914400"/>
                    <a:ext cx="9543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355680" y="2286000"/>
          <a:ext cx="1987560" cy="7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2286000"/>
                    <a:ext cx="19875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8"/>
          <p:cNvGraphicFramePr/>
          <p:nvPr/>
        </p:nvGraphicFramePr>
        <p:xfrm>
          <a:off x="355680" y="2982960"/>
          <a:ext cx="1670040" cy="7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5680" y="2982960"/>
                    <a:ext cx="16700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355680" y="3679920"/>
          <a:ext cx="226512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5680" y="3679920"/>
                    <a:ext cx="22651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0"/>
          <p:cNvGraphicFramePr/>
          <p:nvPr/>
        </p:nvGraphicFramePr>
        <p:xfrm>
          <a:off x="355680" y="4376880"/>
          <a:ext cx="1830240" cy="78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680" y="4376880"/>
                    <a:ext cx="183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1"/>
          <p:cNvGraphicFramePr/>
          <p:nvPr/>
        </p:nvGraphicFramePr>
        <p:xfrm>
          <a:off x="355680" y="5073480"/>
          <a:ext cx="2463840" cy="78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5680" y="5073480"/>
                    <a:ext cx="2463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2"/>
          <p:cNvGraphicFramePr/>
          <p:nvPr/>
        </p:nvGraphicFramePr>
        <p:xfrm>
          <a:off x="355680" y="5770440"/>
          <a:ext cx="1827000" cy="782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5680" y="5770440"/>
                    <a:ext cx="18270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3"/>
          <p:cNvSpPr/>
          <p:nvPr/>
        </p:nvSpPr>
        <p:spPr>
          <a:xfrm>
            <a:off x="3728880" y="2438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14"/>
          <p:cNvGraphicFramePr/>
          <p:nvPr/>
        </p:nvGraphicFramePr>
        <p:xfrm>
          <a:off x="7391520" y="2286000"/>
          <a:ext cx="877680" cy="747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2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91520" y="2286000"/>
                    <a:ext cx="8776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4699080" y="3103560"/>
          <a:ext cx="2463840" cy="782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99080" y="3103560"/>
                    <a:ext cx="2463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16"/>
          <p:cNvSpPr/>
          <p:nvPr/>
        </p:nvSpPr>
        <p:spPr>
          <a:xfrm>
            <a:off x="3886200" y="4206960"/>
            <a:ext cx="48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-360" y="648720"/>
            <a:ext cx="899172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5410080" y="534960"/>
          <a:ext cx="15289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34960"/>
                    <a:ext cx="15289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3610080" y="2225520"/>
          <a:ext cx="208116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0080" y="2225520"/>
                    <a:ext cx="208116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"/>
          <p:cNvGraphicFramePr/>
          <p:nvPr/>
        </p:nvGraphicFramePr>
        <p:xfrm>
          <a:off x="4257720" y="3110040"/>
          <a:ext cx="67932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57720" y="3110040"/>
                    <a:ext cx="6793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8"/>
          <p:cNvSpPr/>
          <p:nvPr/>
        </p:nvSpPr>
        <p:spPr>
          <a:xfrm>
            <a:off x="-228600" y="3889440"/>
            <a:ext cx="8991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9"/>
          <p:cNvGraphicFramePr/>
          <p:nvPr/>
        </p:nvGraphicFramePr>
        <p:xfrm>
          <a:off x="5245200" y="3809880"/>
          <a:ext cx="1401840" cy="82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45200" y="3809880"/>
                    <a:ext cx="140184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10"/>
          <p:cNvGraphicFramePr/>
          <p:nvPr/>
        </p:nvGraphicFramePr>
        <p:xfrm>
          <a:off x="3654360" y="4572000"/>
          <a:ext cx="1868400" cy="82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4360" y="4572000"/>
                    <a:ext cx="18684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1"/>
          <p:cNvGraphicFramePr/>
          <p:nvPr/>
        </p:nvGraphicFramePr>
        <p:xfrm>
          <a:off x="3597120" y="5375160"/>
          <a:ext cx="1952640" cy="73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97120" y="5375160"/>
                    <a:ext cx="195264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6"/>
          <p:cNvGraphicFramePr/>
          <p:nvPr/>
        </p:nvGraphicFramePr>
        <p:xfrm>
          <a:off x="4800600" y="307800"/>
          <a:ext cx="13716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7800"/>
                    <a:ext cx="13716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rShape1"/>
          <p:cNvSpPr/>
          <p:nvPr/>
        </p:nvSpPr>
        <p:spPr>
          <a:xfrm rot="10800000">
            <a:off x="360000" y="2964960"/>
            <a:ext cx="406440" cy="406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 x 1 x 1 = 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 x 2 x 2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3 x 3 x 3 = 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4 x 4 x 4 = 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5 x 5 x 5 = 1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200400" y="3124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733920" y="23623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 flipV="1">
            <a:off x="5257800" y="342864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334120" y="38862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895480" y="762120"/>
            <a:ext cx="289584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3124080" y="3352680"/>
            <a:ext cx="2514600" cy="2514600"/>
            <a:chOff x="3124080" y="3352680"/>
            <a:chExt cx="2514600" cy="2514600"/>
          </a:xfrm>
        </p:grpSpPr>
        <p:sp>
          <p:nvSpPr>
            <p:cNvPr id="168" name="Rectangle 3"/>
            <p:cNvSpPr/>
            <p:nvPr/>
          </p:nvSpPr>
          <p:spPr>
            <a:xfrm>
              <a:off x="3124080" y="335268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4800600" y="335268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3962160" y="335268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3124080" y="502884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3124080" y="419076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3962160" y="419076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4800600" y="419076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4800600" y="502884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3962160" y="502884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12"/>
          <p:cNvSpPr/>
          <p:nvPr/>
        </p:nvSpPr>
        <p:spPr>
          <a:xfrm>
            <a:off x="2971800" y="76212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312408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 flipV="1">
            <a:off x="5867280" y="335232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114800" y="23623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6019920" y="4191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2743200" y="2895480"/>
            <a:ext cx="3352320" cy="3352320"/>
            <a:chOff x="2743200" y="2895480"/>
            <a:chExt cx="3352320" cy="3352320"/>
          </a:xfrm>
        </p:grpSpPr>
        <p:grpSp>
          <p:nvGrpSpPr>
            <p:cNvPr id="183" name="Group 3"/>
            <p:cNvGrpSpPr/>
            <p:nvPr/>
          </p:nvGrpSpPr>
          <p:grpSpPr>
            <a:xfrm>
              <a:off x="2743200" y="2895480"/>
              <a:ext cx="3352320" cy="1676520"/>
              <a:chOff x="2743200" y="2895480"/>
              <a:chExt cx="3352320" cy="1676520"/>
            </a:xfrm>
          </p:grpSpPr>
          <p:sp>
            <p:nvSpPr>
              <p:cNvPr id="184" name="Rectangle 4"/>
              <p:cNvSpPr/>
              <p:nvPr/>
            </p:nvSpPr>
            <p:spPr>
              <a:xfrm>
                <a:off x="2743200" y="3733560"/>
                <a:ext cx="83808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5"/>
              <p:cNvSpPr/>
              <p:nvPr/>
            </p:nvSpPr>
            <p:spPr>
              <a:xfrm>
                <a:off x="5257440" y="289548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6"/>
              <p:cNvSpPr/>
              <p:nvPr/>
            </p:nvSpPr>
            <p:spPr>
              <a:xfrm>
                <a:off x="2743200" y="289548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Rectangle 7"/>
              <p:cNvSpPr/>
              <p:nvPr/>
            </p:nvSpPr>
            <p:spPr>
              <a:xfrm>
                <a:off x="3581280" y="289548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4419360" y="289548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5257440" y="3733560"/>
                <a:ext cx="83808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10"/>
              <p:cNvSpPr/>
              <p:nvPr/>
            </p:nvSpPr>
            <p:spPr>
              <a:xfrm>
                <a:off x="4419360" y="3733560"/>
                <a:ext cx="83772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1"/>
              <p:cNvSpPr/>
              <p:nvPr/>
            </p:nvSpPr>
            <p:spPr>
              <a:xfrm>
                <a:off x="3581280" y="3733560"/>
                <a:ext cx="83772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2"/>
            <p:cNvGrpSpPr/>
            <p:nvPr/>
          </p:nvGrpSpPr>
          <p:grpSpPr>
            <a:xfrm>
              <a:off x="2743200" y="4572000"/>
              <a:ext cx="3352320" cy="1675800"/>
              <a:chOff x="2743200" y="4572000"/>
              <a:chExt cx="3352320" cy="1675800"/>
            </a:xfrm>
          </p:grpSpPr>
          <p:sp>
            <p:nvSpPr>
              <p:cNvPr id="193" name="Rectangle 13"/>
              <p:cNvSpPr/>
              <p:nvPr/>
            </p:nvSpPr>
            <p:spPr>
              <a:xfrm>
                <a:off x="2743200" y="540972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14"/>
              <p:cNvSpPr/>
              <p:nvPr/>
            </p:nvSpPr>
            <p:spPr>
              <a:xfrm>
                <a:off x="5257440" y="4572000"/>
                <a:ext cx="83808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5"/>
              <p:cNvSpPr/>
              <p:nvPr/>
            </p:nvSpPr>
            <p:spPr>
              <a:xfrm>
                <a:off x="2743200" y="4572000"/>
                <a:ext cx="83808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16"/>
              <p:cNvSpPr/>
              <p:nvPr/>
            </p:nvSpPr>
            <p:spPr>
              <a:xfrm>
                <a:off x="3581280" y="4572000"/>
                <a:ext cx="83772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17"/>
              <p:cNvSpPr/>
              <p:nvPr/>
            </p:nvSpPr>
            <p:spPr>
              <a:xfrm>
                <a:off x="4419360" y="4572000"/>
                <a:ext cx="83772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8"/>
              <p:cNvSpPr/>
              <p:nvPr/>
            </p:nvSpPr>
            <p:spPr>
              <a:xfrm>
                <a:off x="5257440" y="540972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19"/>
              <p:cNvSpPr/>
              <p:nvPr/>
            </p:nvSpPr>
            <p:spPr>
              <a:xfrm>
                <a:off x="4419360" y="540972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20"/>
              <p:cNvSpPr/>
              <p:nvPr/>
            </p:nvSpPr>
            <p:spPr>
              <a:xfrm>
                <a:off x="3581280" y="540972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Rectangle 21"/>
          <p:cNvSpPr/>
          <p:nvPr/>
        </p:nvSpPr>
        <p:spPr>
          <a:xfrm>
            <a:off x="2971800" y="76212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2743200" y="26668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3"/>
          <p:cNvSpPr/>
          <p:nvPr/>
        </p:nvSpPr>
        <p:spPr>
          <a:xfrm flipV="1">
            <a:off x="6324480" y="2895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191120" y="19810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6324480" y="4191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27672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79132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579132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952880" y="3200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11480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327672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579132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327672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1480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4952880" y="4038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579132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4952880" y="4876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411480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2438280" y="23623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4952880" y="5715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411480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327672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2438280" y="5715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2438280" y="4876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2438280" y="4038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438280" y="3200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579132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4114800" y="1295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6858000" y="4114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9"/>
          <p:cNvSpPr/>
          <p:nvPr/>
        </p:nvSpPr>
        <p:spPr>
          <a:xfrm>
            <a:off x="2438280" y="20574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0"/>
          <p:cNvSpPr/>
          <p:nvPr/>
        </p:nvSpPr>
        <p:spPr>
          <a:xfrm flipV="1">
            <a:off x="6858000" y="2361960"/>
            <a:ext cx="0" cy="4190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3048120" y="22860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200400" y="3428640"/>
            <a:ext cx="1676520" cy="1676520"/>
            <a:chOff x="3200400" y="3428640"/>
            <a:chExt cx="1676520" cy="1676520"/>
          </a:xfrm>
        </p:grpSpPr>
        <p:sp>
          <p:nvSpPr>
            <p:cNvPr id="237" name="Rectangle 3"/>
            <p:cNvSpPr/>
            <p:nvPr/>
          </p:nvSpPr>
          <p:spPr>
            <a:xfrm rot="16200000">
              <a:off x="4038480" y="426672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4"/>
            <p:cNvSpPr/>
            <p:nvPr/>
          </p:nvSpPr>
          <p:spPr>
            <a:xfrm rot="16200000">
              <a:off x="3200400" y="4267080"/>
              <a:ext cx="83808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5"/>
            <p:cNvSpPr/>
            <p:nvPr/>
          </p:nvSpPr>
          <p:spPr>
            <a:xfrm rot="16200000">
              <a:off x="3200040" y="342864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 rot="16200000">
              <a:off x="4038480" y="3428640"/>
              <a:ext cx="83844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Freeform 7"/>
          <p:cNvSpPr/>
          <p:nvPr/>
        </p:nvSpPr>
        <p:spPr>
          <a:xfrm>
            <a:off x="2743200" y="1143000"/>
            <a:ext cx="4419720" cy="39625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838080" y="762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6172200" y="53352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2004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876920" y="2590920"/>
            <a:ext cx="83808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038480" y="2590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87692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87692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2666880" y="1828800"/>
            <a:ext cx="3810240" cy="32767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838080" y="762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6248520" y="5335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2120" y="2895480"/>
            <a:ext cx="78483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2004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715000" y="17524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200400" y="1752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038480" y="1752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4876920" y="1752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57150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4876920" y="2590920"/>
            <a:ext cx="83808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4038480" y="2590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57150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487692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571500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487692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7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18"/>
          <p:cNvSpPr/>
          <p:nvPr/>
        </p:nvSpPr>
        <p:spPr>
          <a:xfrm>
            <a:off x="2743200" y="1828800"/>
            <a:ext cx="3733920" cy="32767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57200" y="7621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248520" y="5335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2438280" y="1600200"/>
            <a:ext cx="4191120" cy="4191120"/>
            <a:chOff x="2438280" y="1600200"/>
            <a:chExt cx="4191120" cy="4191120"/>
          </a:xfrm>
        </p:grpSpPr>
        <p:sp>
          <p:nvSpPr>
            <p:cNvPr id="276" name="Rectangle 3"/>
            <p:cNvSpPr/>
            <p:nvPr/>
          </p:nvSpPr>
          <p:spPr>
            <a:xfrm rot="5400000">
              <a:off x="4952880" y="2438280"/>
              <a:ext cx="83808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4"/>
            <p:cNvSpPr/>
            <p:nvPr/>
          </p:nvSpPr>
          <p:spPr>
            <a:xfrm rot="5400000">
              <a:off x="579132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 rot="5400000">
              <a:off x="579132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 rot="5400000">
              <a:off x="5791320" y="327672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 rot="5400000">
              <a:off x="5790960" y="41148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 rot="5400000">
              <a:off x="4952880" y="495288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 rot="5400000">
              <a:off x="4952880" y="41148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 rot="5400000">
              <a:off x="4952880" y="327636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 rot="5400000">
              <a:off x="327672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 rot="5400000">
              <a:off x="411480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 rot="5400000">
              <a:off x="411480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 rot="5400000">
              <a:off x="4114800" y="3276720"/>
              <a:ext cx="83808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 rot="5400000">
              <a:off x="4114440" y="41148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 rot="5400000">
              <a:off x="327672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 rot="5400000">
              <a:off x="3276360" y="4114800"/>
              <a:ext cx="83844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 rot="5400000">
              <a:off x="3276720" y="327672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 rot="5400000">
              <a:off x="5790960" y="1600200"/>
              <a:ext cx="83844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 rot="5400000">
              <a:off x="2438280" y="41148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 rot="5400000">
              <a:off x="2438280" y="327636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 rot="5400000">
              <a:off x="2438280" y="243828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23"/>
            <p:cNvSpPr/>
            <p:nvPr/>
          </p:nvSpPr>
          <p:spPr>
            <a:xfrm rot="5400000">
              <a:off x="2438280" y="16002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24"/>
            <p:cNvSpPr/>
            <p:nvPr/>
          </p:nvSpPr>
          <p:spPr>
            <a:xfrm rot="5400000">
              <a:off x="3276360" y="16002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 rot="5400000">
              <a:off x="4114440" y="16002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26"/>
            <p:cNvSpPr/>
            <p:nvPr/>
          </p:nvSpPr>
          <p:spPr>
            <a:xfrm rot="5400000">
              <a:off x="4952880" y="16002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27"/>
            <p:cNvSpPr/>
            <p:nvPr/>
          </p:nvSpPr>
          <p:spPr>
            <a:xfrm rot="5400000">
              <a:off x="2438280" y="4952880"/>
              <a:ext cx="83808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Freeform 28"/>
          <p:cNvSpPr/>
          <p:nvPr/>
        </p:nvSpPr>
        <p:spPr>
          <a:xfrm>
            <a:off x="1905120" y="1676520"/>
            <a:ext cx="4647960" cy="411480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33520" y="5335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6248520" y="3049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/>
          <p:cNvSpPr/>
          <p:nvPr/>
        </p:nvSpPr>
        <p:spPr>
          <a:xfrm>
            <a:off x="335268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419112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304812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388620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3352680" y="2819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4191120" y="2819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3048120" y="3124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9"/>
          <p:cNvSpPr/>
          <p:nvPr/>
        </p:nvSpPr>
        <p:spPr>
          <a:xfrm>
            <a:off x="3886200" y="3124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200400" y="76212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3048120" y="3657600"/>
            <a:ext cx="2286000" cy="1447920"/>
            <a:chOff x="3048120" y="3657600"/>
            <a:chExt cx="2286000" cy="1447920"/>
          </a:xfrm>
        </p:grpSpPr>
        <p:sp>
          <p:nvSpPr>
            <p:cNvPr id="314" name="AutoShape 3"/>
            <p:cNvSpPr/>
            <p:nvPr/>
          </p:nvSpPr>
          <p:spPr>
            <a:xfrm>
              <a:off x="3352680" y="36576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AutoShape 4"/>
            <p:cNvSpPr/>
            <p:nvPr/>
          </p:nvSpPr>
          <p:spPr>
            <a:xfrm>
              <a:off x="4191120" y="36576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5"/>
            <p:cNvSpPr/>
            <p:nvPr/>
          </p:nvSpPr>
          <p:spPr>
            <a:xfrm>
              <a:off x="3048120" y="3962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AutoShape 6"/>
            <p:cNvSpPr/>
            <p:nvPr/>
          </p:nvSpPr>
          <p:spPr>
            <a:xfrm>
              <a:off x="3886200" y="3962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7"/>
          <p:cNvGrpSpPr/>
          <p:nvPr/>
        </p:nvGrpSpPr>
        <p:grpSpPr>
          <a:xfrm>
            <a:off x="3048120" y="2819520"/>
            <a:ext cx="2286000" cy="1447200"/>
            <a:chOff x="3048120" y="2819520"/>
            <a:chExt cx="2286000" cy="1447200"/>
          </a:xfrm>
        </p:grpSpPr>
        <p:sp>
          <p:nvSpPr>
            <p:cNvPr id="319" name="AutoShape 8"/>
            <p:cNvSpPr/>
            <p:nvPr/>
          </p:nvSpPr>
          <p:spPr>
            <a:xfrm>
              <a:off x="3352680" y="281952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AutoShape 9"/>
            <p:cNvSpPr/>
            <p:nvPr/>
          </p:nvSpPr>
          <p:spPr>
            <a:xfrm>
              <a:off x="4191120" y="281952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AutoShape 10"/>
            <p:cNvSpPr/>
            <p:nvPr/>
          </p:nvSpPr>
          <p:spPr>
            <a:xfrm>
              <a:off x="3048120" y="312408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3886200" y="312408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Line 12"/>
          <p:cNvSpPr/>
          <p:nvPr/>
        </p:nvSpPr>
        <p:spPr>
          <a:xfrm>
            <a:off x="3048120" y="5410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 flipV="1">
            <a:off x="2857680" y="33904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4"/>
          <p:cNvSpPr/>
          <p:nvPr/>
        </p:nvSpPr>
        <p:spPr>
          <a:xfrm flipV="1">
            <a:off x="2882520" y="2347560"/>
            <a:ext cx="897120" cy="1003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2362320" y="3886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2743200" y="21337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3657600" y="5486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2819520" y="5335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335268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419112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502920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304812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388620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472428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274320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358128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441972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1"/>
          <p:cNvGrpSpPr/>
          <p:nvPr/>
        </p:nvGrpSpPr>
        <p:grpSpPr>
          <a:xfrm>
            <a:off x="2743200" y="2819520"/>
            <a:ext cx="3429000" cy="1752480"/>
            <a:chOff x="2743200" y="2819520"/>
            <a:chExt cx="3429000" cy="1752480"/>
          </a:xfrm>
        </p:grpSpPr>
        <p:sp>
          <p:nvSpPr>
            <p:cNvPr id="340" name="AutoShape 12"/>
            <p:cNvSpPr/>
            <p:nvPr/>
          </p:nvSpPr>
          <p:spPr>
            <a:xfrm>
              <a:off x="335268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AutoShape 13"/>
            <p:cNvSpPr/>
            <p:nvPr/>
          </p:nvSpPr>
          <p:spPr>
            <a:xfrm>
              <a:off x="419112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14"/>
            <p:cNvSpPr/>
            <p:nvPr/>
          </p:nvSpPr>
          <p:spPr>
            <a:xfrm>
              <a:off x="502920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15"/>
            <p:cNvSpPr/>
            <p:nvPr/>
          </p:nvSpPr>
          <p:spPr>
            <a:xfrm>
              <a:off x="304812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AutoShape 16"/>
            <p:cNvSpPr/>
            <p:nvPr/>
          </p:nvSpPr>
          <p:spPr>
            <a:xfrm>
              <a:off x="388620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utoShape 17"/>
            <p:cNvSpPr/>
            <p:nvPr/>
          </p:nvSpPr>
          <p:spPr>
            <a:xfrm>
              <a:off x="472428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AutoShape 18"/>
            <p:cNvSpPr/>
            <p:nvPr/>
          </p:nvSpPr>
          <p:spPr>
            <a:xfrm>
              <a:off x="274320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19"/>
            <p:cNvSpPr/>
            <p:nvPr/>
          </p:nvSpPr>
          <p:spPr>
            <a:xfrm>
              <a:off x="358128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20"/>
            <p:cNvSpPr/>
            <p:nvPr/>
          </p:nvSpPr>
          <p:spPr>
            <a:xfrm>
              <a:off x="441972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21"/>
          <p:cNvGrpSpPr/>
          <p:nvPr/>
        </p:nvGrpSpPr>
        <p:grpSpPr>
          <a:xfrm>
            <a:off x="2743200" y="1981080"/>
            <a:ext cx="3429000" cy="1752480"/>
            <a:chOff x="2743200" y="1981080"/>
            <a:chExt cx="3429000" cy="1752480"/>
          </a:xfrm>
        </p:grpSpPr>
        <p:sp>
          <p:nvSpPr>
            <p:cNvPr id="350" name="AutoShape 22"/>
            <p:cNvSpPr/>
            <p:nvPr/>
          </p:nvSpPr>
          <p:spPr>
            <a:xfrm>
              <a:off x="335268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AutoShape 23"/>
            <p:cNvSpPr/>
            <p:nvPr/>
          </p:nvSpPr>
          <p:spPr>
            <a:xfrm>
              <a:off x="419112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24"/>
            <p:cNvSpPr/>
            <p:nvPr/>
          </p:nvSpPr>
          <p:spPr>
            <a:xfrm>
              <a:off x="502920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25"/>
            <p:cNvSpPr/>
            <p:nvPr/>
          </p:nvSpPr>
          <p:spPr>
            <a:xfrm>
              <a:off x="304812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26"/>
            <p:cNvSpPr/>
            <p:nvPr/>
          </p:nvSpPr>
          <p:spPr>
            <a:xfrm>
              <a:off x="388620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27"/>
            <p:cNvSpPr/>
            <p:nvPr/>
          </p:nvSpPr>
          <p:spPr>
            <a:xfrm>
              <a:off x="472428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28"/>
            <p:cNvSpPr/>
            <p:nvPr/>
          </p:nvSpPr>
          <p:spPr>
            <a:xfrm>
              <a:off x="274320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29"/>
            <p:cNvSpPr/>
            <p:nvPr/>
          </p:nvSpPr>
          <p:spPr>
            <a:xfrm>
              <a:off x="358128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30"/>
            <p:cNvSpPr/>
            <p:nvPr/>
          </p:nvSpPr>
          <p:spPr>
            <a:xfrm>
              <a:off x="441972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Rectangle 31"/>
          <p:cNvSpPr/>
          <p:nvPr/>
        </p:nvSpPr>
        <p:spPr>
          <a:xfrm>
            <a:off x="3048120" y="228600"/>
            <a:ext cx="3733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8"/>
          <p:cNvGraphicFramePr/>
          <p:nvPr/>
        </p:nvGraphicFramePr>
        <p:xfrm>
          <a:off x="5562720" y="2133720"/>
          <a:ext cx="7538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133720"/>
                    <a:ext cx="753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1"/>
          <p:cNvGraphicFramePr/>
          <p:nvPr/>
        </p:nvGraphicFramePr>
        <p:xfrm>
          <a:off x="5486400" y="3124080"/>
          <a:ext cx="75564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124080"/>
                    <a:ext cx="755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2"/>
          <p:cNvGraphicFramePr/>
          <p:nvPr/>
        </p:nvGraphicFramePr>
        <p:xfrm>
          <a:off x="5486400" y="4114800"/>
          <a:ext cx="68724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4114800"/>
                    <a:ext cx="687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3"/>
          <p:cNvGraphicFramePr/>
          <p:nvPr/>
        </p:nvGraphicFramePr>
        <p:xfrm>
          <a:off x="5486400" y="5105520"/>
          <a:ext cx="75420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5105520"/>
                    <a:ext cx="754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7"/>
          <p:cNvGraphicFramePr/>
          <p:nvPr/>
        </p:nvGraphicFramePr>
        <p:xfrm>
          <a:off x="6629400" y="533520"/>
          <a:ext cx="960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1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533520"/>
                    <a:ext cx="960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7"/>
          <p:cNvGraphicFramePr/>
          <p:nvPr/>
        </p:nvGraphicFramePr>
        <p:xfrm>
          <a:off x="2209680" y="1600200"/>
          <a:ext cx="144792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00200"/>
                    <a:ext cx="14479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12"/>
          <p:cNvGraphicFramePr/>
          <p:nvPr/>
        </p:nvGraphicFramePr>
        <p:xfrm>
          <a:off x="2209680" y="2514600"/>
          <a:ext cx="106704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10670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Text Box 10"/>
          <p:cNvSpPr/>
          <p:nvPr/>
        </p:nvSpPr>
        <p:spPr>
          <a:xfrm>
            <a:off x="380880" y="19051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1523880" y="1828800"/>
            <a:ext cx="1295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Object 14"/>
          <p:cNvGraphicFramePr/>
          <p:nvPr/>
        </p:nvGraphicFramePr>
        <p:xfrm>
          <a:off x="2133720" y="3276720"/>
          <a:ext cx="1904760" cy="86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276720"/>
                    <a:ext cx="190476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3xy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7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88620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RONOM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ecial for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given by              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in AU (astronomical units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7"/>
          <p:cNvGraphicFramePr/>
          <p:nvPr/>
        </p:nvGraphicFramePr>
        <p:xfrm>
          <a:off x="2209680" y="1371600"/>
          <a:ext cx="14288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14288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>
            <a:off x="304920" y="9907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is the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radical sign</a:t>
            </a: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4 is the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radic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y then x is a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square root</a:t>
            </a: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35809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-0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6019920" y="1104840"/>
          <a:ext cx="106524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104840"/>
                    <a:ext cx="1065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1447920" y="1752480"/>
          <a:ext cx="66024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52480"/>
                    <a:ext cx="6602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6"/>
          <p:cNvGraphicFramePr/>
          <p:nvPr/>
        </p:nvGraphicFramePr>
        <p:xfrm>
          <a:off x="6324480" y="3581280"/>
          <a:ext cx="1065240" cy="6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581280"/>
                    <a:ext cx="106524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7"/>
          <p:cNvGraphicFramePr/>
          <p:nvPr/>
        </p:nvGraphicFramePr>
        <p:xfrm>
          <a:off x="6299280" y="5105520"/>
          <a:ext cx="1593720" cy="57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99280" y="5105520"/>
                    <a:ext cx="15937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1, 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6781680" y="812880"/>
          <a:ext cx="146232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812880"/>
                    <a:ext cx="14623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5"/>
          <p:cNvGraphicFramePr/>
          <p:nvPr/>
        </p:nvGraphicFramePr>
        <p:xfrm>
          <a:off x="6210360" y="2336760"/>
          <a:ext cx="12016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0360" y="2336760"/>
                    <a:ext cx="12016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6"/>
          <p:cNvGraphicFramePr/>
          <p:nvPr/>
        </p:nvGraphicFramePr>
        <p:xfrm>
          <a:off x="6184800" y="3594240"/>
          <a:ext cx="1054080" cy="102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84800" y="3594240"/>
                    <a:ext cx="1054080" cy="102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7"/>
          <p:cNvGraphicFramePr/>
          <p:nvPr/>
        </p:nvGraphicFramePr>
        <p:xfrm>
          <a:off x="3817800" y="4495680"/>
          <a:ext cx="1211400" cy="13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17800" y="4495680"/>
                    <a:ext cx="12114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34290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6.82, -6.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3479760" y="2705040"/>
          <a:ext cx="159372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9760" y="2705040"/>
                    <a:ext cx="15937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• 1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• 2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• 3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• 4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• 5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 • 6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49, 64, 81, 100, 121, 144,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228600" y="5335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5591160" y="685800"/>
          <a:ext cx="141912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91160" y="685800"/>
                    <a:ext cx="1419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9"/>
          <p:cNvGraphicFramePr/>
          <p:nvPr/>
        </p:nvGraphicFramePr>
        <p:xfrm>
          <a:off x="2917800" y="2438280"/>
          <a:ext cx="340668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7800" y="2438280"/>
                    <a:ext cx="340668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0"/>
          <p:cNvGraphicFramePr/>
          <p:nvPr/>
        </p:nvGraphicFramePr>
        <p:xfrm>
          <a:off x="2706840" y="3292560"/>
          <a:ext cx="383220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6840" y="3292560"/>
                    <a:ext cx="38322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1"/>
          <p:cNvGraphicFramePr/>
          <p:nvPr/>
        </p:nvGraphicFramePr>
        <p:xfrm>
          <a:off x="3094200" y="4146480"/>
          <a:ext cx="2933640" cy="82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4200" y="4146480"/>
                    <a:ext cx="293364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520" y="762120"/>
            <a:ext cx="48006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5445000" y="685800"/>
          <a:ext cx="12607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5000" y="685800"/>
                    <a:ext cx="12607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9"/>
          <p:cNvGraphicFramePr/>
          <p:nvPr/>
        </p:nvGraphicFramePr>
        <p:xfrm>
          <a:off x="3720960" y="2438280"/>
          <a:ext cx="179892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0960" y="2438280"/>
                    <a:ext cx="179892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0"/>
          <p:cNvGraphicFramePr/>
          <p:nvPr/>
        </p:nvGraphicFramePr>
        <p:xfrm>
          <a:off x="3510000" y="3292560"/>
          <a:ext cx="222408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10000" y="3292560"/>
                    <a:ext cx="22240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1"/>
          <p:cNvGraphicFramePr/>
          <p:nvPr/>
        </p:nvGraphicFramePr>
        <p:xfrm>
          <a:off x="3897360" y="4146480"/>
          <a:ext cx="1325520" cy="82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97360" y="4146480"/>
                    <a:ext cx="13255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1459080" y="1981080"/>
          <a:ext cx="1218960" cy="7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981080"/>
                    <a:ext cx="12189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4800600" y="230040"/>
          <a:ext cx="1371600" cy="98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30040"/>
                    <a:ext cx="13716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"/>
          <p:cNvGraphicFramePr/>
          <p:nvPr/>
        </p:nvGraphicFramePr>
        <p:xfrm>
          <a:off x="1459080" y="2666880"/>
          <a:ext cx="1120680" cy="8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9080" y="2666880"/>
                    <a:ext cx="112068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1"/>
          <p:cNvGraphicFramePr/>
          <p:nvPr/>
        </p:nvGraphicFramePr>
        <p:xfrm>
          <a:off x="1459080" y="3513240"/>
          <a:ext cx="121896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59080" y="3513240"/>
                    <a:ext cx="12189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2"/>
          <p:cNvGraphicFramePr/>
          <p:nvPr/>
        </p:nvGraphicFramePr>
        <p:xfrm>
          <a:off x="1459080" y="4299120"/>
          <a:ext cx="1512720" cy="83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59080" y="4299120"/>
                    <a:ext cx="15127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CorShape1"/>
          <p:cNvSpPr/>
          <p:nvPr/>
        </p:nvSpPr>
        <p:spPr>
          <a:xfrm rot="10800000">
            <a:off x="360000" y="3768480"/>
            <a:ext cx="406440" cy="406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3T00:09:35Z</dcterms:created>
  <dc:creator>Skip Tyler</dc:creator>
  <dc:description/>
  <dc:language>en-US</dc:language>
  <cp:lastModifiedBy>RomaK</cp:lastModifiedBy>
  <dcterms:modified xsi:type="dcterms:W3CDTF">2015-09-04T09:20:48Z</dcterms:modified>
  <cp:revision>31</cp:revision>
  <dc:subject/>
  <dc:title>Simplify Radicals</dc:title>
</cp:coreProperties>
</file>