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29BE-27F5-4919-A87C-F87A7DF8C6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941A-DC54-4B33-9B32-3C80B6437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-2 Simplifying Expressions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-2 Simplifying Expressions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2 Simplifying Expre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ignment:  Pages 10 - 11 / 2 - 44 ev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alcu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xpress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xpress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ymbols used to represent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represented by the 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n expression and a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y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y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equality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is the result of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is the result of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 is the result of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otient is the result of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st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2nd 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3rd Multiplication &amp; Divi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4th Addition &amp;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st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2nd 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3rd Multiplication &amp; Divi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4th Addition &amp;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Multiplication &amp;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Addition &amp;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EAC-8D73-4658-BF15-5C57801B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1873-1E2C-4CA3-BE9B-A3BBA712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9A21-95B0-4AA2-9B80-B15A54C7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7B3C-DB13-4D40-804B-8CF2566E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5608-ECC1-4D1B-95F1-79CF6811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F3AB-2D67-4110-B3F7-18DEDE10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5B95-0A3D-48B1-AF1F-5FD32448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28CC-40D7-491B-A995-8DFC6A83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4980-73D3-416E-B0E7-2121E0A8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53EB-F2F0-4C6B-A853-30C95CF6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2C40-4DAB-4C73-9A7E-5AE159E5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8C5-1CED-4FC1-88B5-5C403FC6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235C-48F7-493D-B547-276FA7A6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83E6-9902-44C7-9F44-5F2CECF7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1EA1-83BB-418A-9D1F-2F98D2A1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8386-0B82-4AF4-9226-FA874D74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97D6-C33C-447A-912E-28D12EE3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0AE-4460-4676-ADCF-E148BCB3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4E9-C97E-4B73-A0C8-6C4387A5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846-F030-47A2-8884-C28999F1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3797-6BFE-4B9D-BC2F-014E702C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D2E6-4E38-48AB-9374-4D99533C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43E4-6229-41B6-AE11-E8967951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4BC6-AD1A-4F98-BF4F-9726EB3A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51ED-B066-4FC6-A1C1-2D15F2C8B42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E279-53E7-4071-8009-9B121F108D1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1-2 Simplifying Expressions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3429000" y="2590920"/>
                <a:ext cx="14590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Rectangle 7"/>
          <p:cNvSpPr/>
          <p:nvPr/>
        </p:nvSpPr>
        <p:spPr>
          <a:xfrm>
            <a:off x="1143000" y="31240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Value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qu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2604960" y="2590920"/>
                <a:ext cx="2345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equality Symbo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143000" y="31240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1052640" y="1676520"/>
                <a:ext cx="5895720" cy="41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s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eat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s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eat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equaliti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2986200" y="3124080"/>
                <a:ext cx="2344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ow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1066680" y="1676520"/>
                <a:ext cx="7315200" cy="25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ans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i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tself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imes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ouping Symbo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1523880" y="2438280"/>
                <a:ext cx="4496040" cy="31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entheses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rackets</m:t>
                        </m:r>
                      </m:e>
                      <m:e>
                        <m:f>
                          <m:num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vis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a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rder of Oper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1s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Grouping symbo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2n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Powe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3r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Multiplication &amp; Divis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th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Addition &amp; Subtra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4:05:50Z</dcterms:created>
  <dc:creator>Shane Alan Fods</dc:creator>
  <dc:description/>
  <dc:language>en-US</dc:language>
  <cp:lastModifiedBy>RomaK</cp:lastModifiedBy>
  <dcterms:modified xsi:type="dcterms:W3CDTF">2015-09-04T09:20:57Z</dcterms:modified>
  <cp:revision>10</cp:revision>
  <dc:subject/>
  <dc:title>1-2 Simplifying Expressions.</dc:title>
</cp:coreProperties>
</file>