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0BAF-C089-4602-84E7-9AFDD95FF2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anced Math-Hon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ing Sine and Cos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ced Math-Ho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ing Sine and Cos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Graph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are collections of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pendent variables are related to dependent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ain is set of independent variable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 is set of dependent variable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Graph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are collections of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variables are related to dependent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is set of independent variabl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 is set of dependent variabl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od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that repeat infinitely in intervals are called period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Sea level as a function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common periodic graphs are the graphs of the trigonometr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e, cosine, tangent, cosecant, secant, and cotang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that repeat infinitely in intervals are called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Sea level as a function o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common periodic graphs are the graphs of the trigonometr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e, cosine, tangent, cosecant, secant, and co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cillation-one complete “cycle” of th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od-”time” (horizontal distance) it takes the graph to complete one oscil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plitude-the furthest vertical distance the graph ventures from the vertical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cillation-one complete “cycle” of th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-”time” (horizontal distance) it takes the graph to complete one osci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litude-the furthest vertical distance the graph ventures from the vertical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think of the sine graph as starting at an x-value of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begins at a y-value of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moves up the distance of its amplit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it moves back down to the x-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it moves down the distance of its amplit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t completes an oscillation by moving back up the x-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hink of the sine graph as starting at an x-value of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begins at a y-value of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hen moves up the distance of its ampl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it moves back down to the x-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it moves down the distance of its ampl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 completes an oscillation by moving back up the x-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 of the sine grap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horizontal length of each “piece” of the sine grap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plitude of the sine graph is…(think about the values of sin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od of the sine grap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horizontal length of each “piece” of the sine grap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plitude of the sine graph is…(think about the values of s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sine graph is the same as the sine graph, only it has been shifted horizont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peri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mplit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sine graph is the same as the sine graph, only it has been shifted horizont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ampl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peri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mplit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“starting point” is still an x-value of zero, but is now a y-value of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ampl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tarting point” is still an x-value of zero, but is now a y-value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e and Cosin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the idea of a “starting point” is very helpful when graphing, it is merely an id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graphs have infinite dom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thus far only looked at library versions.  There will be transform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e and Cosine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the idea of a “starting point” is very helpful when graphing, it is merely an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graphs have infinite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thus far only looked at library versions.  There will be transform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491B-4491-4CA6-AA60-EDCFBF21F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E904-4999-4081-A6F3-C645A6AA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AB18-FDB0-4AE6-B61F-B594D83F3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EE9E-43D4-42A5-A1A0-885DD51F7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5199-EB0D-48B3-BCEF-8B95319B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8C6D-546D-4C53-BA9A-7D268FCE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AD9F-D880-433D-A6D8-122593D7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7378-5FF3-4175-90FF-D622EDB0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7CE9-F999-4F37-8F47-C7DD23E4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9E75-E2EB-4428-BC16-0DF5A918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FB5D-1084-47A5-9378-D0651993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E4E1-CCBE-402B-B9AA-901C4BD8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E87D-86E3-4B03-8EAC-B5A8BD77F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dvanced Math-Honor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Graphing Sine and Cosin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General Graphs 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Graphs are collections of point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ndependent variables are related to dependent variabl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omain is set of independent variable valu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Range is set of dependent variable valu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Periodic Graph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Graphs that repeat infinitely in intervals are called periodic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x: Sea level as a function of tim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most common periodic graphs are the graphs of the trigonometric function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ne, cosine, tangent, cosecant, secant, and cotangen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55" name="Group 27"/>
          <p:cNvGrpSpPr/>
          <p:nvPr/>
        </p:nvGrpSpPr>
        <p:grpSpPr>
          <a:xfrm>
            <a:off x="1143000" y="1295280"/>
            <a:ext cx="6857640" cy="2666880"/>
            <a:chOff x="1143000" y="1295280"/>
            <a:chExt cx="6857640" cy="2666880"/>
          </a:xfrm>
        </p:grpSpPr>
        <p:sp>
          <p:nvSpPr>
            <p:cNvPr id="56" name="Rectangle 26"/>
            <p:cNvSpPr/>
            <p:nvPr/>
          </p:nvSpPr>
          <p:spPr>
            <a:xfrm>
              <a:off x="1143000" y="1295280"/>
              <a:ext cx="6857640" cy="266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5"/>
            <p:cNvGrpSpPr/>
            <p:nvPr/>
          </p:nvGrpSpPr>
          <p:grpSpPr>
            <a:xfrm>
              <a:off x="1364040" y="1517040"/>
              <a:ext cx="6497640" cy="2332440"/>
              <a:chOff x="1364040" y="1517040"/>
              <a:chExt cx="6497640" cy="2332440"/>
            </a:xfrm>
          </p:grpSpPr>
          <p:sp>
            <p:nvSpPr>
              <p:cNvPr id="58" name="Line 5"/>
              <p:cNvSpPr/>
              <p:nvPr/>
            </p:nvSpPr>
            <p:spPr>
              <a:xfrm>
                <a:off x="1806480" y="2628000"/>
                <a:ext cx="575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6"/>
              <p:cNvSpPr/>
              <p:nvPr/>
            </p:nvSpPr>
            <p:spPr>
              <a:xfrm>
                <a:off x="3949560" y="257724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7"/>
              <p:cNvSpPr/>
              <p:nvPr/>
            </p:nvSpPr>
            <p:spPr>
              <a:xfrm>
                <a:off x="4698360" y="1517040"/>
                <a:ext cx="0" cy="21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61" name="Object 8"/>
              <p:cNvGraphicFramePr/>
              <p:nvPr/>
            </p:nvGraphicFramePr>
            <p:xfrm>
              <a:off x="1364040" y="2738880"/>
              <a:ext cx="6497640" cy="648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2" name="Object 8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64040" y="2738880"/>
                        <a:ext cx="6497640" cy="64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3" name="Line 9"/>
              <p:cNvSpPr/>
              <p:nvPr/>
            </p:nvSpPr>
            <p:spPr>
              <a:xfrm>
                <a:off x="2571480" y="257724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10"/>
              <p:cNvSpPr/>
              <p:nvPr/>
            </p:nvSpPr>
            <p:spPr>
              <a:xfrm>
                <a:off x="5463360" y="257724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1"/>
              <p:cNvSpPr/>
              <p:nvPr/>
            </p:nvSpPr>
            <p:spPr>
              <a:xfrm>
                <a:off x="6827040" y="2570040"/>
                <a:ext cx="0" cy="11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" name="Group 12"/>
              <p:cNvGrpSpPr/>
              <p:nvPr/>
            </p:nvGrpSpPr>
            <p:grpSpPr>
              <a:xfrm>
                <a:off x="1806480" y="1517040"/>
                <a:ext cx="5749560" cy="2332440"/>
                <a:chOff x="1806480" y="1517040"/>
                <a:chExt cx="5749560" cy="2332440"/>
              </a:xfrm>
            </p:grpSpPr>
            <p:grpSp>
              <p:nvGrpSpPr>
                <p:cNvPr id="67" name="Group 13"/>
                <p:cNvGrpSpPr/>
                <p:nvPr/>
              </p:nvGrpSpPr>
              <p:grpSpPr>
                <a:xfrm>
                  <a:off x="3243600" y="2654640"/>
                  <a:ext cx="1437120" cy="1194840"/>
                  <a:chOff x="3243600" y="2654640"/>
                  <a:chExt cx="1437120" cy="1194840"/>
                </a:xfrm>
              </p:grpSpPr>
              <p:sp>
                <p:nvSpPr>
                  <p:cNvPr id="68" name="Freeform 14"/>
                  <p:cNvSpPr/>
                  <p:nvPr/>
                </p:nvSpPr>
                <p:spPr>
                  <a:xfrm flipV="1">
                    <a:off x="3243600" y="265428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Freeform 15"/>
                  <p:cNvSpPr/>
                  <p:nvPr/>
                </p:nvSpPr>
                <p:spPr>
                  <a:xfrm flipH="1" flipV="1">
                    <a:off x="3906720" y="268308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" name="Group 16"/>
                <p:cNvGrpSpPr/>
                <p:nvPr/>
              </p:nvGrpSpPr>
              <p:grpSpPr>
                <a:xfrm>
                  <a:off x="4681800" y="1517040"/>
                  <a:ext cx="1437120" cy="1194840"/>
                  <a:chOff x="4681800" y="1517040"/>
                  <a:chExt cx="1437120" cy="1194840"/>
                </a:xfrm>
              </p:grpSpPr>
              <p:sp>
                <p:nvSpPr>
                  <p:cNvPr id="71" name="Freeform 17"/>
                  <p:cNvSpPr/>
                  <p:nvPr/>
                </p:nvSpPr>
                <p:spPr>
                  <a:xfrm>
                    <a:off x="4681800" y="151704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Freeform 18"/>
                  <p:cNvSpPr/>
                  <p:nvPr/>
                </p:nvSpPr>
                <p:spPr>
                  <a:xfrm flipH="1">
                    <a:off x="5344920" y="151704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" name="Group 19"/>
                <p:cNvGrpSpPr/>
                <p:nvPr/>
              </p:nvGrpSpPr>
              <p:grpSpPr>
                <a:xfrm>
                  <a:off x="6119640" y="2654640"/>
                  <a:ext cx="1436400" cy="1194840"/>
                  <a:chOff x="6119640" y="2654640"/>
                  <a:chExt cx="1436400" cy="1194840"/>
                </a:xfrm>
              </p:grpSpPr>
              <p:sp>
                <p:nvSpPr>
                  <p:cNvPr id="74" name="Freeform 20"/>
                  <p:cNvSpPr/>
                  <p:nvPr/>
                </p:nvSpPr>
                <p:spPr>
                  <a:xfrm flipV="1">
                    <a:off x="6119640" y="2654280"/>
                    <a:ext cx="77364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Freeform 21"/>
                  <p:cNvSpPr/>
                  <p:nvPr/>
                </p:nvSpPr>
                <p:spPr>
                  <a:xfrm flipH="1" flipV="1">
                    <a:off x="6782040" y="2683080"/>
                    <a:ext cx="77364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" name="Group 22"/>
                <p:cNvGrpSpPr/>
                <p:nvPr/>
              </p:nvGrpSpPr>
              <p:grpSpPr>
                <a:xfrm>
                  <a:off x="1806480" y="1517040"/>
                  <a:ext cx="1436400" cy="1194840"/>
                  <a:chOff x="1806480" y="1517040"/>
                  <a:chExt cx="1436400" cy="1194840"/>
                </a:xfrm>
              </p:grpSpPr>
              <p:sp>
                <p:nvSpPr>
                  <p:cNvPr id="77" name="Freeform 23"/>
                  <p:cNvSpPr/>
                  <p:nvPr/>
                </p:nvSpPr>
                <p:spPr>
                  <a:xfrm>
                    <a:off x="1806480" y="1517040"/>
                    <a:ext cx="77364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Freeform 24"/>
                  <p:cNvSpPr/>
                  <p:nvPr/>
                </p:nvSpPr>
                <p:spPr>
                  <a:xfrm flipH="1">
                    <a:off x="2468880" y="1517040"/>
                    <a:ext cx="77364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9" name="Text Box 28"/>
          <p:cNvSpPr/>
          <p:nvPr/>
        </p:nvSpPr>
        <p:spPr>
          <a:xfrm>
            <a:off x="533520" y="419112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scillation-one complete “cycle” of 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9"/>
          <p:cNvSpPr/>
          <p:nvPr/>
        </p:nvSpPr>
        <p:spPr>
          <a:xfrm>
            <a:off x="533520" y="47386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Period-”time” (horizontal distance) it takes the graph to complete one osci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0"/>
          <p:cNvSpPr/>
          <p:nvPr/>
        </p:nvSpPr>
        <p:spPr>
          <a:xfrm>
            <a:off x="533520" y="534816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Amplitude-the furthest vertical distance the graph ventures from the vertical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1"/>
          <p:cNvSpPr/>
          <p:nvPr/>
        </p:nvSpPr>
        <p:spPr>
          <a:xfrm>
            <a:off x="4419720" y="2362320"/>
            <a:ext cx="304560" cy="22860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37"/>
          <p:cNvGrpSpPr/>
          <p:nvPr/>
        </p:nvGrpSpPr>
        <p:grpSpPr>
          <a:xfrm>
            <a:off x="4724280" y="3352320"/>
            <a:ext cx="2819520" cy="305280"/>
            <a:chOff x="4724280" y="3352320"/>
            <a:chExt cx="2819520" cy="305280"/>
          </a:xfrm>
        </p:grpSpPr>
        <p:sp>
          <p:nvSpPr>
            <p:cNvPr id="84" name="Line 38"/>
            <p:cNvSpPr/>
            <p:nvPr/>
          </p:nvSpPr>
          <p:spPr>
            <a:xfrm>
              <a:off x="4724280" y="3352680"/>
              <a:ext cx="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>
              <a:off x="4724280" y="3657600"/>
              <a:ext cx="2819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0"/>
            <p:cNvSpPr/>
            <p:nvPr/>
          </p:nvSpPr>
          <p:spPr>
            <a:xfrm flipV="1">
              <a:off x="7543800" y="3352320"/>
              <a:ext cx="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53"/>
          <p:cNvGrpSpPr/>
          <p:nvPr/>
        </p:nvGrpSpPr>
        <p:grpSpPr>
          <a:xfrm>
            <a:off x="5410080" y="1447920"/>
            <a:ext cx="533520" cy="1218600"/>
            <a:chOff x="5410080" y="1447920"/>
            <a:chExt cx="533520" cy="1218600"/>
          </a:xfrm>
        </p:grpSpPr>
        <p:sp>
          <p:nvSpPr>
            <p:cNvPr id="88" name="Line 49"/>
            <p:cNvSpPr/>
            <p:nvPr/>
          </p:nvSpPr>
          <p:spPr>
            <a:xfrm>
              <a:off x="5410080" y="1447920"/>
              <a:ext cx="53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1"/>
            <p:cNvSpPr/>
            <p:nvPr/>
          </p:nvSpPr>
          <p:spPr>
            <a:xfrm>
              <a:off x="5943600" y="1447920"/>
              <a:ext cx="0" cy="1218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52"/>
            <p:cNvSpPr/>
            <p:nvPr/>
          </p:nvSpPr>
          <p:spPr>
            <a:xfrm flipH="1">
              <a:off x="5410080" y="2666520"/>
              <a:ext cx="53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0.01757 C 0.01892 -0.01619 0.02778 -0.04996 0.04063 -0.07701 C 0.05347 -0.10407 0.07135 -0.14269 0.08698 -0.14455 C 0.1026 -0.1464 0.12118 -0.11587 0.13472 -0.08858 C 0.14826 -0.06129 0.15764 -0.01758 0.16806 0.01965 C 0.17847 0.05689 0.18524 0.10545 0.19705 0.13529 C 0.20885 0.16512 0.22431 0.19519 0.23906 0.19912 C 0.25382 0.20305 0.27083 0.18825 0.28559 0.15865 C 0.30035 0.12904 0.32031 0.04671 0.3276 0.0215 C 0.3349 -0.0037 0.33194 0.00208 0.32899 0.00786 E">
                                      <p:cBhvr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2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0213E-006 L -0.3125 1.70213E-006 E">
                                      <p:cBhvr>
                                        <p:cTn id="23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47919E-006 L 0.15417 0.16651 E">
                                      <p:cBhvr>
                                        <p:cTn id="36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" name="Text Box 27"/>
          <p:cNvSpPr/>
          <p:nvPr/>
        </p:nvSpPr>
        <p:spPr>
          <a:xfrm>
            <a:off x="533520" y="4191120"/>
            <a:ext cx="7543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We think of the sine graph as starting at an x-value of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It begins at a y-value of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It then moves up the distance of its 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Next it moves back down to the x-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n it moves down the distance of its 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 it completes an oscillation by moving back up the x-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29"/>
          <p:cNvGrpSpPr/>
          <p:nvPr/>
        </p:nvGrpSpPr>
        <p:grpSpPr>
          <a:xfrm>
            <a:off x="1143000" y="1295280"/>
            <a:ext cx="6858000" cy="2667240"/>
            <a:chOff x="1143000" y="1295280"/>
            <a:chExt cx="6858000" cy="2667240"/>
          </a:xfrm>
        </p:grpSpPr>
        <p:sp>
          <p:nvSpPr>
            <p:cNvPr id="94" name="Rectangle 5"/>
            <p:cNvSpPr/>
            <p:nvPr/>
          </p:nvSpPr>
          <p:spPr>
            <a:xfrm>
              <a:off x="1143000" y="1295280"/>
              <a:ext cx="6858000" cy="266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6"/>
            <p:cNvGrpSpPr/>
            <p:nvPr/>
          </p:nvGrpSpPr>
          <p:grpSpPr>
            <a:xfrm>
              <a:off x="1363680" y="1517760"/>
              <a:ext cx="6498720" cy="2332440"/>
              <a:chOff x="1363680" y="1517760"/>
              <a:chExt cx="6498720" cy="2332440"/>
            </a:xfrm>
          </p:grpSpPr>
          <p:sp>
            <p:nvSpPr>
              <p:cNvPr id="96" name="Line 7"/>
              <p:cNvSpPr/>
              <p:nvPr/>
            </p:nvSpPr>
            <p:spPr>
              <a:xfrm>
                <a:off x="1806120" y="2628720"/>
                <a:ext cx="575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8"/>
              <p:cNvSpPr/>
              <p:nvPr/>
            </p:nvSpPr>
            <p:spPr>
              <a:xfrm>
                <a:off x="3949560" y="257796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9"/>
              <p:cNvSpPr/>
              <p:nvPr/>
            </p:nvSpPr>
            <p:spPr>
              <a:xfrm>
                <a:off x="4698360" y="1517760"/>
                <a:ext cx="0" cy="21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99" name="Object 10"/>
              <p:cNvGraphicFramePr/>
              <p:nvPr/>
            </p:nvGraphicFramePr>
            <p:xfrm>
              <a:off x="1363680" y="2739600"/>
              <a:ext cx="6498720" cy="648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0" name="Object 10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63680" y="2739600"/>
                        <a:ext cx="6498720" cy="64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1" name="Line 11"/>
              <p:cNvSpPr/>
              <p:nvPr/>
            </p:nvSpPr>
            <p:spPr>
              <a:xfrm>
                <a:off x="2571480" y="257796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12"/>
              <p:cNvSpPr/>
              <p:nvPr/>
            </p:nvSpPr>
            <p:spPr>
              <a:xfrm>
                <a:off x="5463720" y="257796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13"/>
              <p:cNvSpPr/>
              <p:nvPr/>
            </p:nvSpPr>
            <p:spPr>
              <a:xfrm>
                <a:off x="6827760" y="2570760"/>
                <a:ext cx="0" cy="11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" name="Group 14"/>
              <p:cNvGrpSpPr/>
              <p:nvPr/>
            </p:nvGrpSpPr>
            <p:grpSpPr>
              <a:xfrm>
                <a:off x="1806120" y="1517760"/>
                <a:ext cx="5751000" cy="2332440"/>
                <a:chOff x="1806120" y="1517760"/>
                <a:chExt cx="5751000" cy="2332440"/>
              </a:xfrm>
            </p:grpSpPr>
            <p:grpSp>
              <p:nvGrpSpPr>
                <p:cNvPr id="105" name="Group 15"/>
                <p:cNvGrpSpPr/>
                <p:nvPr/>
              </p:nvGrpSpPr>
              <p:grpSpPr>
                <a:xfrm>
                  <a:off x="3243600" y="2655360"/>
                  <a:ext cx="1437120" cy="1194840"/>
                  <a:chOff x="3243600" y="2655360"/>
                  <a:chExt cx="1437120" cy="1194840"/>
                </a:xfrm>
              </p:grpSpPr>
              <p:sp>
                <p:nvSpPr>
                  <p:cNvPr id="106" name="Freeform 16"/>
                  <p:cNvSpPr/>
                  <p:nvPr/>
                </p:nvSpPr>
                <p:spPr>
                  <a:xfrm flipV="1">
                    <a:off x="3243600" y="265500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7"/>
                  <p:cNvSpPr/>
                  <p:nvPr/>
                </p:nvSpPr>
                <p:spPr>
                  <a:xfrm flipH="1" flipV="1">
                    <a:off x="3906720" y="268380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" name="Group 18"/>
                <p:cNvGrpSpPr/>
                <p:nvPr/>
              </p:nvGrpSpPr>
              <p:grpSpPr>
                <a:xfrm>
                  <a:off x="4681800" y="1517760"/>
                  <a:ext cx="1437120" cy="1194840"/>
                  <a:chOff x="4681800" y="1517760"/>
                  <a:chExt cx="1437120" cy="1194840"/>
                </a:xfrm>
              </p:grpSpPr>
              <p:sp>
                <p:nvSpPr>
                  <p:cNvPr id="109" name="Freeform 19"/>
                  <p:cNvSpPr/>
                  <p:nvPr/>
                </p:nvSpPr>
                <p:spPr>
                  <a:xfrm>
                    <a:off x="4681800" y="151776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20"/>
                  <p:cNvSpPr/>
                  <p:nvPr/>
                </p:nvSpPr>
                <p:spPr>
                  <a:xfrm flipH="1">
                    <a:off x="5344920" y="151776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" name="Group 21"/>
                <p:cNvGrpSpPr/>
                <p:nvPr/>
              </p:nvGrpSpPr>
              <p:grpSpPr>
                <a:xfrm>
                  <a:off x="6120000" y="2655360"/>
                  <a:ext cx="1437120" cy="1194840"/>
                  <a:chOff x="6120000" y="2655360"/>
                  <a:chExt cx="1437120" cy="1194840"/>
                </a:xfrm>
              </p:grpSpPr>
              <p:sp>
                <p:nvSpPr>
                  <p:cNvPr id="112" name="Freeform 22"/>
                  <p:cNvSpPr/>
                  <p:nvPr/>
                </p:nvSpPr>
                <p:spPr>
                  <a:xfrm flipV="1">
                    <a:off x="6120000" y="265500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Freeform 23"/>
                  <p:cNvSpPr/>
                  <p:nvPr/>
                </p:nvSpPr>
                <p:spPr>
                  <a:xfrm flipH="1" flipV="1">
                    <a:off x="6783120" y="268380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Group 24"/>
                <p:cNvGrpSpPr/>
                <p:nvPr/>
              </p:nvGrpSpPr>
              <p:grpSpPr>
                <a:xfrm>
                  <a:off x="1806120" y="1517760"/>
                  <a:ext cx="1437120" cy="1194840"/>
                  <a:chOff x="1806120" y="1517760"/>
                  <a:chExt cx="1437120" cy="1194840"/>
                </a:xfrm>
              </p:grpSpPr>
              <p:sp>
                <p:nvSpPr>
                  <p:cNvPr id="115" name="Freeform 25"/>
                  <p:cNvSpPr/>
                  <p:nvPr/>
                </p:nvSpPr>
                <p:spPr>
                  <a:xfrm>
                    <a:off x="1806120" y="151776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26"/>
                  <p:cNvSpPr/>
                  <p:nvPr/>
                </p:nvSpPr>
                <p:spPr>
                  <a:xfrm flipH="1">
                    <a:off x="2469240" y="151776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7" name="AutoShape 28"/>
            <p:cNvSpPr/>
            <p:nvPr/>
          </p:nvSpPr>
          <p:spPr>
            <a:xfrm>
              <a:off x="4419720" y="2362320"/>
              <a:ext cx="304560" cy="22860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119" name="Group 4"/>
          <p:cNvGrpSpPr/>
          <p:nvPr/>
        </p:nvGrpSpPr>
        <p:grpSpPr>
          <a:xfrm>
            <a:off x="1143000" y="1295280"/>
            <a:ext cx="6857640" cy="2666880"/>
            <a:chOff x="1143000" y="1295280"/>
            <a:chExt cx="6857640" cy="2666880"/>
          </a:xfrm>
        </p:grpSpPr>
        <p:sp>
          <p:nvSpPr>
            <p:cNvPr id="120" name="Rectangle 5"/>
            <p:cNvSpPr/>
            <p:nvPr/>
          </p:nvSpPr>
          <p:spPr>
            <a:xfrm>
              <a:off x="1143000" y="1295280"/>
              <a:ext cx="6857640" cy="266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6"/>
            <p:cNvGrpSpPr/>
            <p:nvPr/>
          </p:nvGrpSpPr>
          <p:grpSpPr>
            <a:xfrm>
              <a:off x="1364040" y="1517040"/>
              <a:ext cx="6497640" cy="2332440"/>
              <a:chOff x="1364040" y="1517040"/>
              <a:chExt cx="6497640" cy="2332440"/>
            </a:xfrm>
          </p:grpSpPr>
          <p:sp>
            <p:nvSpPr>
              <p:cNvPr id="122" name="Line 7"/>
              <p:cNvSpPr/>
              <p:nvPr/>
            </p:nvSpPr>
            <p:spPr>
              <a:xfrm>
                <a:off x="1806480" y="2628000"/>
                <a:ext cx="575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8"/>
              <p:cNvSpPr/>
              <p:nvPr/>
            </p:nvSpPr>
            <p:spPr>
              <a:xfrm>
                <a:off x="3949560" y="257724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9"/>
              <p:cNvSpPr/>
              <p:nvPr/>
            </p:nvSpPr>
            <p:spPr>
              <a:xfrm>
                <a:off x="4698360" y="1517040"/>
                <a:ext cx="0" cy="21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25" name="Object 10"/>
              <p:cNvGraphicFramePr/>
              <p:nvPr/>
            </p:nvGraphicFramePr>
            <p:xfrm>
              <a:off x="1364040" y="2738880"/>
              <a:ext cx="6497640" cy="648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6" name="Object 10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64040" y="2738880"/>
                        <a:ext cx="6497640" cy="64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7" name="Line 11"/>
              <p:cNvSpPr/>
              <p:nvPr/>
            </p:nvSpPr>
            <p:spPr>
              <a:xfrm>
                <a:off x="2571480" y="257724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12"/>
              <p:cNvSpPr/>
              <p:nvPr/>
            </p:nvSpPr>
            <p:spPr>
              <a:xfrm>
                <a:off x="5463360" y="257724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13"/>
              <p:cNvSpPr/>
              <p:nvPr/>
            </p:nvSpPr>
            <p:spPr>
              <a:xfrm>
                <a:off x="6827040" y="2570040"/>
                <a:ext cx="0" cy="11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Group 14"/>
              <p:cNvGrpSpPr/>
              <p:nvPr/>
            </p:nvGrpSpPr>
            <p:grpSpPr>
              <a:xfrm>
                <a:off x="1806480" y="1517040"/>
                <a:ext cx="5749560" cy="2332440"/>
                <a:chOff x="1806480" y="1517040"/>
                <a:chExt cx="5749560" cy="2332440"/>
              </a:xfrm>
            </p:grpSpPr>
            <p:grpSp>
              <p:nvGrpSpPr>
                <p:cNvPr id="131" name="Group 15"/>
                <p:cNvGrpSpPr/>
                <p:nvPr/>
              </p:nvGrpSpPr>
              <p:grpSpPr>
                <a:xfrm>
                  <a:off x="3243600" y="2654640"/>
                  <a:ext cx="1437120" cy="1194840"/>
                  <a:chOff x="3243600" y="2654640"/>
                  <a:chExt cx="1437120" cy="1194840"/>
                </a:xfrm>
              </p:grpSpPr>
              <p:sp>
                <p:nvSpPr>
                  <p:cNvPr id="132" name="Freeform 16"/>
                  <p:cNvSpPr/>
                  <p:nvPr/>
                </p:nvSpPr>
                <p:spPr>
                  <a:xfrm flipV="1">
                    <a:off x="3243600" y="265428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Freeform 17"/>
                  <p:cNvSpPr/>
                  <p:nvPr/>
                </p:nvSpPr>
                <p:spPr>
                  <a:xfrm flipH="1" flipV="1">
                    <a:off x="3906720" y="268308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" name="Group 18"/>
                <p:cNvGrpSpPr/>
                <p:nvPr/>
              </p:nvGrpSpPr>
              <p:grpSpPr>
                <a:xfrm>
                  <a:off x="4681800" y="1517040"/>
                  <a:ext cx="1437120" cy="1194840"/>
                  <a:chOff x="4681800" y="1517040"/>
                  <a:chExt cx="1437120" cy="1194840"/>
                </a:xfrm>
              </p:grpSpPr>
              <p:sp>
                <p:nvSpPr>
                  <p:cNvPr id="135" name="Freeform 19"/>
                  <p:cNvSpPr/>
                  <p:nvPr/>
                </p:nvSpPr>
                <p:spPr>
                  <a:xfrm>
                    <a:off x="4681800" y="151704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Freeform 20"/>
                  <p:cNvSpPr/>
                  <p:nvPr/>
                </p:nvSpPr>
                <p:spPr>
                  <a:xfrm flipH="1">
                    <a:off x="5344920" y="151704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21"/>
                <p:cNvGrpSpPr/>
                <p:nvPr/>
              </p:nvGrpSpPr>
              <p:grpSpPr>
                <a:xfrm>
                  <a:off x="6119640" y="2654640"/>
                  <a:ext cx="1436400" cy="1194840"/>
                  <a:chOff x="6119640" y="2654640"/>
                  <a:chExt cx="1436400" cy="1194840"/>
                </a:xfrm>
              </p:grpSpPr>
              <p:sp>
                <p:nvSpPr>
                  <p:cNvPr id="138" name="Freeform 22"/>
                  <p:cNvSpPr/>
                  <p:nvPr/>
                </p:nvSpPr>
                <p:spPr>
                  <a:xfrm flipV="1">
                    <a:off x="6119640" y="2654280"/>
                    <a:ext cx="77364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Freeform 23"/>
                  <p:cNvSpPr/>
                  <p:nvPr/>
                </p:nvSpPr>
                <p:spPr>
                  <a:xfrm flipH="1" flipV="1">
                    <a:off x="6782040" y="2683080"/>
                    <a:ext cx="77364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Group 24"/>
                <p:cNvGrpSpPr/>
                <p:nvPr/>
              </p:nvGrpSpPr>
              <p:grpSpPr>
                <a:xfrm>
                  <a:off x="1806480" y="1517040"/>
                  <a:ext cx="1436400" cy="1194840"/>
                  <a:chOff x="1806480" y="1517040"/>
                  <a:chExt cx="1436400" cy="1194840"/>
                </a:xfrm>
              </p:grpSpPr>
              <p:sp>
                <p:nvSpPr>
                  <p:cNvPr id="141" name="Freeform 25"/>
                  <p:cNvSpPr/>
                  <p:nvPr/>
                </p:nvSpPr>
                <p:spPr>
                  <a:xfrm>
                    <a:off x="1806480" y="1517040"/>
                    <a:ext cx="77364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Freeform 26"/>
                  <p:cNvSpPr/>
                  <p:nvPr/>
                </p:nvSpPr>
                <p:spPr>
                  <a:xfrm flipH="1">
                    <a:off x="2468880" y="1517040"/>
                    <a:ext cx="77364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43" name="Text Box 27"/>
          <p:cNvSpPr/>
          <p:nvPr/>
        </p:nvSpPr>
        <p:spPr>
          <a:xfrm>
            <a:off x="533520" y="41911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 period of the sine graph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533520" y="489096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So the horizontal length of each “piece” of the sine graph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0"/>
          <p:cNvSpPr/>
          <p:nvPr/>
        </p:nvSpPr>
        <p:spPr>
          <a:xfrm>
            <a:off x="533520" y="55767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 amplitude of the sine graph is…(think about the values of s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Co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cosine graph is the same as the sine graph, only it has been shifted horizontally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57200" y="32767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ame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57200" y="4572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ame ampl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2"/>
          <p:cNvSpPr/>
          <p:nvPr/>
        </p:nvSpPr>
        <p:spPr>
          <a:xfrm>
            <a:off x="1143000" y="1295280"/>
            <a:ext cx="6858000" cy="26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Co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1371600" y="1442880"/>
            <a:ext cx="6247440" cy="2290320"/>
            <a:chOff x="1371600" y="1442880"/>
            <a:chExt cx="6247440" cy="2290320"/>
          </a:xfrm>
        </p:grpSpPr>
        <p:grpSp>
          <p:nvGrpSpPr>
            <p:cNvPr id="153" name="Group 5"/>
            <p:cNvGrpSpPr/>
            <p:nvPr/>
          </p:nvGrpSpPr>
          <p:grpSpPr>
            <a:xfrm>
              <a:off x="1371600" y="1442880"/>
              <a:ext cx="6247440" cy="2290320"/>
              <a:chOff x="1371600" y="1442880"/>
              <a:chExt cx="6247440" cy="2290320"/>
            </a:xfrm>
          </p:grpSpPr>
          <p:sp>
            <p:nvSpPr>
              <p:cNvPr id="154" name="Line 6"/>
              <p:cNvSpPr/>
              <p:nvPr/>
            </p:nvSpPr>
            <p:spPr>
              <a:xfrm>
                <a:off x="4547520" y="1442880"/>
                <a:ext cx="0" cy="229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7"/>
              <p:cNvSpPr/>
              <p:nvPr/>
            </p:nvSpPr>
            <p:spPr>
              <a:xfrm>
                <a:off x="1475640" y="2588040"/>
                <a:ext cx="6143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6" name="Object 8"/>
                  <p:cNvSpPr txBox="1"/>
                  <p:nvPr/>
                </p:nvSpPr>
                <p:spPr>
                  <a:xfrm>
                    <a:off x="1371600" y="2692440"/>
                    <a:ext cx="6143400" cy="563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57" name="Line 9"/>
              <p:cNvSpPr/>
              <p:nvPr/>
            </p:nvSpPr>
            <p:spPr>
              <a:xfrm>
                <a:off x="5870880" y="2544840"/>
                <a:ext cx="0" cy="22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0"/>
              <p:cNvSpPr/>
              <p:nvPr/>
            </p:nvSpPr>
            <p:spPr>
              <a:xfrm>
                <a:off x="1766520" y="2544840"/>
                <a:ext cx="0" cy="1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11"/>
              <p:cNvSpPr/>
              <p:nvPr/>
            </p:nvSpPr>
            <p:spPr>
              <a:xfrm>
                <a:off x="3135240" y="2544840"/>
                <a:ext cx="0" cy="1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12"/>
              <p:cNvSpPr/>
              <p:nvPr/>
            </p:nvSpPr>
            <p:spPr>
              <a:xfrm>
                <a:off x="7411320" y="2544840"/>
                <a:ext cx="0" cy="1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3"/>
            <p:cNvGrpSpPr/>
            <p:nvPr/>
          </p:nvGrpSpPr>
          <p:grpSpPr>
            <a:xfrm>
              <a:off x="1683720" y="1650960"/>
              <a:ext cx="5622480" cy="1769760"/>
              <a:chOff x="1683720" y="1650960"/>
              <a:chExt cx="5622480" cy="1769760"/>
            </a:xfrm>
          </p:grpSpPr>
          <p:sp>
            <p:nvSpPr>
              <p:cNvPr id="162" name="Freeform 14"/>
              <p:cNvSpPr/>
              <p:nvPr/>
            </p:nvSpPr>
            <p:spPr>
              <a:xfrm flipV="1">
                <a:off x="2426760" y="2514240"/>
                <a:ext cx="743040" cy="9064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5"/>
              <p:cNvSpPr/>
              <p:nvPr/>
            </p:nvSpPr>
            <p:spPr>
              <a:xfrm flipH="1" flipV="1">
                <a:off x="3061800" y="2535840"/>
                <a:ext cx="743760" cy="8848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6"/>
              <p:cNvSpPr/>
              <p:nvPr/>
            </p:nvSpPr>
            <p:spPr>
              <a:xfrm>
                <a:off x="3805920" y="1650960"/>
                <a:ext cx="743040" cy="9064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7"/>
              <p:cNvSpPr/>
              <p:nvPr/>
            </p:nvSpPr>
            <p:spPr>
              <a:xfrm flipH="1">
                <a:off x="4440960" y="1650960"/>
                <a:ext cx="743040" cy="8848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8"/>
              <p:cNvSpPr/>
              <p:nvPr/>
            </p:nvSpPr>
            <p:spPr>
              <a:xfrm flipV="1">
                <a:off x="5184360" y="2514240"/>
                <a:ext cx="743040" cy="9064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9"/>
              <p:cNvSpPr/>
              <p:nvPr/>
            </p:nvSpPr>
            <p:spPr>
              <a:xfrm flipH="1" flipV="1">
                <a:off x="5819760" y="2535840"/>
                <a:ext cx="743040" cy="8848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20"/>
              <p:cNvSpPr/>
              <p:nvPr/>
            </p:nvSpPr>
            <p:spPr>
              <a:xfrm>
                <a:off x="6563160" y="1650960"/>
                <a:ext cx="743040" cy="9064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21"/>
              <p:cNvSpPr/>
              <p:nvPr/>
            </p:nvSpPr>
            <p:spPr>
              <a:xfrm flipH="1">
                <a:off x="1683720" y="1650960"/>
                <a:ext cx="743040" cy="8848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Text Box 23"/>
          <p:cNvSpPr/>
          <p:nvPr/>
        </p:nvSpPr>
        <p:spPr>
          <a:xfrm>
            <a:off x="533520" y="41911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Same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4"/>
          <p:cNvSpPr/>
          <p:nvPr/>
        </p:nvSpPr>
        <p:spPr>
          <a:xfrm>
            <a:off x="533520" y="489096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Same 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5"/>
          <p:cNvSpPr/>
          <p:nvPr/>
        </p:nvSpPr>
        <p:spPr>
          <a:xfrm>
            <a:off x="533520" y="55767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 “starting point” is still an x-value of zero, but is now a y-value of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26"/>
          <p:cNvGrpSpPr/>
          <p:nvPr/>
        </p:nvGrpSpPr>
        <p:grpSpPr>
          <a:xfrm>
            <a:off x="4572000" y="3352320"/>
            <a:ext cx="2819520" cy="305280"/>
            <a:chOff x="4572000" y="3352320"/>
            <a:chExt cx="2819520" cy="305280"/>
          </a:xfrm>
        </p:grpSpPr>
        <p:sp>
          <p:nvSpPr>
            <p:cNvPr id="174" name="Line 27"/>
            <p:cNvSpPr/>
            <p:nvPr/>
          </p:nvSpPr>
          <p:spPr>
            <a:xfrm>
              <a:off x="4572000" y="3352680"/>
              <a:ext cx="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8"/>
            <p:cNvSpPr/>
            <p:nvPr/>
          </p:nvSpPr>
          <p:spPr>
            <a:xfrm>
              <a:off x="4572000" y="3657600"/>
              <a:ext cx="2819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9"/>
            <p:cNvSpPr/>
            <p:nvPr/>
          </p:nvSpPr>
          <p:spPr>
            <a:xfrm flipV="1">
              <a:off x="7391520" y="3352320"/>
              <a:ext cx="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30"/>
          <p:cNvGrpSpPr/>
          <p:nvPr/>
        </p:nvGrpSpPr>
        <p:grpSpPr>
          <a:xfrm>
            <a:off x="5410080" y="1447920"/>
            <a:ext cx="533520" cy="1218600"/>
            <a:chOff x="5410080" y="1447920"/>
            <a:chExt cx="533520" cy="1218600"/>
          </a:xfrm>
        </p:grpSpPr>
        <p:sp>
          <p:nvSpPr>
            <p:cNvPr id="178" name="Line 31"/>
            <p:cNvSpPr/>
            <p:nvPr/>
          </p:nvSpPr>
          <p:spPr>
            <a:xfrm>
              <a:off x="5410080" y="1447920"/>
              <a:ext cx="53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2"/>
            <p:cNvSpPr/>
            <p:nvPr/>
          </p:nvSpPr>
          <p:spPr>
            <a:xfrm>
              <a:off x="5943600" y="1447920"/>
              <a:ext cx="0" cy="1218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3"/>
            <p:cNvSpPr/>
            <p:nvPr/>
          </p:nvSpPr>
          <p:spPr>
            <a:xfrm flipH="1">
              <a:off x="5410080" y="2666520"/>
              <a:ext cx="53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AutoShape 34"/>
          <p:cNvSpPr/>
          <p:nvPr/>
        </p:nvSpPr>
        <p:spPr>
          <a:xfrm>
            <a:off x="4267080" y="1447920"/>
            <a:ext cx="304920" cy="22860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0213E-006 L -0.3125 1.70213E-006 E">
                                      <p:cBhvr>
                                        <p:cTn id="87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47919E-006 L 0.15417 0.16651 E">
                                      <p:cBhvr>
                                        <p:cTn id="9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05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12858E-006 C 0.01233 0.00324 0.02465 0.0067 0.03906 0.02312 C 0.05347 0.03954 0.07812 0.08279 0.08698 0.09829 C 0.09583 0.11378 0.08351 0.09227 0.09271 0.11586 C 0.10191 0.13945 0.12604 0.22317 0.14201 0.23936 C 0.15799 0.25555 0.17118 0.24329 0.18837 0.2123 C 0.20555 0.18131 0.22396 0.09089 0.24496 0.05388 C 0.26597 0.01688 0.30278 0.000920000000000001 0.31441 -0.00972 E">
                                      <p:cBhvr>
                                        <p:cTn id="112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ine and Cosine Graph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ile the idea of a “starting point” is very helpful when graphing, it is merely an idea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se graphs have infinite domain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e have thus far only looked at library versions.  There will be transformation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23:54:27Z</dcterms:created>
  <dc:creator>John Nathan Corley</dc:creator>
  <dc:description/>
  <dc:language>en-US</dc:language>
  <cp:lastModifiedBy>LEGION</cp:lastModifiedBy>
  <dcterms:modified xsi:type="dcterms:W3CDTF">2015-09-08T11:41:22Z</dcterms:modified>
  <cp:revision>9</cp:revision>
  <dc:subject/>
  <dc:title>Advanced Math-Honors</dc:title>
</cp:coreProperties>
</file>