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jpeg" ContentType="image/jpeg"/>
  <Override PartName="/ppt/media/image22.wmf" ContentType="image/x-wmf"/>
  <Override PartName="/ppt/media/image5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9AE2-802D-4174-BAB6-7708B66961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 to browser’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slope lesson is interactive and I have students use graph paper as they follow al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formulated for the California High School Exit Exam math standa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o browser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ope lesson is interactive and I have students use graph paper as they follow a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formulated for the California High School Exit Exam math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“stairs” are all through the line and the same siz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tairs” are all through the line and the same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I make a line if the stairs aren’t the same siz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 make a line if the stairs aren’t the same siz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find the slope, use the formul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the slope, use the formu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find the slope, use the formul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the slope, use the formu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slope of the following lin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slope of the following li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slope positive or negativ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, Read from left to r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lope positive or nega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, Read from left to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y for yoursel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2 lines with the following slopes on your graph pap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t anywhere on your coordinate pla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for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2 lines with the following slopes on your graph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nywhere on your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last 2 lines had a positive slope, let’s look at slopes with negative sl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2 lines had a positive slope, let’s look at slopes with negative sl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op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o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still use rise over run, except the “stairs” are underneath the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ill use rise over run, except the “stairs” are underneath the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y for yoursel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2 lines with the following slopes on your graph pap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t anywhere on your coordinate pla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for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2 lines with the following slopes on your graph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nywhere on your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HSEE Stand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3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ph linear functions, noting that the vertical change (change in y-value) per unit of horizontal change (change in x-value) is always the same and know that the ratio (“rise over run”) is called the slope of a graph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HSEE Stand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linear functions, noting that the vertical change (change in y-value) per unit of horizontal change (change in x-value) is always the same and know that the ratio (“rise over run”) is called the slope of a graph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the slope on a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rst find where the line goes through (intersects the grid lin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a triangle and calculate the slo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slope on a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ind where the line goes through (intersects the grid l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triangle and calculate the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ide if it’s a negative or positive slo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ce the triangle on the graph pap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the CAHSEE you can write on the test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 if it’s a negative or positive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 the triangle on the graph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CAHSEE you can write on the t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the formu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se is negative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n is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e is negativ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is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it’s your tur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the slope on each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rst make points where the line intersects the gr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 calculate the slo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finish early, then also identify where the line crosses the y-ax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’s your 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slope on each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make points where the line intersects the g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calculate the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finish early, then also identify where the line crosses the y-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leased Question from CAHS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ased Question from CAH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 engineers build bridg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gineers build bridg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leased Question from CAHS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ased Question from CAH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 engineers build road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gineers build roa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we write 7% as a frac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write 7% as a fra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% as a fraction?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 than any percent is a part of 10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% as a fraction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han any percent is a part of 1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rade of a road is the same as slo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 is the pictur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 fe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 fe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de of a road is the same as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pic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lope measures the “rise” and “run” of the stairs beneath or above the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measures the “rise” and “run” of the stairs beneath or above the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0498-2B23-482B-9031-145D703E9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24D4-1DB0-4E73-AC21-5EBC07C9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9E7B-EE84-4C37-99EE-BCF3399AD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085A-0864-4A0E-922F-42008BFC6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7358C-3408-45F2-914B-E77C631A3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0D39F-A9A8-4519-96E7-F8B917DC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28A89-53C2-44B0-96F9-3C56CCFE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721C7-5300-4046-AF5F-1EE216C1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98D27-AD41-480A-9A8F-087284B6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5004F-037F-4307-AE49-A62981E7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0172C-F468-47DA-89ED-71AE8AB3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0FF9-C31A-4A64-8E5C-D171CD33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558EC-6663-491E-B4A8-2A1C74F7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E9D92-B543-44B2-A906-9580F978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8E22D-A3AE-46CE-A477-C410FC8B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0A2D7-515D-4D56-B464-9D5AAEDBC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B47CF-2ADE-4221-9398-04472B52D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6BA2-F73A-4B37-80A9-7A07AAA7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0CF6-7F30-4DE6-9DE8-D42B2C8B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48DC-88F9-46DE-9F8F-B72821A9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ECFE-27A4-43EF-96E7-195C5FFE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B818-9A39-4A47-8F45-268FE346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10AF-9774-4880-B375-DAB00EBD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AB5A-E4D5-43F8-9ABA-2B17E616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7AFE-C016-48BD-8A37-DB84B4BBB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9187-2B4A-4FA2-94F9-76452CDC75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o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 to browser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lope lesson is interactive and I have students use graph paper as they follow al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formulated for the California High School Exit Exam math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“stairs” are all through the line and the same siz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 flipV="1">
            <a:off x="1447920" y="2133360"/>
            <a:ext cx="4419360" cy="43434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 rot="5400000">
            <a:off x="3657600" y="3429000"/>
            <a:ext cx="914400" cy="91440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8"/>
          <p:cNvSpPr/>
          <p:nvPr/>
        </p:nvSpPr>
        <p:spPr>
          <a:xfrm rot="5400000">
            <a:off x="2743200" y="4343400"/>
            <a:ext cx="914400" cy="914400"/>
          </a:xfrm>
          <a:prstGeom prst="rtTriangl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9"/>
          <p:cNvSpPr/>
          <p:nvPr/>
        </p:nvSpPr>
        <p:spPr>
          <a:xfrm rot="5400000">
            <a:off x="4572000" y="2514600"/>
            <a:ext cx="914400" cy="914400"/>
          </a:xfrm>
          <a:prstGeom prst="rtTriangl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10"/>
          <p:cNvSpPr/>
          <p:nvPr/>
        </p:nvSpPr>
        <p:spPr>
          <a:xfrm rot="5400000">
            <a:off x="1828800" y="5257800"/>
            <a:ext cx="914400" cy="9144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I make a line if the stairs aren’t the same siz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4"/>
          <p:cNvSpPr/>
          <p:nvPr/>
        </p:nvSpPr>
        <p:spPr>
          <a:xfrm flipV="1">
            <a:off x="1447920" y="2133360"/>
            <a:ext cx="4419360" cy="43434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5"/>
          <p:cNvSpPr/>
          <p:nvPr/>
        </p:nvSpPr>
        <p:spPr>
          <a:xfrm rot="5400000">
            <a:off x="3657600" y="3429000"/>
            <a:ext cx="914400" cy="91440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6"/>
          <p:cNvSpPr/>
          <p:nvPr/>
        </p:nvSpPr>
        <p:spPr>
          <a:xfrm rot="5400000">
            <a:off x="2286000" y="3962520"/>
            <a:ext cx="914400" cy="1676160"/>
          </a:xfrm>
          <a:prstGeom prst="rtTriangl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 rot="5400000">
            <a:off x="6781320" y="3047760"/>
            <a:ext cx="914400" cy="1676520"/>
          </a:xfrm>
          <a:prstGeom prst="rtTriangl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0"/>
          <p:cNvSpPr/>
          <p:nvPr/>
        </p:nvSpPr>
        <p:spPr>
          <a:xfrm rot="5400000">
            <a:off x="5104800" y="3962160"/>
            <a:ext cx="914400" cy="1676520"/>
          </a:xfrm>
          <a:prstGeom prst="rtTriangl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1"/>
          <p:cNvSpPr/>
          <p:nvPr/>
        </p:nvSpPr>
        <p:spPr>
          <a:xfrm flipV="1">
            <a:off x="3733920" y="2971800"/>
            <a:ext cx="5181480" cy="2819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find the slope, use the formu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4"/>
          <p:cNvSpPr/>
          <p:nvPr/>
        </p:nvSpPr>
        <p:spPr>
          <a:xfrm flipV="1">
            <a:off x="4800600" y="2743200"/>
            <a:ext cx="236232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5"/>
          <p:cNvSpPr/>
          <p:nvPr/>
        </p:nvSpPr>
        <p:spPr>
          <a:xfrm rot="5400000">
            <a:off x="5486400" y="3429000"/>
            <a:ext cx="914400" cy="91440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105520" y="3733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5791320" y="28954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Object 8"/>
          <p:cNvGraphicFramePr/>
          <p:nvPr/>
        </p:nvGraphicFramePr>
        <p:xfrm>
          <a:off x="228600" y="2819520"/>
          <a:ext cx="2590920" cy="178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819520"/>
                    <a:ext cx="2590920" cy="17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find the slope, use the formu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4"/>
          <p:cNvSpPr/>
          <p:nvPr/>
        </p:nvSpPr>
        <p:spPr>
          <a:xfrm flipV="1">
            <a:off x="4800600" y="2743200"/>
            <a:ext cx="236232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5"/>
          <p:cNvSpPr/>
          <p:nvPr/>
        </p:nvSpPr>
        <p:spPr>
          <a:xfrm rot="5400000">
            <a:off x="5486400" y="3429000"/>
            <a:ext cx="914400" cy="91440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5105520" y="3733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5791320" y="28954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Object 8"/>
          <p:cNvGraphicFramePr/>
          <p:nvPr/>
        </p:nvGraphicFramePr>
        <p:xfrm>
          <a:off x="1066680" y="2895480"/>
          <a:ext cx="2590920" cy="16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95480"/>
                    <a:ext cx="259092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the slope of the following lin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Object 21"/>
          <p:cNvGraphicFramePr/>
          <p:nvPr/>
        </p:nvGraphicFramePr>
        <p:xfrm>
          <a:off x="5867280" y="4114800"/>
          <a:ext cx="117324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114800"/>
                    <a:ext cx="117324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Line 5"/>
          <p:cNvSpPr/>
          <p:nvPr/>
        </p:nvSpPr>
        <p:spPr>
          <a:xfrm flipV="1">
            <a:off x="990720" y="2666520"/>
            <a:ext cx="2971800" cy="1676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7"/>
          <p:cNvSpPr/>
          <p:nvPr/>
        </p:nvSpPr>
        <p:spPr>
          <a:xfrm flipV="1">
            <a:off x="4648320" y="2590560"/>
            <a:ext cx="1676160" cy="25146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 rot="5400000">
            <a:off x="2095200" y="2857320"/>
            <a:ext cx="762120" cy="129528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1203480" y="3352680"/>
            <a:ext cx="3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2133720" y="2666880"/>
            <a:ext cx="3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609480" y="2438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4495680" y="2514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15"/>
          <p:cNvSpPr/>
          <p:nvPr/>
        </p:nvSpPr>
        <p:spPr>
          <a:xfrm rot="5400000">
            <a:off x="4800240" y="3581280"/>
            <a:ext cx="1219320" cy="76212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5257800" y="2819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4572000" y="3809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1" name="Object 20"/>
          <p:cNvGraphicFramePr/>
          <p:nvPr/>
        </p:nvGraphicFramePr>
        <p:xfrm>
          <a:off x="6858000" y="2666880"/>
          <a:ext cx="1905120" cy="131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2666880"/>
                    <a:ext cx="1905120" cy="13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23"/>
          <p:cNvGraphicFramePr/>
          <p:nvPr/>
        </p:nvGraphicFramePr>
        <p:xfrm>
          <a:off x="2630520" y="3886200"/>
          <a:ext cx="985680" cy="92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30520" y="3886200"/>
                    <a:ext cx="98568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slope positive or negativ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4"/>
          <p:cNvSpPr/>
          <p:nvPr/>
        </p:nvSpPr>
        <p:spPr>
          <a:xfrm flipV="1">
            <a:off x="2895480" y="2819520"/>
            <a:ext cx="335304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9" descr="MCj03974460000[1]"/>
          <p:cNvPicPr/>
          <p:nvPr/>
        </p:nvPicPr>
        <p:blipFill>
          <a:blip r:embed="rId1"/>
          <a:stretch/>
        </p:blipFill>
        <p:spPr>
          <a:xfrm>
            <a:off x="2133720" y="3124080"/>
            <a:ext cx="1827000" cy="183996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2"/>
          <p:cNvSpPr/>
          <p:nvPr/>
        </p:nvSpPr>
        <p:spPr>
          <a:xfrm>
            <a:off x="5257800" y="4191120"/>
            <a:ext cx="2743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itive, Read from left to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y for yoursel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2 lines with the following slopes on your graph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anywhere on your coordinate pl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1676520" y="3048120"/>
          <a:ext cx="127620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8120"/>
                    <a:ext cx="127620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7"/>
          <p:cNvGraphicFramePr/>
          <p:nvPr/>
        </p:nvGraphicFramePr>
        <p:xfrm>
          <a:off x="5105520" y="3048120"/>
          <a:ext cx="1276200" cy="119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3048120"/>
                    <a:ext cx="127620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457200" y="1828800"/>
          <a:ext cx="5715000" cy="4145040"/>
        </p:xfrm>
        <a:graphic>
          <a:graphicData uri="http://schemas.openxmlformats.org/drawingml/2006/table">
            <a:tbl>
              <a:tblPr/>
              <a:tblGrid>
                <a:gridCol w="714240"/>
                <a:gridCol w="714600"/>
                <a:gridCol w="714240"/>
                <a:gridCol w="714600"/>
                <a:gridCol w="714240"/>
                <a:gridCol w="714240"/>
                <a:gridCol w="714600"/>
                <a:gridCol w="714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17" name="Group 100"/>
          <p:cNvGrpSpPr/>
          <p:nvPr/>
        </p:nvGrpSpPr>
        <p:grpSpPr>
          <a:xfrm>
            <a:off x="457200" y="1828800"/>
            <a:ext cx="5715000" cy="4191120"/>
            <a:chOff x="457200" y="1828800"/>
            <a:chExt cx="5715000" cy="4191120"/>
          </a:xfrm>
        </p:grpSpPr>
        <p:sp>
          <p:nvSpPr>
            <p:cNvPr id="218" name="Line 97"/>
            <p:cNvSpPr/>
            <p:nvPr/>
          </p:nvSpPr>
          <p:spPr>
            <a:xfrm>
              <a:off x="3352680" y="182880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98"/>
            <p:cNvSpPr/>
            <p:nvPr/>
          </p:nvSpPr>
          <p:spPr>
            <a:xfrm>
              <a:off x="457200" y="3886200"/>
              <a:ext cx="5715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AutoShape 99"/>
          <p:cNvSpPr/>
          <p:nvPr/>
        </p:nvSpPr>
        <p:spPr>
          <a:xfrm rot="5400000">
            <a:off x="2323440" y="2933640"/>
            <a:ext cx="609840" cy="1447560"/>
          </a:xfrm>
          <a:prstGeom prst="rtTriangle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101"/>
          <p:cNvSpPr/>
          <p:nvPr/>
        </p:nvSpPr>
        <p:spPr>
          <a:xfrm flipV="1">
            <a:off x="1143000" y="2742840"/>
            <a:ext cx="3809880" cy="152388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2" name="Object 103"/>
          <p:cNvGraphicFramePr/>
          <p:nvPr/>
        </p:nvGraphicFramePr>
        <p:xfrm>
          <a:off x="6858000" y="2533680"/>
          <a:ext cx="1523880" cy="14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10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533680"/>
                    <a:ext cx="152388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457200" y="1828800"/>
          <a:ext cx="5715000" cy="4145040"/>
        </p:xfrm>
        <a:graphic>
          <a:graphicData uri="http://schemas.openxmlformats.org/drawingml/2006/table">
            <a:tbl>
              <a:tblPr/>
              <a:tblGrid>
                <a:gridCol w="714240"/>
                <a:gridCol w="714600"/>
                <a:gridCol w="714240"/>
                <a:gridCol w="714600"/>
                <a:gridCol w="714240"/>
                <a:gridCol w="714240"/>
                <a:gridCol w="714600"/>
                <a:gridCol w="714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25" name="Group 85"/>
          <p:cNvGrpSpPr/>
          <p:nvPr/>
        </p:nvGrpSpPr>
        <p:grpSpPr>
          <a:xfrm>
            <a:off x="457200" y="1828800"/>
            <a:ext cx="5715000" cy="4191120"/>
            <a:chOff x="457200" y="1828800"/>
            <a:chExt cx="5715000" cy="4191120"/>
          </a:xfrm>
        </p:grpSpPr>
        <p:sp>
          <p:nvSpPr>
            <p:cNvPr id="226" name="Line 86"/>
            <p:cNvSpPr/>
            <p:nvPr/>
          </p:nvSpPr>
          <p:spPr>
            <a:xfrm>
              <a:off x="3352680" y="182880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87"/>
            <p:cNvSpPr/>
            <p:nvPr/>
          </p:nvSpPr>
          <p:spPr>
            <a:xfrm>
              <a:off x="457200" y="3886200"/>
              <a:ext cx="5715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AutoShape 88"/>
          <p:cNvSpPr/>
          <p:nvPr/>
        </p:nvSpPr>
        <p:spPr>
          <a:xfrm rot="5400000">
            <a:off x="2514240" y="1752480"/>
            <a:ext cx="1600200" cy="2819160"/>
          </a:xfrm>
          <a:prstGeom prst="rtTriangle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89"/>
          <p:cNvSpPr/>
          <p:nvPr/>
        </p:nvSpPr>
        <p:spPr>
          <a:xfrm flipV="1">
            <a:off x="1219320" y="2133720"/>
            <a:ext cx="3962160" cy="220968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0" name="Object 90"/>
          <p:cNvGraphicFramePr/>
          <p:nvPr/>
        </p:nvGraphicFramePr>
        <p:xfrm>
          <a:off x="6858000" y="2533680"/>
          <a:ext cx="1523880" cy="14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533680"/>
                    <a:ext cx="152388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ast 2 lines had a positive slope, let’s look at slopes with negative slo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4"/>
          <p:cNvSpPr/>
          <p:nvPr/>
        </p:nvSpPr>
        <p:spPr>
          <a:xfrm>
            <a:off x="2895480" y="3429000"/>
            <a:ext cx="396252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5" descr="MCj03974460000[1]"/>
          <p:cNvPicPr/>
          <p:nvPr/>
        </p:nvPicPr>
        <p:blipFill>
          <a:blip r:embed="rId1"/>
          <a:stretch/>
        </p:blipFill>
        <p:spPr>
          <a:xfrm rot="5124600">
            <a:off x="3358440" y="2431800"/>
            <a:ext cx="182736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Slope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still use rise over run, except the “stairs” are underneath the l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4"/>
          <p:cNvSpPr/>
          <p:nvPr/>
        </p:nvSpPr>
        <p:spPr>
          <a:xfrm>
            <a:off x="2438280" y="3048120"/>
            <a:ext cx="396252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3352680" y="3581280"/>
            <a:ext cx="1676520" cy="99072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38880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2668680" y="38098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Object 12"/>
          <p:cNvGraphicFramePr/>
          <p:nvPr/>
        </p:nvGraphicFramePr>
        <p:xfrm>
          <a:off x="6033960" y="2819520"/>
          <a:ext cx="1800360" cy="14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960" y="2819520"/>
                    <a:ext cx="180036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y for yoursel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2 lines with the following slopes on your graph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anywhere on your coordinate pl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Object 4"/>
          <p:cNvGraphicFramePr/>
          <p:nvPr/>
        </p:nvGraphicFramePr>
        <p:xfrm>
          <a:off x="1579680" y="3048120"/>
          <a:ext cx="146988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9680" y="3048120"/>
                    <a:ext cx="146988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5"/>
          <p:cNvGraphicFramePr/>
          <p:nvPr/>
        </p:nvGraphicFramePr>
        <p:xfrm>
          <a:off x="4989600" y="3048120"/>
          <a:ext cx="1508040" cy="119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89600" y="3048120"/>
                    <a:ext cx="150804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457200" y="1828800"/>
          <a:ext cx="5715000" cy="4145040"/>
        </p:xfrm>
        <a:graphic>
          <a:graphicData uri="http://schemas.openxmlformats.org/drawingml/2006/table">
            <a:tbl>
              <a:tblPr/>
              <a:tblGrid>
                <a:gridCol w="714240"/>
                <a:gridCol w="714600"/>
                <a:gridCol w="714240"/>
                <a:gridCol w="714600"/>
                <a:gridCol w="714240"/>
                <a:gridCol w="714240"/>
                <a:gridCol w="714600"/>
                <a:gridCol w="714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51" name="Group 85"/>
          <p:cNvGrpSpPr/>
          <p:nvPr/>
        </p:nvGrpSpPr>
        <p:grpSpPr>
          <a:xfrm>
            <a:off x="457200" y="1828800"/>
            <a:ext cx="5715000" cy="4191120"/>
            <a:chOff x="457200" y="1828800"/>
            <a:chExt cx="5715000" cy="4191120"/>
          </a:xfrm>
        </p:grpSpPr>
        <p:sp>
          <p:nvSpPr>
            <p:cNvPr id="252" name="Line 86"/>
            <p:cNvSpPr/>
            <p:nvPr/>
          </p:nvSpPr>
          <p:spPr>
            <a:xfrm>
              <a:off x="3352680" y="182880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87"/>
            <p:cNvSpPr/>
            <p:nvPr/>
          </p:nvSpPr>
          <p:spPr>
            <a:xfrm>
              <a:off x="457200" y="3886200"/>
              <a:ext cx="5715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4" name="AutoShape 88"/>
          <p:cNvSpPr/>
          <p:nvPr/>
        </p:nvSpPr>
        <p:spPr>
          <a:xfrm flipV="1" rot="16200000">
            <a:off x="3771360" y="2705040"/>
            <a:ext cx="533520" cy="2895480"/>
          </a:xfrm>
          <a:prstGeom prst="rtTriangle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89"/>
          <p:cNvSpPr/>
          <p:nvPr/>
        </p:nvSpPr>
        <p:spPr>
          <a:xfrm>
            <a:off x="1600200" y="3733920"/>
            <a:ext cx="4343400" cy="76176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6" name="Object 90"/>
          <p:cNvGraphicFramePr/>
          <p:nvPr/>
        </p:nvGraphicFramePr>
        <p:xfrm>
          <a:off x="6858000" y="2627280"/>
          <a:ext cx="1523880" cy="12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627280"/>
                    <a:ext cx="1523880" cy="12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457200" y="1828800"/>
          <a:ext cx="5715000" cy="4145040"/>
        </p:xfrm>
        <a:graphic>
          <a:graphicData uri="http://schemas.openxmlformats.org/drawingml/2006/table">
            <a:tbl>
              <a:tblPr/>
              <a:tblGrid>
                <a:gridCol w="714240"/>
                <a:gridCol w="714600"/>
                <a:gridCol w="714240"/>
                <a:gridCol w="714600"/>
                <a:gridCol w="714240"/>
                <a:gridCol w="714240"/>
                <a:gridCol w="714600"/>
                <a:gridCol w="714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59" name="Group 85"/>
          <p:cNvGrpSpPr/>
          <p:nvPr/>
        </p:nvGrpSpPr>
        <p:grpSpPr>
          <a:xfrm>
            <a:off x="457200" y="1828800"/>
            <a:ext cx="5715000" cy="4191120"/>
            <a:chOff x="457200" y="1828800"/>
            <a:chExt cx="5715000" cy="4191120"/>
          </a:xfrm>
        </p:grpSpPr>
        <p:sp>
          <p:nvSpPr>
            <p:cNvPr id="260" name="Line 86"/>
            <p:cNvSpPr/>
            <p:nvPr/>
          </p:nvSpPr>
          <p:spPr>
            <a:xfrm>
              <a:off x="3352680" y="182880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87"/>
            <p:cNvSpPr/>
            <p:nvPr/>
          </p:nvSpPr>
          <p:spPr>
            <a:xfrm>
              <a:off x="457200" y="3886200"/>
              <a:ext cx="5715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2" name="AutoShape 88"/>
          <p:cNvSpPr/>
          <p:nvPr/>
        </p:nvSpPr>
        <p:spPr>
          <a:xfrm flipV="1" rot="16200000">
            <a:off x="2018880" y="1485720"/>
            <a:ext cx="2590560" cy="4343400"/>
          </a:xfrm>
          <a:prstGeom prst="rtTriangle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89"/>
          <p:cNvSpPr/>
          <p:nvPr/>
        </p:nvSpPr>
        <p:spPr>
          <a:xfrm>
            <a:off x="685800" y="2057400"/>
            <a:ext cx="5105520" cy="304812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4" name="Object 90"/>
          <p:cNvGraphicFramePr/>
          <p:nvPr/>
        </p:nvGraphicFramePr>
        <p:xfrm>
          <a:off x="6858000" y="2643120"/>
          <a:ext cx="1523880" cy="12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643120"/>
                    <a:ext cx="152388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AHSEE Standar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914400" y="2133720"/>
            <a:ext cx="7391520" cy="27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3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ph linear functions, noting that the vertical change (change in y-value) per unit of horizontal change (change in x-value) is always the same and know that the ratio (“rise over run”) is called the slope of a graph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do you need to d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slope on a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find where the line goes through (intersects the grid lin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 a triangle and calculate the sl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57200" y="1676520"/>
          <a:ext cx="4038480" cy="461016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73" name="Group 85"/>
          <p:cNvGrpSpPr/>
          <p:nvPr/>
        </p:nvGrpSpPr>
        <p:grpSpPr>
          <a:xfrm>
            <a:off x="304920" y="1981080"/>
            <a:ext cx="4267080" cy="4191120"/>
            <a:chOff x="304920" y="1981080"/>
            <a:chExt cx="4267080" cy="4191120"/>
          </a:xfrm>
        </p:grpSpPr>
        <p:sp>
          <p:nvSpPr>
            <p:cNvPr id="274" name="Line 86"/>
            <p:cNvSpPr/>
            <p:nvPr/>
          </p:nvSpPr>
          <p:spPr>
            <a:xfrm>
              <a:off x="2466720" y="198108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304920" y="4038480"/>
              <a:ext cx="4267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Line 89"/>
          <p:cNvSpPr/>
          <p:nvPr/>
        </p:nvSpPr>
        <p:spPr>
          <a:xfrm>
            <a:off x="685800" y="2438280"/>
            <a:ext cx="3581280" cy="182880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Oval 97"/>
          <p:cNvSpPr/>
          <p:nvPr/>
        </p:nvSpPr>
        <p:spPr>
          <a:xfrm>
            <a:off x="1371600" y="2743200"/>
            <a:ext cx="15228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Oval 98"/>
          <p:cNvSpPr/>
          <p:nvPr/>
        </p:nvSpPr>
        <p:spPr>
          <a:xfrm>
            <a:off x="2438280" y="3276720"/>
            <a:ext cx="15264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do you need to d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de if it’s a negative or positive sl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e the triangle on the graph pa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e CAHSEE you can write on the tes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457200" y="1676520"/>
          <a:ext cx="4038480" cy="461016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83" name="Group 88"/>
          <p:cNvGrpSpPr/>
          <p:nvPr/>
        </p:nvGrpSpPr>
        <p:grpSpPr>
          <a:xfrm>
            <a:off x="304920" y="1981080"/>
            <a:ext cx="4267080" cy="4191120"/>
            <a:chOff x="304920" y="1981080"/>
            <a:chExt cx="4267080" cy="4191120"/>
          </a:xfrm>
        </p:grpSpPr>
        <p:sp>
          <p:nvSpPr>
            <p:cNvPr id="284" name="Line 89"/>
            <p:cNvSpPr/>
            <p:nvPr/>
          </p:nvSpPr>
          <p:spPr>
            <a:xfrm>
              <a:off x="2466720" y="198108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90"/>
            <p:cNvSpPr/>
            <p:nvPr/>
          </p:nvSpPr>
          <p:spPr>
            <a:xfrm>
              <a:off x="304920" y="4038480"/>
              <a:ext cx="4267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6" name="Line 91"/>
          <p:cNvSpPr/>
          <p:nvPr/>
        </p:nvSpPr>
        <p:spPr>
          <a:xfrm>
            <a:off x="685800" y="2438280"/>
            <a:ext cx="3581280" cy="182880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Oval 92"/>
          <p:cNvSpPr/>
          <p:nvPr/>
        </p:nvSpPr>
        <p:spPr>
          <a:xfrm>
            <a:off x="1371600" y="2743200"/>
            <a:ext cx="15228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Oval 93"/>
          <p:cNvSpPr/>
          <p:nvPr/>
        </p:nvSpPr>
        <p:spPr>
          <a:xfrm>
            <a:off x="2438280" y="3276720"/>
            <a:ext cx="15264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94"/>
          <p:cNvSpPr/>
          <p:nvPr/>
        </p:nvSpPr>
        <p:spPr>
          <a:xfrm>
            <a:off x="1447920" y="2895480"/>
            <a:ext cx="0" cy="45720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do you need to d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formu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e is negative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 is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457200" y="1676520"/>
          <a:ext cx="4038480" cy="461016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94" name="Group 88"/>
          <p:cNvGrpSpPr/>
          <p:nvPr/>
        </p:nvGrpSpPr>
        <p:grpSpPr>
          <a:xfrm>
            <a:off x="304920" y="1981080"/>
            <a:ext cx="4267080" cy="4191120"/>
            <a:chOff x="304920" y="1981080"/>
            <a:chExt cx="4267080" cy="4191120"/>
          </a:xfrm>
        </p:grpSpPr>
        <p:sp>
          <p:nvSpPr>
            <p:cNvPr id="295" name="Line 89"/>
            <p:cNvSpPr/>
            <p:nvPr/>
          </p:nvSpPr>
          <p:spPr>
            <a:xfrm>
              <a:off x="2466720" y="198108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90"/>
            <p:cNvSpPr/>
            <p:nvPr/>
          </p:nvSpPr>
          <p:spPr>
            <a:xfrm>
              <a:off x="304920" y="4038480"/>
              <a:ext cx="4267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7" name="Line 91"/>
          <p:cNvSpPr/>
          <p:nvPr/>
        </p:nvSpPr>
        <p:spPr>
          <a:xfrm>
            <a:off x="685800" y="2438280"/>
            <a:ext cx="3581280" cy="182880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Oval 92"/>
          <p:cNvSpPr/>
          <p:nvPr/>
        </p:nvSpPr>
        <p:spPr>
          <a:xfrm>
            <a:off x="1371600" y="2743200"/>
            <a:ext cx="15228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Oval 93"/>
          <p:cNvSpPr/>
          <p:nvPr/>
        </p:nvSpPr>
        <p:spPr>
          <a:xfrm>
            <a:off x="2438280" y="3276720"/>
            <a:ext cx="15264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Line 94"/>
          <p:cNvSpPr/>
          <p:nvPr/>
        </p:nvSpPr>
        <p:spPr>
          <a:xfrm>
            <a:off x="1447920" y="2895480"/>
            <a:ext cx="0" cy="45720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1" name="Object 97"/>
          <p:cNvGraphicFramePr/>
          <p:nvPr/>
        </p:nvGraphicFramePr>
        <p:xfrm>
          <a:off x="5181480" y="2133720"/>
          <a:ext cx="2057400" cy="14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9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133720"/>
                    <a:ext cx="2057400" cy="14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Line 98"/>
          <p:cNvSpPr/>
          <p:nvPr/>
        </p:nvSpPr>
        <p:spPr>
          <a:xfrm>
            <a:off x="1447920" y="3352680"/>
            <a:ext cx="1066680" cy="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4" name="Object 101"/>
          <p:cNvGraphicFramePr/>
          <p:nvPr/>
        </p:nvGraphicFramePr>
        <p:xfrm>
          <a:off x="5105520" y="4724280"/>
          <a:ext cx="1484280" cy="121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" name="Object 10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4724280"/>
                    <a:ext cx="148428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ow it’s your tur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the slope on each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make points where the line intersects the gr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calculate the sl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finish early, then also identify where the line crosses the y-ax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Released Question from CAHSE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9" name="Picture 10" descr=""/>
          <p:cNvPicPr/>
          <p:nvPr/>
        </p:nvPicPr>
        <p:blipFill>
          <a:blip r:embed="rId1">
            <a:alphaModFix amt="85000"/>
          </a:blip>
          <a:stretch/>
        </p:blipFill>
        <p:spPr>
          <a:xfrm>
            <a:off x="457200" y="2035080"/>
            <a:ext cx="4038480" cy="36244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1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403848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How do engineers build bridges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4" name="Picture 5" descr="goldengate_bridge_1"/>
          <p:cNvPicPr/>
          <p:nvPr/>
        </p:nvPicPr>
        <p:blipFill>
          <a:blip r:embed="rId1"/>
          <a:stretch/>
        </p:blipFill>
        <p:spPr>
          <a:xfrm>
            <a:off x="2057400" y="2176560"/>
            <a:ext cx="464832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Released Question from CAHSE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038480" cy="3422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13" name="Line 6"/>
          <p:cNvSpPr/>
          <p:nvPr/>
        </p:nvSpPr>
        <p:spPr>
          <a:xfrm flipV="1">
            <a:off x="2514600" y="41907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2">
            <a:alphaModFix amt="85000"/>
          </a:blip>
          <a:stretch/>
        </p:blipFill>
        <p:spPr>
          <a:xfrm>
            <a:off x="457200" y="2035080"/>
            <a:ext cx="4038480" cy="3624480"/>
          </a:xfrm>
          <a:prstGeom prst="rect">
            <a:avLst/>
          </a:prstGeom>
          <a:ln w="381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civil_engi picture"/>
          <p:cNvPicPr/>
          <p:nvPr/>
        </p:nvPicPr>
        <p:blipFill>
          <a:blip r:embed="rId1"/>
          <a:stretch/>
        </p:blipFill>
        <p:spPr>
          <a:xfrm>
            <a:off x="1905120" y="901800"/>
            <a:ext cx="563868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do engineers build roads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7" name="Picture 5" descr="grade sign"/>
          <p:cNvPicPr/>
          <p:nvPr/>
        </p:nvPicPr>
        <p:blipFill>
          <a:blip r:embed="rId1"/>
          <a:stretch/>
        </p:blipFill>
        <p:spPr>
          <a:xfrm>
            <a:off x="1574640" y="1600200"/>
            <a:ext cx="520704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How can we write 7% as a fraction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9" name="Picture 5" descr="bicycle grade sign"/>
          <p:cNvPicPr/>
          <p:nvPr/>
        </p:nvPicPr>
        <p:blipFill>
          <a:blip r:embed="rId1"/>
          <a:stretch/>
        </p:blipFill>
        <p:spPr>
          <a:xfrm>
            <a:off x="2362320" y="2190600"/>
            <a:ext cx="37335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7% as a fraction?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than any percent is a part of 10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2743200" y="2514600"/>
          <a:ext cx="2755800" cy="17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14600"/>
                    <a:ext cx="275580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he grade of a road is the same as slop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 is the pictu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1828800" y="3581280"/>
            <a:ext cx="6324480" cy="76212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68580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 f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276720" y="46483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 f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7" descr="j0212957"/>
          <p:cNvPicPr/>
          <p:nvPr/>
        </p:nvPicPr>
        <p:blipFill>
          <a:blip r:embed="rId1"/>
          <a:stretch/>
        </p:blipFill>
        <p:spPr>
          <a:xfrm rot="451800">
            <a:off x="6248160" y="3048120"/>
            <a:ext cx="1830240" cy="11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 0.00509 L -0.525 -0.07268 E">
                                      <p:cBhvr>
                                        <p:cTn id="16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lope measures the “rise” and “run” of the stairs beneath or above the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4"/>
          <p:cNvSpPr/>
          <p:nvPr/>
        </p:nvSpPr>
        <p:spPr>
          <a:xfrm flipV="1">
            <a:off x="2895480" y="2819520"/>
            <a:ext cx="236232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 rot="5400000">
            <a:off x="3657600" y="3429000"/>
            <a:ext cx="914400" cy="91440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048120" y="3733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962520" y="28195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23:36:47Z</dcterms:created>
  <dc:creator>lnussdor</dc:creator>
  <dc:description/>
  <dc:language>en-US</dc:language>
  <cp:lastModifiedBy>RomaK</cp:lastModifiedBy>
  <dcterms:modified xsi:type="dcterms:W3CDTF">2015-09-04T09:21:15Z</dcterms:modified>
  <cp:revision>17</cp:revision>
  <dc:subject/>
  <dc:title>Slope &amp; Y-intercept</dc:title>
</cp:coreProperties>
</file>