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41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4120" y="873252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FF7B-5405-4A30-BEC4-CFF5AA4C21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basically describes the steepness of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goes up from left to right, then the slope has to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ely, if a line goes down from left to right, then the slope has to b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line is in the form Ax + By = C, we can use the following formula to find the slo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84480" y="873288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3440" y="4367160"/>
            <a:ext cx="5628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lines have a slope of zero while vertical lines have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no s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274-0B7E-4D65-AAB9-5D3F3B1E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D29-A0D0-427C-9AA7-A974FFD1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0A5-B648-4779-BBA2-EB7A7580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896-6579-47B9-A67D-D98E14D8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D75-A623-4210-B159-54F63003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2FF-CB4C-4404-AD10-3EF78A55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FC1-9127-42BE-837E-1BEF39F4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B3F-3E68-48DC-B56B-9B34DFEA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774-DBA3-47E0-9912-FA19B54C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9FF-0B96-4799-ADB7-0A619A44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F68-8F5B-4939-933B-B904311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549-850E-4052-BA25-BD80D838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C2C3-9FB4-4140-9654-379524D8B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3880" y="7621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lope of a L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2666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lope basically describes the steepness of a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00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u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3962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versely, if a line goes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rom left to right, then the slope has to be 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52480" y="457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finitions of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1219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lope is simply the change in the vertical distance over the change in the horizontal d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1360" y="3809880"/>
            <a:ext cx="880128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723960" y="3809880"/>
                <a:ext cx="7696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4720" y="380880"/>
            <a:ext cx="2971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125880" y="380880"/>
                <a:ext cx="28922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4"/>
          <p:cNvSpPr/>
          <p:nvPr/>
        </p:nvSpPr>
        <p:spPr>
          <a:xfrm>
            <a:off x="0" y="2514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ormula above is the one which we will use to find the slope of specific 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4419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use that formula we need to know, or be able to find 2 points on the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a line is in the form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x + By = 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we can use the following formula to find the slop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05320" y="2666880"/>
            <a:ext cx="213336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81280" y="2714760"/>
                <a:ext cx="19814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1295280"/>
            <a:ext cx="40384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80880" y="1371600"/>
                <a:ext cx="3895920" cy="52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,4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,6</m:t>
                            </m:r>
                          </m:e>
                        </m:d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4876920" y="1295280"/>
                <a:ext cx="3581280" cy="301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576520" y="236232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236232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3"/>
          <p:cNvSpPr/>
          <p:nvPr/>
        </p:nvSpPr>
        <p:spPr>
          <a:xfrm>
            <a:off x="343080" y="228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rizontal lines have a slope of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er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while vertical lines hav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 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2743200" y="3048120"/>
            <a:ext cx="358128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886200" y="2590920"/>
            <a:ext cx="0" cy="350496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0384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28600" y="4038480"/>
            <a:ext cx="2057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572000" y="3108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038480" y="4648320"/>
            <a:ext cx="1600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 = no sl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9:31:45Z</dcterms:created>
  <dc:creator>Chester Area School</dc:creator>
  <dc:description/>
  <dc:language>en-US</dc:language>
  <cp:lastModifiedBy>RomaK</cp:lastModifiedBy>
  <dcterms:modified xsi:type="dcterms:W3CDTF">2015-09-04T09:21:22Z</dcterms:modified>
  <cp:revision>18</cp:revision>
  <dc:subject/>
  <dc:title>PowerPoint Presentation</dc:title>
</cp:coreProperties>
</file>