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84120" y="-3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252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84120" y="873252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5EC3-82AF-4F7E-8872-F133AEBE71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basically describes the steepness of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basically describes the steepness of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line goes up from left to right, then the slope has to be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ely, if a line goes down from left to right, then the slope has to be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line goes up from left to right, then the slope has to be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ely, if a line goes down from left to right, then the slope has to be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 of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is simply the change in the vertical distance over the change in the horizontal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 of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is simply the change in the vertical distance over the change in the horizontal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ula above is the one which we will use to find the slope of specific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use that formula we need to know, or be able to find 2 points on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ula above is the one which we will use to find the slope of specific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use that formula we need to know, or be able to find 2 points on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line is in the form Ax + By = C, we can use the following formula to find the slop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line is in the form Ax + By = C, we can use the following formula to find the slop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 lines have a slope of zero while vertical lines have no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no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 lines have a slope of zero while vertical lines have no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no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C94F-187E-41E1-8898-284D28E7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616D-94C9-4A9C-9117-0490D37B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5D8D-C5C4-4C4C-A737-50A121366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0303-3EFE-4659-835F-38D983E82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5F0A-284A-4BF3-A105-676F7073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AED5-800F-42C6-BB82-9C2CE0FB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D9A3-B676-4C3B-855F-748C89E3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359A-CFB9-47D1-A724-5A0C469F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47B4-55D1-4B96-890D-9A44A851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A426-3B92-4DF8-81C5-4150C232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609F-765E-4460-92BF-37BC6301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6B9D-FD4D-4CAB-95CE-F8F1F338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5AF1-1511-4F21-948B-EBFEEF509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523880" y="76212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lope of a Li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2666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lope basically describes the steepness of a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6002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f a line goes 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up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from left to right, then the slope has to be 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posi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39625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versely, if a line goes 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dow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from left to right, then the slope has to be 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nega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752480" y="45720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efinitions of Sl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0" y="12193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lope is simply the change in the vertical distance over the change in the horizontal dist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71360" y="3809880"/>
            <a:ext cx="880128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5"/>
              <p:cNvSpPr txBox="1"/>
              <p:nvPr/>
            </p:nvSpPr>
            <p:spPr>
              <a:xfrm>
                <a:off x="723960" y="3809880"/>
                <a:ext cx="769608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lope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i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u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14720" y="380880"/>
            <a:ext cx="297180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3125880" y="380880"/>
                <a:ext cx="289224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Text Box 4"/>
          <p:cNvSpPr/>
          <p:nvPr/>
        </p:nvSpPr>
        <p:spPr>
          <a:xfrm>
            <a:off x="0" y="2514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formula above is the one which we will use to find the slope of specific l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0" y="44197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order to use that formula we need to know, or be able to find 2 points on the 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0" y="3808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f a line is in the form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x + By = C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, we can use the following formula to find the slop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505320" y="2666880"/>
            <a:ext cx="2133360" cy="1600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3581280" y="2714760"/>
                <a:ext cx="198144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286000" y="3049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04920" y="1295280"/>
            <a:ext cx="4038480" cy="5334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4800600" y="1295280"/>
            <a:ext cx="4038480" cy="5334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6"/>
              <p:cNvSpPr txBox="1"/>
              <p:nvPr/>
            </p:nvSpPr>
            <p:spPr>
              <a:xfrm>
                <a:off x="380880" y="1371600"/>
                <a:ext cx="3895920" cy="527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,4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,6</m:t>
                            </m:r>
                          </m:e>
                        </m:d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7"/>
              <p:cNvSpPr txBox="1"/>
              <p:nvPr/>
            </p:nvSpPr>
            <p:spPr>
              <a:xfrm>
                <a:off x="4876920" y="1295280"/>
                <a:ext cx="3581280" cy="301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2576520" y="2362320"/>
          <a:ext cx="3989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6520" y="2362320"/>
                    <a:ext cx="3989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Text Box 3"/>
          <p:cNvSpPr/>
          <p:nvPr/>
        </p:nvSpPr>
        <p:spPr>
          <a:xfrm>
            <a:off x="343080" y="2286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rizontal lines have a slope of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zero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while vertical lines have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o sl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4"/>
          <p:cNvSpPr/>
          <p:nvPr/>
        </p:nvSpPr>
        <p:spPr>
          <a:xfrm>
            <a:off x="2743200" y="3048120"/>
            <a:ext cx="3581280" cy="0"/>
          </a:xfrm>
          <a:prstGeom prst="line">
            <a:avLst/>
          </a:prstGeom>
          <a:ln w="381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7"/>
          <p:cNvSpPr/>
          <p:nvPr/>
        </p:nvSpPr>
        <p:spPr>
          <a:xfrm>
            <a:off x="3886200" y="2590920"/>
            <a:ext cx="0" cy="350496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6781680" y="4038480"/>
            <a:ext cx="2133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Horizon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228600" y="4038480"/>
            <a:ext cx="20574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Vertic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572000" y="310824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 =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038480" y="4648320"/>
            <a:ext cx="1600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m = no slo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4T19:31:45Z</dcterms:created>
  <dc:creator>Chester Area School</dc:creator>
  <dc:description/>
  <dc:language>en-US</dc:language>
  <cp:lastModifiedBy>RomaK</cp:lastModifiedBy>
  <dcterms:modified xsi:type="dcterms:W3CDTF">2015-09-04T09:21:22Z</dcterms:modified>
  <cp:revision>18</cp:revision>
  <dc:subject/>
  <dc:title>PowerPoint Presentation</dc:title>
</cp:coreProperties>
</file>