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41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412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7D21-DBDD-466B-A4D1-CDDBEA67D1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BE4-ACF4-4C13-A643-CD9CD071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D14-9A28-4D09-A46F-5EEC0707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6B8-77EA-4889-88CF-60BC4145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4AD-DCD1-4DDE-93F3-5B3CF4F4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F6F-8E63-4D93-81FC-02469DF0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9C2-80FC-43C7-B7DD-3E3A356B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1CA-3ADD-4D13-BD57-57C26B36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3C4-EB34-4F3B-B6DF-04C8493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E1C-C545-4499-AA5E-F655D815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A5B-6EF3-4850-808F-2EF8E02B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EC2-87A8-46A1-93BA-8593B476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A95-579E-4338-9566-0DBD14D1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6C9E-F71B-4E8F-81A3-CF184F07A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3880" y="7621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lope of a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666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ope basically describes the steepness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u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962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ely, 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457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finitions of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1360" y="3809880"/>
            <a:ext cx="880128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723960" y="3809880"/>
                <a:ext cx="769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4720" y="380880"/>
            <a:ext cx="2971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125880" y="380880"/>
                <a:ext cx="2892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4"/>
          <p:cNvSpPr/>
          <p:nvPr/>
        </p:nvSpPr>
        <p:spPr>
          <a:xfrm>
            <a:off x="0" y="2514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is in the for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x + By = 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we can use the following formula to find the slop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05320" y="2666880"/>
            <a:ext cx="213336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2714760"/>
                <a:ext cx="1981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80880" y="1371600"/>
                <a:ext cx="3895920" cy="52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,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,6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876920" y="1295280"/>
                <a:ext cx="3581280" cy="30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576520" y="236232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236232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4308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rizontal lines have a slope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er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ile vertical lines hav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43200" y="3048120"/>
            <a:ext cx="35812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886200" y="2590920"/>
            <a:ext cx="0" cy="3504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0384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28600" y="403848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3108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038480" y="4648320"/>
            <a:ext cx="1600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 = no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9:31:45Z</dcterms:created>
  <dc:creator>Chester Area School</dc:creator>
  <dc:description/>
  <dc:language>en-US</dc:language>
  <cp:lastModifiedBy>RomaK</cp:lastModifiedBy>
  <dcterms:modified xsi:type="dcterms:W3CDTF">2015-09-04T09:21:22Z</dcterms:modified>
  <cp:revision>18</cp:revision>
  <dc:subject/>
  <dc:title>PowerPoint Presentation</dc:title>
</cp:coreProperties>
</file>