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41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412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AEC0-3C1B-4CAB-8E74-0A62C77423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BC0-6529-49A1-9C8A-CC545CA4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1AD-CEBE-4ECA-891A-DB0EAB51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10F-31E3-4140-B0BB-5CDEC339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3D1-4429-445F-B52B-D2785A49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665-7799-4232-A3A1-3A95CF09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2BF-8E4B-4E32-91F0-72A877F0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2DF-147D-4B5E-8347-AC5AD839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75B-0273-42B2-A0A2-93B0A2C7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FBA-C078-4EDE-B2B0-BDFDBC9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43C-5777-4C73-8845-BFF54A6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071-147C-43A7-9B61-2F3C1B28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C0C-02F8-4270-AE7F-1A339D55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AD28-0DBB-45A3-B899-400DF39B4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3880" y="7621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lope of a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666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ope basically describes the steepness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u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ely, 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457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tions of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1360" y="3809880"/>
            <a:ext cx="880128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723960" y="3809880"/>
                <a:ext cx="769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4720" y="380880"/>
            <a:ext cx="2971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25880" y="380880"/>
                <a:ext cx="2892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is in the for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x + By = 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we can use the following formula to find the slop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05320" y="2666880"/>
            <a:ext cx="21333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2714760"/>
                <a:ext cx="1981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80880" y="1371600"/>
                <a:ext cx="3895920" cy="52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,6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876920" y="1295280"/>
                <a:ext cx="3581280" cy="30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576520" y="236232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236232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4308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rizontal lines have a slope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er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ile vertical lines hav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43200" y="3048120"/>
            <a:ext cx="35812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886200" y="2590920"/>
            <a:ext cx="0" cy="3504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0384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28600" y="40384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3108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038480" y="4648320"/>
            <a:ext cx="1600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 = no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31:45Z</dcterms:created>
  <dc:creator>Chester Area School</dc:creator>
  <dc:description/>
  <dc:language>en-US</dc:language>
  <cp:lastModifiedBy>RomaK</cp:lastModifiedBy>
  <dcterms:modified xsi:type="dcterms:W3CDTF">2015-09-04T09:21:22Z</dcterms:modified>
  <cp:revision>18</cp:revision>
  <dc:subject/>
  <dc:title>PowerPoint Presentation</dc:title>
</cp:coreProperties>
</file>