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41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412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C3F9-51F5-462C-AF3D-83F22ECF57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998-4ABD-4084-9699-C0B87F7C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FDF-FEA0-4D09-895F-0ACF6B0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22C-C147-4DB6-ADAF-7561E83C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2FE-6C98-4F46-99A4-8E4360B3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1D0-FB37-40BE-8781-47136544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F11-B086-468D-8F1D-30FDA643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76C-BE51-4B56-84CA-6F9507C0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6C9-8F3E-4FA0-949E-56F69C5C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D87-7440-4D45-BF9A-36CA0B42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E97-B8A4-45C3-B082-697B8F60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6B6-90F3-4486-ABBB-1FDC16F6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8EC-33DD-4962-AE54-35D7327C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5C3D-CBC4-47B3-BC02-35B85BCEB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3880" y="7621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lope of a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2666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lope basically describes the steepness of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00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u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3962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ely, 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52480" y="457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finitions of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1360" y="3809880"/>
            <a:ext cx="880128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723960" y="3809880"/>
                <a:ext cx="7696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4720" y="380880"/>
            <a:ext cx="2971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125880" y="380880"/>
                <a:ext cx="28922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4"/>
          <p:cNvSpPr/>
          <p:nvPr/>
        </p:nvSpPr>
        <p:spPr>
          <a:xfrm>
            <a:off x="0" y="2514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4419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is in the for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x + By = 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we can use the following formula to find the slop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05320" y="2666880"/>
            <a:ext cx="213336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81280" y="2714760"/>
                <a:ext cx="1981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80880" y="1371600"/>
                <a:ext cx="3895920" cy="52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,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,6</m:t>
                            </m:r>
                          </m:e>
                        </m:d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4876920" y="1295280"/>
                <a:ext cx="3581280" cy="30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576520" y="236232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236232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43080" y="228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rizontal lines have a slope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er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ile vertical lines hav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43200" y="3048120"/>
            <a:ext cx="35812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886200" y="2590920"/>
            <a:ext cx="0" cy="3504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0384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28600" y="403848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72000" y="3108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038480" y="4648320"/>
            <a:ext cx="1600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 = no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9:31:45Z</dcterms:created>
  <dc:creator>Chester Area School</dc:creator>
  <dc:description/>
  <dc:language>en-US</dc:language>
  <cp:lastModifiedBy>RomaK</cp:lastModifiedBy>
  <dcterms:modified xsi:type="dcterms:W3CDTF">2015-09-04T09:21:22Z</dcterms:modified>
  <cp:revision>18</cp:revision>
  <dc:subject/>
  <dc:title>PowerPoint Presentation</dc:title>
</cp:coreProperties>
</file>