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D2B1-3BFF-4407-BB0F-AB3B93055A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8BA-D152-4215-BA40-48993147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CF3-7CD5-4A51-A6A3-6F4FC2F5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ED5-A5B4-43CE-A76E-BB24F6DB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4F3-6C1F-4096-9E2F-96CFE033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A65F0-ADB6-4856-8103-0AD61927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22963-664E-4960-BFD1-D2E870F9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1FC8C-E9A8-4EC7-AFC5-E28A7529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D424E-0C77-4461-862C-B05538FB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96705-A424-4A21-A039-A14C856C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D6D51-2C06-4625-8C32-5835776C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110C7-B9D9-47EC-90CF-E3D492AA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6DB-274C-4B07-9786-5B8B925A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CBAD4-9E1A-4E74-92B0-272EE401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1DA39-8A1F-409F-8CA3-36621995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0DBEF-B16D-4240-9786-15267262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9BD7F-16C1-4ACD-8D04-AF632B87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1D017-D332-4FE8-8658-B3DC1FD4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B55B1-5EFA-4D17-87A4-49AD5B44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C8541-C4E6-46D2-A7E5-72E6A1FD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16EE7-576E-42FA-9328-AE43424A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5C462-7388-4EFC-9C56-A3C11924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612F-F601-4380-B6C7-1379D390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05F-8DD3-470E-8063-F84C16A4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20B0F-6546-4571-AE31-52BDAA81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9A8A5-68F3-48C1-A887-C213471B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8607B-568B-42B4-AF95-0FA5BA95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E233A-7D59-4391-B167-1B31E5D0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3ADFB-5823-403D-841E-6F6B0D20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BA6DC-13D8-4EE1-8EE9-D4972AF1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A830-A84A-4613-A18A-F7726B81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F3AF3-71AA-492E-B205-5734C040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ED69E-20D4-4F42-BC06-66F3E0E9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7F315-4D45-4413-98E8-5FEB87DB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BF2-7B69-4798-BF2C-39EF3EB2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33BC3-FB84-456B-81AF-785F179E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6A349-8CFF-4F6C-A069-03EB6C5B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2DB87-32E9-4687-9C3C-D6E19D57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C6B84-8F83-4A66-8605-60448CA3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2632A-C62F-4A1B-BFD0-0D2A9EC9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9364A-6DC7-4668-A3B0-71DAC66C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4A4B7-6208-460B-98D4-016FE6E7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7D83D-420E-4FEE-86EB-603814A8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59F97-DAE1-42C0-BC58-19564758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73FC2-A342-4F18-B3BC-2EC5C831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D9D-A46A-445B-9C99-12A97F9A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32DB9-1A89-4D11-AEF7-E87C3F8D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7BBA0-F027-4017-A747-3B4F2B9F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4EC22-A7DF-48A3-8C8C-1D143E88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5C228-EF43-4D14-BC99-53A27E20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90B52-440A-43C7-B2AB-E0C5F3B9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4ACD4-6E1E-4A03-A9BE-666110E8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3A10F-2D87-4BC2-B413-CA0AE38A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9E113-F52D-41C5-9645-4DB8C19F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7AFCD-CFA2-4497-A4D7-4936CD82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4FAAE-EFDF-4CFD-93F0-EE911317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C89-51A1-4C7C-A47C-200ECAFE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B80D8-DAB7-46B1-996C-0E9D1921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682-31A3-411B-A87D-C2921D31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2CB-E77C-4EE7-8ABE-3DF7F7D1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14E-3817-4349-91E6-4336E8C8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B9A9-1500-4BD0-874D-538CD5D58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1679-21D7-4B4C-BEF5-2B3DA83321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2779-6C41-4EC1-839B-2B8C41457E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B01C-6D8E-4F7A-9911-42911133FDE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5E4A-C4AC-4DA7-B5DB-BEF8A7B929D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8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RomaK</cp:lastModifiedBy>
  <dcterms:modified xsi:type="dcterms:W3CDTF">2015-09-04T09:22:06Z</dcterms:modified>
  <cp:revision>25</cp:revision>
  <dc:subject/>
  <dc:title>3.1-Solving Equations by Adding and Subtracting</dc:title>
</cp:coreProperties>
</file>