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4B60-778D-4C6C-96BE-5E4494FB36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B7D-E545-4E2A-86E5-F81ADC9F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291-1908-4631-A9FE-5527FF8B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FAD-48E7-4D4C-982F-DD11E92B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254-DCD5-4695-AC5F-1F1B946E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4A54D-25C3-4B25-8C2A-5C5857C8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00F8E-563F-4E64-BFFF-FBE84BCE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7D71F-3C50-4C25-BB69-4263657C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EA208-4105-4ABD-9875-8C41B6E9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31449-A256-490A-932F-6EB174F5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FEB92-3D3F-4371-BE06-1B123C4C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46C57-213E-47C1-AD9A-1691AF26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9E4-CBB7-4DA4-A567-F0B03579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9D7AA-05D3-4972-9145-66DD82B5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F34D3-4BE4-4551-9CB2-53D67A61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9F219-0A73-4419-B62C-3F84A226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CB73F-71CB-406E-83B8-BDDCF85D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5663A-345F-43C5-A424-38DD673E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88395-53CA-4F84-8035-DB615C70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75DDB-E69E-49C8-923D-F0226C38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8937D-6D2A-4931-AF62-6DFA8B75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8755B-4C4D-415D-8B87-6BBAE950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D71E-B353-4A2C-BAEE-B9B7DA38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301-217D-43F8-9D93-8E500EED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C8B01-6A86-4CCF-B9A0-D7CE606B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322E-9AB4-4528-8F5D-2D0EFE9A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D8510-2544-448C-A29D-209612F2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19C77-17CA-4CAF-AF57-89537C2C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1584E-9262-4F5E-90E7-53AF10FF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DDD45-AD6F-4F58-A840-1D98628B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059D6-D0CC-44AC-999C-CDCC9382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F83A4-1718-43BC-AB02-69497B23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EFC6E-0B3B-4EE9-9BCF-9EC1F6F7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73732-9454-4FE4-8BA6-94AB9E01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928-441C-41AE-B4AE-706EF73A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F8D04-0B3B-40F0-A5C3-FF1C395C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F8018-959E-4941-BBCE-2F4F6B4D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27380-D621-4BF8-B410-28E6BD0A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E8D65-706E-494E-B12B-0F3DECF6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B291C-EC96-4C03-B85B-0C4F1658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6C166-F17F-4439-8B11-9E3C3ACB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894D9-017C-4785-BB18-E7D3B91F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BC80D-7A4E-44D8-84FB-DDEFAB93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6BA28-D4FC-4ACD-983D-49A4E76B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A6FBC-D97E-4C95-AD0A-9BB56D98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F76-BE9F-4AF9-B195-D5B711A3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7BDBD-B81F-4E9E-A601-68B522D6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BA275-55FF-4F98-9D35-92F5EAE6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C4FD8-F10F-4FE0-A89E-256D6259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BC3B0-E746-4181-9B2D-80B9B975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A2F7A-44A2-41F4-AE05-CB88B9A1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39F0F-B066-475F-A09E-04FB110C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FAD43-1DA1-4ECF-A307-2CF48777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8B43F-C141-49EA-BA60-A40E85B3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6D40A-CA54-4EAF-BEF4-F447D294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53EE4-E547-4FAB-8009-520F701F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9CB-B1A5-48E5-A157-9EBFE184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35A20-D939-42DC-8C85-AC5D415C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7F1-80C3-4BB2-B4E7-20ECA960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2DE-6F56-4263-97EB-65A75394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931F-C0AE-41E4-9457-C05A8266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73D3-CDA9-45DA-958B-3148902AF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F77A-FDBC-49E0-A25C-C0C3816278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3F24-8E98-405E-AE15-290AB4BF9A8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2523-239D-4756-B22D-220E60F36A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5A44-F888-4B2A-BD19-3313B5CC3A5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8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RomaK</cp:lastModifiedBy>
  <dcterms:modified xsi:type="dcterms:W3CDTF">2015-09-04T09:22:06Z</dcterms:modified>
  <cp:revision>25</cp:revision>
  <dc:subject/>
  <dc:title>3.1-Solving Equations by Adding and Subtracting</dc:title>
</cp:coreProperties>
</file>