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0567-0488-4223-B0E2-31F503ADD9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Ō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Simplify:  -2(x + 3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Simplify:  3[(5 + 72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-2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(5 + 49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(54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3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Ō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Simplify:  3[(5 + 72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-2x -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(5 + 49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(54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34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1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Adding and Subtr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ing Equations by Adding and Subtrac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+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 +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6 +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 + 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ry a more challenging proble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15C-764C-4463-AA84-2DE968D5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4B0-8769-4FD0-BD3B-183C014F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02A3-F9B5-4DE7-B4A9-52DF537A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B00-66D6-48CF-A2C4-051936BB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E1DF1-72A5-4C0D-963E-171C350F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C4F6B-CE9D-4BCE-B78B-455D18BA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7F9E9-C520-4CED-87EE-86190ABA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A2298-57C4-4149-BDFF-D4FFF668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DC2C2-1AAA-4B0A-AC71-4BD7ACD9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92BEA-36D2-4673-B715-D6A8D777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0641F-7794-4B9B-88FB-B85EA2E5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DC9-566B-41F1-8C1E-7184472D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06743-8802-4793-9AB5-5C9B5F6E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6F859-FCCC-445F-84AB-D77449B8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EDD74-26FF-46B0-BD1A-1000B85C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1E767-47FA-4DED-867B-79BE23D9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B391B-08F8-4AAE-BE76-4D572697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04872-CA4B-4A6C-B830-FFBD5BAB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99B0F-65BD-41D7-AE47-24DDA7F8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8BFF4-646C-4EAD-84F2-FC70B01E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BCF2B-0EA3-40AA-96B0-8304AAFE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A4BBC-D0D7-4ECE-A7E6-15A545FE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E80-D3C6-4B44-AAF2-8ADB0417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E6CE9-FF2A-461E-A2E4-D7F79038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2B401-1494-4ACA-A653-92FD528B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94EB2-9F01-43D0-850D-DFE3909C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6F99D-D1FF-43B5-93FA-C3812D60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79C6F-C2A5-4DB9-89C7-0ED4060F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A0EEA-4A20-409C-B153-6D17F506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43A9F-7811-4C1F-A400-D102D289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BA059-3C03-4959-A85A-6F961B35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497D7-3557-4AC7-9D28-BB5C0DC3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A5D9F-649F-472F-A866-5B1C3370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EB90-6BE6-429C-9671-1E7A92D1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D82A9-910D-4947-B71B-CBF35C29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C7F5E-22C7-40B3-AE09-C61F8F43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2C353-9AB6-4715-B166-BDC7B9D4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A84C9-740B-4577-A0A6-8F2C26BF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C0CC0-28F8-4A54-AEEA-445942B9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33AD6-D9B2-4469-8D65-9AC2C42A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D9ED5-0111-4A24-8B5A-67037718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E8415-1F9F-4962-A92B-69746B56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C0DDD-6FC8-47D2-BE6D-1275A499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029B9-3A57-4E77-A4EC-8503AA0F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D5D5-1DC8-4939-9174-51829F6E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B190B-8313-4951-B538-F610A763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FAFD9-EFC1-47CF-AD4C-1FB12473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4402B-E4C1-4EC4-BE61-BCF5A4F6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D0D2F-C7EF-48A6-81EB-F0CD3E37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D78CD-FEFD-42BC-843F-4CEC8C3B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87645-D92D-4407-B0DA-7514031A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5B520-24EE-49B4-80A7-CC97E1B5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509FC-6AEA-4572-B369-21F281A2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7B3F3-A912-4A55-BC5A-26603FF2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050F3-E6D9-4C85-B4AA-CD3D8FAB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7AC-2684-453E-A080-8D51525B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4347D-67B0-43E8-BCA2-14CE48E4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3DB-284C-464D-874B-C29800B0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8C2-7C57-40AE-8640-83F2BE5C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121-5DD2-4A19-93E5-823BF406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4E2B-7F6B-404A-995C-6B6127321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19B8-CD7D-48C3-A7E4-2A2C35553BB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FCE9-EC45-47B6-AD01-F6CF0F7BA07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DEAA-B2EF-4AE1-ABA2-F0A601C70ED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8419-07FF-4CD6-8C2A-BA7D0DC3FFC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11803"/>
                </a:solidFill>
                <a:latin typeface="Garamond"/>
              </a:rPr>
              <a:t>SŌP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Simplify:  3[(5 + 7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20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124080" y="36576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76720" y="3809880"/>
            <a:ext cx="388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429000" y="3962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419720" y="1600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-2x - 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257800" y="274320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 + 49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257800" y="3429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4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5257800" y="4191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34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5257800" y="48769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1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289548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89548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3124080" y="1523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365760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3.1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ving Equations by Adding and Subtract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8" descr="AG00293_"/>
          <p:cNvPicPr/>
          <p:nvPr/>
        </p:nvPicPr>
        <p:blipFill>
          <a:blip r:embed="rId1"/>
          <a:stretch/>
        </p:blipFill>
        <p:spPr>
          <a:xfrm>
            <a:off x="3886200" y="4724280"/>
            <a:ext cx="1657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362320" y="2514240"/>
            <a:ext cx="2133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5410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03" dur="2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153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14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9002E-006 L -0.09479 0.00231 E">
                                      <p:cBhvr>
                                        <p:cTn id="180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3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285640" y="251424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6781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5410080" y="38098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244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9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93d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6324480" y="2514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6 0 E">
                                      <p:cBhvr>
                                        <p:cTn id="321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371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904760" y="251424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352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67057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3733920" y="37339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34340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952880" y="373392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25146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13343E-006 L -0.10834 -2.13343E-006 E">
                                      <p:cBhvr>
                                        <p:cTn id="385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3520" y="23619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6 + 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876920" y="251460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563868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4290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6248520" y="2438280"/>
            <a:ext cx="1904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 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276720" y="37339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4267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4876920" y="38098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190512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 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458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val 75"/>
          <p:cNvSpPr/>
          <p:nvPr/>
        </p:nvSpPr>
        <p:spPr>
          <a:xfrm>
            <a:off x="2133720" y="3200400"/>
            <a:ext cx="3962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9"/>
          <p:cNvSpPr/>
          <p:nvPr/>
        </p:nvSpPr>
        <p:spPr>
          <a:xfrm>
            <a:off x="6248520" y="1447920"/>
            <a:ext cx="12189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8"/>
          <p:cNvSpPr/>
          <p:nvPr/>
        </p:nvSpPr>
        <p:spPr>
          <a:xfrm>
            <a:off x="1600200" y="1371600"/>
            <a:ext cx="1523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029200" y="190476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3733920" y="17524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6705720" y="28954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25"/>
              <p:cNvSpPr txBox="1"/>
              <p:nvPr/>
            </p:nvSpPr>
            <p:spPr>
              <a:xfrm>
                <a:off x="3200400" y="1828800"/>
                <a:ext cx="41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8"/>
              <p:cNvSpPr txBox="1"/>
              <p:nvPr/>
            </p:nvSpPr>
            <p:spPr>
              <a:xfrm>
                <a:off x="2133720" y="1863720"/>
                <a:ext cx="403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4" name="Rectangle 29"/>
          <p:cNvSpPr/>
          <p:nvPr/>
        </p:nvSpPr>
        <p:spPr>
          <a:xfrm>
            <a:off x="624852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0"/>
              <p:cNvSpPr txBox="1"/>
              <p:nvPr/>
            </p:nvSpPr>
            <p:spPr>
              <a:xfrm>
                <a:off x="6705720" y="1711440"/>
                <a:ext cx="4572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52"/>
              <p:cNvSpPr txBox="1"/>
              <p:nvPr/>
            </p:nvSpPr>
            <p:spPr>
              <a:xfrm>
                <a:off x="4433760" y="1590840"/>
                <a:ext cx="59544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WordArt 55"/>
          <p:cNvSpPr txBox="1"/>
          <p:nvPr/>
        </p:nvSpPr>
        <p:spPr>
          <a:xfrm rot="5400000">
            <a:off x="-1981080" y="35049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58" name="Rectangle 56"/>
          <p:cNvSpPr/>
          <p:nvPr/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7"/>
          <p:cNvSpPr/>
          <p:nvPr/>
        </p:nvSpPr>
        <p:spPr>
          <a:xfrm>
            <a:off x="160020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4"/>
          <p:cNvSpPr/>
          <p:nvPr/>
        </p:nvSpPr>
        <p:spPr>
          <a:xfrm>
            <a:off x="4343400" y="345744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5"/>
          <p:cNvSpPr/>
          <p:nvPr/>
        </p:nvSpPr>
        <p:spPr>
          <a:xfrm>
            <a:off x="5638680" y="3381480"/>
            <a:ext cx="533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6"/>
              <p:cNvSpPr txBox="1"/>
              <p:nvPr/>
            </p:nvSpPr>
            <p:spPr>
              <a:xfrm>
                <a:off x="3016080" y="3276720"/>
                <a:ext cx="4892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Rectangle 67"/>
          <p:cNvSpPr/>
          <p:nvPr/>
        </p:nvSpPr>
        <p:spPr>
          <a:xfrm>
            <a:off x="3657600" y="338148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1"/>
          <p:cNvSpPr/>
          <p:nvPr/>
        </p:nvSpPr>
        <p:spPr>
          <a:xfrm>
            <a:off x="29718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2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4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834 0 E">
                                      <p:cBhvr>
                                        <p:cTn id="61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5 0 E">
                                      <p:cBhvr>
                                        <p:cTn id="669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03:01Z</dcterms:created>
  <dc:creator>User</dc:creator>
  <dc:description/>
  <dc:language>en-US</dc:language>
  <cp:lastModifiedBy>RomaK</cp:lastModifiedBy>
  <dcterms:modified xsi:type="dcterms:W3CDTF">2015-09-04T09:22:06Z</dcterms:modified>
  <cp:revision>25</cp:revision>
  <dc:subject/>
  <dc:title>3.1-Solving Equations by Adding and Subtracting</dc:title>
</cp:coreProperties>
</file>