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9701-9D37-4031-A3B9-DFB1030E7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4D048-7531-4F5F-9EBE-521D6DBE6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0BEBA-79AC-41C2-948F-5D588E92B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D5FEE-F39F-469F-B958-0D6A203BE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B4627-076E-4C28-BA9C-367861139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65ADF-62A7-4778-B2B2-210C2389A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47BF1-3876-4243-94F1-CD0725969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E0AD4-2B7E-4F0E-B905-8A4041DE7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10C68-1E1C-4878-BF55-D088F6A48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BA41A-BE10-4153-910D-B6B518F32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124B9-9056-4AF3-9792-E107B3A45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F16B7-68B5-492B-ADA6-BAF568D78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3FE65-1339-4C78-B570-AF8699A3D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BD6FE-B943-44F3-AF58-511ADE8AF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D8E19-1BD7-4597-BB76-096DD53DF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D1D86-1A4B-4EC6-98C1-0CFE65C0D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E5383-3CA0-448F-829D-B6A56C75C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02D10-BFA1-4729-9BD8-C1584F5C7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682D4-BFDB-4A3C-99B0-818F7F8F4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FEEB6-092C-40EE-8C2E-91718E82C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BA784-4CA6-4C36-A6FF-38B750FC8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9AE60-BFAC-4FA0-804D-A2681D35C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E67FC-3EAD-44D1-A168-AA8AAC4ED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9747D-921E-4309-A8AC-D3C153A06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0BEEC-64B3-4DCC-BB78-CED7D227F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6EC5-40D5-49A4-8FF9-8642695DA8E8}" type="datetime2">
              <a:rPr b="0" lang="ur-PK" sz="1400" spc="-1" strike="noStrike">
                <a:solidFill>
                  <a:srgbClr val="000000"/>
                </a:solidFill>
                <a:latin typeface="Times New Roman"/>
              </a:rPr>
              <a:t>جمعہ, 31,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08A8-5E29-4899-820A-4B7B285CC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36C1-B604-480D-833C-C22D6936F215}" type="datetime2">
              <a:rPr b="0" lang="ur-PK" sz="1400" spc="-1" strike="noStrike">
                <a:solidFill>
                  <a:srgbClr val="ffffff"/>
                </a:solidFill>
                <a:latin typeface="Times New Roman"/>
              </a:rPr>
              <a:t>جمعہ, 31,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8E38-0401-4FB3-B09C-E8B08DB5F5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