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4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B863-71D6-47FC-BC43-EFE9524757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C66-B017-4D0A-A5B7-4EEEBE04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8F1-67BA-47EC-A759-F439D1A4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D07-4F00-4C97-8665-21354BB3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2D6-90BA-49D5-B137-48D64593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784A-3C29-48B7-8A10-D0FA8ECD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E6E5-3A9F-45CF-8E36-78CFF1F4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D32C-A7EB-43AC-B352-C81E5CFE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6632-84A3-416E-A591-7D203434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5163-FC33-46B3-9D41-E43BAD31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5616-CA47-409F-A9CB-D0FCD60D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89C6-BF6E-4D1D-856B-FFE225E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E8E-52B3-4790-827D-44DD0706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13E5-E169-4124-B04E-712E7A2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0F9F-3AF2-432C-B1DE-1D02FE7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15AC-D41E-4435-A86A-D50DDB5A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7A02-8FB6-4DF2-A6C0-FE5C69ED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8517-12DD-4FBC-AEB5-CA4A4751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8EB-D8E8-473D-B99E-0A99D0F7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0B8-C7E6-4A89-BED8-DAAB701C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2E0-FCDC-4FB5-8C92-F0AE8AAF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90A-DA19-4859-87C8-D6100862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394-3BD0-4EF5-9CB5-E0895758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7A1-7278-498A-BDA7-F9976C73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3A4-0C7F-4C80-8D9E-D3A071ED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6798-597E-43C1-A24E-05B1F456603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2F9F-C4AB-48A0-A879-F7A550E6852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tique Olive"/>
              </a:rPr>
              <a:t>MATHEMATIC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 ROOT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cientific Calculato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Enter square root symbol before entering the numbe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Press enter or equ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bd09294_"/>
          <p:cNvPicPr/>
          <p:nvPr/>
        </p:nvPicPr>
        <p:blipFill>
          <a:blip r:embed="rId1"/>
          <a:stretch/>
        </p:blipFill>
        <p:spPr>
          <a:xfrm>
            <a:off x="4648320" y="2575080"/>
            <a:ext cx="3809880" cy="3232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DAY’S MATH PREVI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RECT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 RELA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quare  Roo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cientific Calcul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Object 4" descr=""/>
          <p:cNvPicPr/>
          <p:nvPr/>
        </p:nvPicPr>
        <p:blipFill>
          <a:blip r:embed="rId1"/>
          <a:stretch/>
        </p:blipFill>
        <p:spPr>
          <a:xfrm>
            <a:off x="4653000" y="213372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formula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=s² (A=area &amp; s=sid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²means sx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wb01353_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4043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tram"/>
              </a:rPr>
              <a:t>Area of Rect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 = l x 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 = 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W = 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wb00952_"/>
          <p:cNvPicPr/>
          <p:nvPr/>
        </p:nvPicPr>
        <p:blipFill>
          <a:blip r:embed="rId1"/>
          <a:stretch/>
        </p:blipFill>
        <p:spPr>
          <a:xfrm>
            <a:off x="4648320" y="3386160"/>
            <a:ext cx="3809880" cy="1609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 = ½ b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B =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H = height or altitu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8" descr="dd01405_"/>
          <p:cNvPicPr/>
          <p:nvPr/>
        </p:nvPicPr>
        <p:blipFill>
          <a:blip r:embed="rId1"/>
          <a:stretch/>
        </p:blipFill>
        <p:spPr>
          <a:xfrm>
            <a:off x="4343400" y="2614680"/>
            <a:ext cx="3809880" cy="3305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ypes of Triang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ute: triangles with angles less than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tuse: triangles with one angle greater than 90º but less than 18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ght: triangles with one angle equaling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ertus Extra Bold"/>
              </a:rPr>
              <a:t>CONNEC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= 7 x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where 7 is the BASE  and ² is the exponent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Pythagorean Theorem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²+B²=C²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 square root of A &amp; B are legs and the square root of C is the hypotenuse of the right triang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quare Root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ne of the two equal factors of a number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 square root of 144 is 12 since 12 squared = 144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bd05092_"/>
          <p:cNvPicPr/>
          <p:nvPr/>
        </p:nvPicPr>
        <p:blipFill>
          <a:blip r:embed="rId1"/>
          <a:stretch/>
        </p:blipFill>
        <p:spPr>
          <a:xfrm>
            <a:off x="4648320" y="2462040"/>
            <a:ext cx="3809880" cy="3457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8:48:45Z</dcterms:created>
  <dc:creator>MS</dc:creator>
  <dc:description/>
  <dc:language>en-US</dc:language>
  <cp:lastModifiedBy>RomaK</cp:lastModifiedBy>
  <dcterms:modified xsi:type="dcterms:W3CDTF">2015-09-04T09:22:22Z</dcterms:modified>
  <cp:revision>8</cp:revision>
  <dc:subject/>
  <dc:title>MATHEMATICS</dc:title>
</cp:coreProperties>
</file>