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c050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4CC3-0190-4165-84D7-548559D402B0}" type="slidenum">
              <a:rPr b="0" lang="uk-UA" sz="1200" spc="-1" strike="noStrike">
                <a:solidFill>
                  <a:srgbClr val="c050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a square from these toothpick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a square from these toothpick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hree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hree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pig look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pig look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hre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fou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3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four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old-fashioned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two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two moves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4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two moves!!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get the cherry outside of the fancy g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get the cherry outside of the fancy glass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ZERO moves! Just turn your head to the side 120 degre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5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ZERO moves! Just turn your head to the side 120 degree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 sticks to create 4 equilateral triangles of equal siz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Remove sticks to create 4 equilateral triangles of equal size.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1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thpick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6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Toothpicks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e in 2 total moves!!!  Now you try number 2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One: Example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Done in 2 total moves!!!  Now you try number 2!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ves to make the fish swim the opposite 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How many moves to make the fish swim the opposite way?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Number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Problem Number 2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imes New Roman"/>
              </a:rPr>
              <a:t>Move One</a:t>
            </a: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1795-8FE0-4E4D-89AA-E80CA92B3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7731-8C32-41DE-B29B-29F7132A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ED55-5CF6-41FE-8E61-7C3C7DD6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1CD6-7057-45CA-A1FD-6D8DB426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FD5-8C37-4877-AF70-ED823884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A475-100F-4C2A-9A36-5F91D103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448-EDC6-476C-9A17-74828518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D28-1005-4ADC-A37B-4A4F098B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3B3F-0B45-4BEA-8B40-5BB7275E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5A02-D997-4E06-8D7F-43C5EAEE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9CB4-9318-4AC0-A6E7-8FEF793F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DEB1-6858-4A9B-82BC-ABA3E4FE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09E1-9F8F-41B3-90BE-7717AF77B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c050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Example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304920" y="1336680"/>
            <a:ext cx="190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How many moves to make a square from these toothpick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8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8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0" name="Line 14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1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3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5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6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7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wo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6" name="Line 10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7" name="Line 12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1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4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0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Line 7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" name="Line 9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" name="Line 10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Text Box 12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Thre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" name="Line 4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1" name="Line 5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3" name="Line 7"/>
          <p:cNvSpPr/>
          <p:nvPr/>
        </p:nvSpPr>
        <p:spPr>
          <a:xfrm flipV="1">
            <a:off x="5257800" y="41144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3657600" y="41907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5" name="Line 9"/>
          <p:cNvSpPr/>
          <p:nvPr/>
        </p:nvSpPr>
        <p:spPr>
          <a:xfrm flipV="1">
            <a:off x="4495680" y="4876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4b11"/>
                </a:solidFill>
                <a:latin typeface="Comic Sans MS"/>
              </a:rPr>
              <a:t>Done in three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7" name="Oval 11"/>
          <p:cNvSpPr/>
          <p:nvPr/>
        </p:nvSpPr>
        <p:spPr>
          <a:xfrm>
            <a:off x="5334120" y="373392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5433840" y="4170240"/>
            <a:ext cx="357480" cy="14940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Line 3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" name="Line 9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" name="Line 15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9" name="Line 16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" name="Line 17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1" name="Line 18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" name="Line 19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685800" y="1447920"/>
            <a:ext cx="1463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make the pig look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343400" y="41911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 flipV="1">
            <a:off x="6248520" y="22093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" name="Line 11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" name="Line 12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" name="Line 13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" name="Line 14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9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0" name="Line 6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2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Line 2"/>
          <p:cNvSpPr/>
          <p:nvPr/>
        </p:nvSpPr>
        <p:spPr>
          <a:xfrm flipV="1">
            <a:off x="2895480" y="2971440"/>
            <a:ext cx="685800" cy="7621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4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5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9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3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2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4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8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0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5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6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7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9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0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1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3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4" name="Line 4"/>
          <p:cNvSpPr/>
          <p:nvPr/>
        </p:nvSpPr>
        <p:spPr>
          <a:xfrm>
            <a:off x="2895480" y="380988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8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89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0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1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2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3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4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6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7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8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9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0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1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2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3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4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5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6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7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9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1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thre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3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4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5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6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7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8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9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0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2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3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4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6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7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8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9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0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1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2" name="Line 13"/>
          <p:cNvSpPr/>
          <p:nvPr/>
        </p:nvSpPr>
        <p:spPr>
          <a:xfrm>
            <a:off x="6172200" y="31240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3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5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6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7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8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0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1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2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3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4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5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6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8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9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0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1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2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3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4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6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7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8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9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Line 2"/>
          <p:cNvSpPr/>
          <p:nvPr/>
        </p:nvSpPr>
        <p:spPr>
          <a:xfrm flipV="1">
            <a:off x="3581280" y="30481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1" name="Line 3"/>
          <p:cNvSpPr/>
          <p:nvPr/>
        </p:nvSpPr>
        <p:spPr>
          <a:xfrm>
            <a:off x="365760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2" name="Line 4"/>
          <p:cNvSpPr/>
          <p:nvPr/>
        </p:nvSpPr>
        <p:spPr>
          <a:xfrm>
            <a:off x="6248520" y="3048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3" name="Line 5"/>
          <p:cNvSpPr/>
          <p:nvPr/>
        </p:nvSpPr>
        <p:spPr>
          <a:xfrm flipV="1">
            <a:off x="30481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f4b11"/>
                </a:solidFill>
                <a:latin typeface="Comic Sans MS"/>
              </a:rPr>
              <a:t>Problem Number 3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ove four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5" name="Line 7"/>
          <p:cNvSpPr/>
          <p:nvPr/>
        </p:nvSpPr>
        <p:spPr>
          <a:xfrm>
            <a:off x="4952880" y="29718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6" name="Line 8"/>
          <p:cNvSpPr/>
          <p:nvPr/>
        </p:nvSpPr>
        <p:spPr>
          <a:xfrm flipV="1">
            <a:off x="5562720" y="4572000"/>
            <a:ext cx="53316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7" name="Line 9"/>
          <p:cNvSpPr/>
          <p:nvPr/>
        </p:nvSpPr>
        <p:spPr>
          <a:xfrm flipH="1" flipV="1">
            <a:off x="61718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8" name="Line 10"/>
          <p:cNvSpPr/>
          <p:nvPr/>
        </p:nvSpPr>
        <p:spPr>
          <a:xfrm flipH="1" flipV="1">
            <a:off x="3657240" y="4572000"/>
            <a:ext cx="30492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9" name="Line 11"/>
          <p:cNvSpPr/>
          <p:nvPr/>
        </p:nvSpPr>
        <p:spPr>
          <a:xfrm>
            <a:off x="365760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0" name="Line 12"/>
          <p:cNvSpPr/>
          <p:nvPr/>
        </p:nvSpPr>
        <p:spPr>
          <a:xfrm>
            <a:off x="4952880" y="44956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 flipH="1">
            <a:off x="6172200" y="3809880"/>
            <a:ext cx="8380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2" name="Line 14"/>
          <p:cNvSpPr/>
          <p:nvPr/>
        </p:nvSpPr>
        <p:spPr>
          <a:xfrm flipH="1" flipV="1">
            <a:off x="3124080" y="2057040"/>
            <a:ext cx="457200" cy="762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6400800" y="34290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4" name="Freeform 16"/>
          <p:cNvSpPr/>
          <p:nvPr/>
        </p:nvSpPr>
        <p:spPr>
          <a:xfrm>
            <a:off x="6400800" y="3886200"/>
            <a:ext cx="357120" cy="96840"/>
          </a:xfrm>
          <a:custGeom>
            <a:avLst/>
            <a:gdLst/>
            <a:ahLst/>
            <a:rect l="l" t="t" r="r" b="b"/>
            <a:pathLst>
              <a:path w="225" h="94">
                <a:moveTo>
                  <a:pt x="225" y="76"/>
                </a:moveTo>
                <a:cubicBezTo>
                  <a:pt x="177" y="88"/>
                  <a:pt x="168" y="94"/>
                  <a:pt x="102" y="76"/>
                </a:cubicBezTo>
                <a:cubicBezTo>
                  <a:pt x="64" y="66"/>
                  <a:pt x="53" y="34"/>
                  <a:pt x="18" y="23"/>
                </a:cubicBezTo>
                <a:cubicBezTo>
                  <a:pt x="0" y="5"/>
                  <a:pt x="2" y="15"/>
                  <a:pt x="2" y="0"/>
                </a:cubicBezTo>
              </a:path>
            </a:pathLst>
          </a:custGeom>
          <a:noFill/>
          <a:ln w="316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7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6" name="Line 12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7" name="Line 1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533520" y="1447920"/>
            <a:ext cx="161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How many moves to get the cherry outside of the old-fashioned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9" name="Line 1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0" name="Line 1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1" name="Picture 1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3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4" name="Line 4"/>
          <p:cNvSpPr/>
          <p:nvPr/>
        </p:nvSpPr>
        <p:spPr>
          <a:xfrm>
            <a:off x="3886200" y="2438280"/>
            <a:ext cx="0" cy="12956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6" name="Line 7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87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9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0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1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2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3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one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5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7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8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399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1" name="Line 3"/>
          <p:cNvSpPr/>
          <p:nvPr/>
        </p:nvSpPr>
        <p:spPr>
          <a:xfrm>
            <a:off x="396252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2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3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4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05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ove two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7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8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09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0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1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1676520" y="457200"/>
            <a:ext cx="6400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66"/>
                </a:solidFill>
                <a:latin typeface="Comic Sans MS"/>
              </a:rPr>
              <a:t>Problem Number 4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Done in two moves!!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3" name="Line 3"/>
          <p:cNvSpPr/>
          <p:nvPr/>
        </p:nvSpPr>
        <p:spPr>
          <a:xfrm>
            <a:off x="4724280" y="3809880"/>
            <a:ext cx="1371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4" name="Line 4"/>
          <p:cNvSpPr/>
          <p:nvPr/>
        </p:nvSpPr>
        <p:spPr>
          <a:xfrm>
            <a:off x="6248520" y="396252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5" name="Line 5"/>
          <p:cNvSpPr/>
          <p:nvPr/>
        </p:nvSpPr>
        <p:spPr>
          <a:xfrm>
            <a:off x="5410080" y="2438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6" name="Line 6"/>
          <p:cNvSpPr/>
          <p:nvPr/>
        </p:nvSpPr>
        <p:spPr>
          <a:xfrm>
            <a:off x="4572000" y="3886200"/>
            <a:ext cx="0" cy="1295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17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054320" y="3124080"/>
            <a:ext cx="59400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2"/>
          <p:cNvSpPr/>
          <p:nvPr/>
        </p:nvSpPr>
        <p:spPr>
          <a:xfrm>
            <a:off x="167652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19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1" name="Text Box 5"/>
          <p:cNvSpPr/>
          <p:nvPr/>
        </p:nvSpPr>
        <p:spPr>
          <a:xfrm>
            <a:off x="533520" y="1447920"/>
            <a:ext cx="1616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How many moves to get the cherry outside of the fancy glas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2" name="Line 7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3" name="Picture 8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676520" y="457200"/>
            <a:ext cx="64008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Comic Sans MS"/>
              </a:rPr>
              <a:t>Problem Number 5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Done in ZERO moves! Just turn your head to the side 120 degrees!</a:t>
            </a:r>
            <a:endParaRPr b="0" lang="en-US" sz="2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5" name="Line 3"/>
          <p:cNvSpPr/>
          <p:nvPr/>
        </p:nvSpPr>
        <p:spPr>
          <a:xfrm flipV="1">
            <a:off x="5029200" y="2819160"/>
            <a:ext cx="11430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3886200" y="2895480"/>
            <a:ext cx="1066680" cy="6098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27" name="Line 6"/>
          <p:cNvSpPr/>
          <p:nvPr/>
        </p:nvSpPr>
        <p:spPr>
          <a:xfrm>
            <a:off x="4952880" y="3581280"/>
            <a:ext cx="0" cy="1295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428" name="Picture 7" descr="C:\Documents and Settings\JJASENSKY\Application Data\Microsoft\Media Catalog\Downloaded Clips\cl0\fd00162_.wmf"/>
          <p:cNvPicPr/>
          <p:nvPr/>
        </p:nvPicPr>
        <p:blipFill>
          <a:blip r:embed="rId1"/>
          <a:srcRect l="0" t="27906" r="0" b="0"/>
          <a:stretch/>
        </p:blipFill>
        <p:spPr>
          <a:xfrm>
            <a:off x="4664160" y="2666880"/>
            <a:ext cx="593640" cy="5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1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228600" y="2057400"/>
            <a:ext cx="1920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Comic Sans MS"/>
              </a:rPr>
              <a:t>Remove sticks to create 4 equilateral triangles of equal size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3" name="Line 8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4" name="Line 9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5" name="Line 10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6" name="Line 11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7" name="Line 12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Line 13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9" name="Line 14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0" name="Line 15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1" name="Line 16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2" name="Line 17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3" name="Line 18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4" name="Line 19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5" name="Line 20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6" name="Line 21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8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49" name="Line 4"/>
          <p:cNvSpPr/>
          <p:nvPr/>
        </p:nvSpPr>
        <p:spPr>
          <a:xfrm>
            <a:off x="4038480" y="304812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0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1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2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3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4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5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6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7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8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59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0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1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2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3" name="Text Box 19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4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7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8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69" name="Line 7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0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1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2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3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4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5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6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7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9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654516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1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1" name="Line 19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3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4" name="Line 6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5" name="Line 7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6" name="Line 8"/>
          <p:cNvSpPr/>
          <p:nvPr/>
        </p:nvSpPr>
        <p:spPr>
          <a:xfrm>
            <a:off x="4724280" y="4038480"/>
            <a:ext cx="609840" cy="9144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7" name="Line 9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8" name="Line 10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89" name="Line 11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0" name="Line 12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1" name="Line 13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2" name="Line 14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3" name="Line 15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4" name="Line 16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5" name="Line 17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6" name="Line 18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7" name="Text Box 19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98" name="Line 20"/>
          <p:cNvSpPr/>
          <p:nvPr/>
        </p:nvSpPr>
        <p:spPr>
          <a:xfrm>
            <a:off x="411480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0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1" name="Line 5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2" name="Line 6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8" name="Line 13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09" name="Line 14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0" name="Line 15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1" name="Line 16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2" name="Line 17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6569640" y="2438280"/>
            <a:ext cx="18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 2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4" name="Line 19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ffff00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1676520" y="121932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00"/>
                </a:solidFill>
                <a:latin typeface="Comic Sans MS"/>
              </a:rPr>
              <a:t>Problem Number 6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6" name="Line 3"/>
          <p:cNvSpPr/>
          <p:nvPr/>
        </p:nvSpPr>
        <p:spPr>
          <a:xfrm flipV="1">
            <a:off x="3352680" y="30481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>
            <a:off x="335268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4038480" y="403848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>
            <a:off x="4038480" y="502920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8006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>
            <a:off x="5486400" y="3048120"/>
            <a:ext cx="60948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>
            <a:off x="4800600" y="403848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3" name="Line 10"/>
          <p:cNvSpPr/>
          <p:nvPr/>
        </p:nvSpPr>
        <p:spPr>
          <a:xfrm>
            <a:off x="33526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40384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5" name="Line 12"/>
          <p:cNvSpPr/>
          <p:nvPr/>
        </p:nvSpPr>
        <p:spPr>
          <a:xfrm>
            <a:off x="4724280" y="2133720"/>
            <a:ext cx="68580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6" name="Line 13"/>
          <p:cNvSpPr/>
          <p:nvPr/>
        </p:nvSpPr>
        <p:spPr>
          <a:xfrm flipV="1">
            <a:off x="4038480" y="2133720"/>
            <a:ext cx="609840" cy="838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7" name="Line 14"/>
          <p:cNvSpPr/>
          <p:nvPr/>
        </p:nvSpPr>
        <p:spPr>
          <a:xfrm flipV="1">
            <a:off x="4724280" y="510552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 flipV="1">
            <a:off x="5410080" y="4114800"/>
            <a:ext cx="609840" cy="9144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29" name="Text Box 16"/>
          <p:cNvSpPr/>
          <p:nvPr/>
        </p:nvSpPr>
        <p:spPr>
          <a:xfrm>
            <a:off x="6554160" y="243828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one in 2 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thpicks!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0" name="Line 17"/>
          <p:cNvSpPr/>
          <p:nvPr/>
        </p:nvSpPr>
        <p:spPr>
          <a:xfrm>
            <a:off x="4038480" y="3048120"/>
            <a:ext cx="12193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"/>
          <p:cNvSpPr/>
          <p:nvPr/>
        </p:nvSpPr>
        <p:spPr>
          <a:xfrm>
            <a:off x="4191120" y="2895480"/>
            <a:ext cx="0" cy="12193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Mov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7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6960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Problem Number One: Examp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one in 2 total moves!!!  Now you try number 2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266688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4191120" y="4191120"/>
            <a:ext cx="0" cy="1218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2895480" y="54864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819520" y="419112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Line 5"/>
          <p:cNvSpPr/>
          <p:nvPr/>
        </p:nvSpPr>
        <p:spPr>
          <a:xfrm>
            <a:off x="36576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5" name="Line 10"/>
          <p:cNvSpPr/>
          <p:nvPr/>
        </p:nvSpPr>
        <p:spPr>
          <a:xfrm flipV="1">
            <a:off x="365760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 flipV="1">
            <a:off x="441972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41972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 flipV="1">
            <a:off x="441972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41972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518148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" name="Line 16"/>
          <p:cNvSpPr/>
          <p:nvPr/>
        </p:nvSpPr>
        <p:spPr>
          <a:xfrm flipV="1">
            <a:off x="518148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2" name="Text Box 25"/>
          <p:cNvSpPr/>
          <p:nvPr/>
        </p:nvSpPr>
        <p:spPr>
          <a:xfrm>
            <a:off x="1676520" y="457200"/>
            <a:ext cx="64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746280" y="1336680"/>
            <a:ext cx="1463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f4b11"/>
                </a:solidFill>
                <a:latin typeface="Comic Sans MS"/>
              </a:rPr>
              <a:t>How many moves to make the fish swim the opposite way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2"/>
          <p:cNvSpPr/>
          <p:nvPr/>
        </p:nvSpPr>
        <p:spPr>
          <a:xfrm>
            <a:off x="373392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" name="Line 3"/>
          <p:cNvSpPr/>
          <p:nvPr/>
        </p:nvSpPr>
        <p:spPr>
          <a:xfrm flipV="1">
            <a:off x="3733920" y="25905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6" name="Line 4"/>
          <p:cNvSpPr/>
          <p:nvPr/>
        </p:nvSpPr>
        <p:spPr>
          <a:xfrm flipV="1">
            <a:off x="4495680" y="327636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7" name="Line 5"/>
          <p:cNvSpPr/>
          <p:nvPr/>
        </p:nvSpPr>
        <p:spPr>
          <a:xfrm>
            <a:off x="4495680" y="25146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8" name="Line 6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9" name="Line 7"/>
          <p:cNvSpPr/>
          <p:nvPr/>
        </p:nvSpPr>
        <p:spPr>
          <a:xfrm>
            <a:off x="4495680" y="411480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5257800" y="335268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5257800" y="2514240"/>
            <a:ext cx="685800" cy="685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2" name="Line 13"/>
          <p:cNvSpPr/>
          <p:nvPr/>
        </p:nvSpPr>
        <p:spPr>
          <a:xfrm flipV="1">
            <a:off x="4495680" y="1752120"/>
            <a:ext cx="685800" cy="685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1676520" y="457200"/>
            <a:ext cx="6400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Comic Sans MS"/>
              </a:rPr>
              <a:t>Problem Number 2</a:t>
            </a:r>
            <a:endParaRPr b="0" lang="en-US" sz="4800" spc="-1" strike="noStrike">
              <a:solidFill>
                <a:srgbClr val="3333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f4b11"/>
                </a:solidFill>
                <a:latin typeface="Comic Sans MS"/>
              </a:rPr>
              <a:t>Move One</a:t>
            </a:r>
            <a:endParaRPr b="0" lang="en-US" sz="18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7:07:42Z</dcterms:created>
  <dc:creator>DIST225</dc:creator>
  <dc:description/>
  <dc:language>en-US</dc:language>
  <cp:lastModifiedBy>RomaK</cp:lastModifiedBy>
  <dcterms:modified xsi:type="dcterms:W3CDTF">2015-09-04T09:22:38Z</dcterms:modified>
  <cp:revision>8</cp:revision>
  <dc:subject/>
  <dc:title>Problem Number One: Example </dc:title>
</cp:coreProperties>
</file>