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6CEC-5738-480A-82C6-30E5CBF8B639}" type="slidenum"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a square from these toothpi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a square from these toothpick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hree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hree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pig look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pig look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wo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wo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fancy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fancy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ZERO moves! Just turn your head to the side 12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ZERO moves! Just turn your head to the side 120 degree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sticks to create 4 equilateral triangles of equa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move sticks to create 4 equilateral triangles of equal size.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total moves!!!  Now you try number 2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total moves!!!  Now you try number 2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fish swim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fish swim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2F7-188C-486E-AE20-E59F3057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593C-2C4A-4460-B91B-21CF002C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E93-383B-4B10-90ED-8B46759F7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E2C-6BD4-4171-9993-09BFC3BD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459-FCFA-4056-B4A6-21070B20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E31-5305-4BFF-9D63-3545AC27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B21-5F19-4995-A059-7794FEE5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458-4DF5-4846-AFD5-B8A0A1B6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592-D7C8-4B6A-8FB4-B613B63C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41F3-51C8-4044-8F47-E120432C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EB8-20E9-42D9-9E26-AC1D5EF8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9D5-EF77-48EF-9356-3A3E6F0B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C70D-1E84-4405-80F0-A658385BF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xample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920" y="1336680"/>
            <a:ext cx="190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many moves to make a square from these toothpick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Line 12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4b11"/>
                </a:solidFill>
                <a:latin typeface="Comic Sans MS"/>
              </a:rPr>
              <a:t>Done in three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5334120" y="3733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5433840" y="4170240"/>
            <a:ext cx="357480" cy="14940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3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85800" y="1447920"/>
            <a:ext cx="146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make the pig look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7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0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3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9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Oval 15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4" name="Freeform 16"/>
          <p:cNvSpPr/>
          <p:nvPr/>
        </p:nvSpPr>
        <p:spPr>
          <a:xfrm>
            <a:off x="6400800" y="3886200"/>
            <a:ext cx="357120" cy="9684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7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533520" y="1447920"/>
            <a:ext cx="161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ow many moves to get the cherry outside of the old-fashioned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Line 1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0" name="Line 1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1" name="Picture 1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7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3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9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05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1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one in two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7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9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533520" y="1447920"/>
            <a:ext cx="161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get the cherry outside of the fancy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3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676520" y="457200"/>
            <a:ext cx="6400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ne in ZERO moves! Just turn your head to the side 120 degrees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8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28600" y="2057400"/>
            <a:ext cx="192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Remove sticks to create 4 equilateral triangles of equal siz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9" name="Line 14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0" name="Line 15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Line 16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2" name="Line 17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5" name="Line 20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Line 21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4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0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2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9" name="Line 7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0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Line 19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3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5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8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4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6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1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9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1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2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Line 19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6" name="Line 13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54160" y="243828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ne in 2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Line 17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one in 2 total moves!!!  Now you try number 2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36576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V="1">
            <a:off x="365760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441972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41972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441972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41972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518148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518148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746280" y="1336680"/>
            <a:ext cx="146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4b11"/>
                </a:solidFill>
                <a:latin typeface="Comic Sans MS"/>
              </a:rPr>
              <a:t>How many moves to make the fish swim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7:07:42Z</dcterms:created>
  <dc:creator>DIST225</dc:creator>
  <dc:description/>
  <dc:language>en-US</dc:language>
  <cp:lastModifiedBy>RomaK</cp:lastModifiedBy>
  <dcterms:modified xsi:type="dcterms:W3CDTF">2015-09-04T09:22:38Z</dcterms:modified>
  <cp:revision>8</cp:revision>
  <dc:subject/>
  <dc:title>Problem Number One: Example </dc:title>
</cp:coreProperties>
</file>