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13F5-583F-4086-AA41-2894C0F37E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95E3-677C-49B7-97AB-000BB39E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97699-096C-4BA8-BF45-6245CB52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AE2F-A863-4136-A6CF-30988377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31FDF-44AB-43DA-B269-ED5072BE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E354-42DF-4642-B34E-868BB5E6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6668-C20D-4F57-BF6A-496C2778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8713-61C5-49C3-8665-7746B28D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EAAA-A70C-4159-BA13-B16A3E5E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AD34-F6A4-4C61-97B4-AF520F8E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3E3D-69A0-42AD-91E3-569420BB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53F9-B751-46B5-86CD-44454F36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D98A-7065-4915-AC37-7356A874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A0A2-A449-4568-8784-92464D0C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D70D-D352-4F05-B12B-D95EA8BC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BE33-2559-426A-B47C-014AC03C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AD80-C04B-4AD9-A587-2F596000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8BB1-33F7-404F-8323-40F61B72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F342E-81EF-4212-BE60-CA1921DA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096F5-F116-421B-8798-3929BC24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299A-1DAF-43A5-913C-CA6894C2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689C7-86BE-4573-AC9C-A2DB8D69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FE7AE-1A6E-40F6-9CED-F36ECB3D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61A58-0B9C-4D9B-B004-ADA0D606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DE3CB-F779-456A-B9F0-563C0329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732A-2F47-4BD1-A96E-B989E47796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89E7-A524-4EC0-9FFA-DAE3EE0A1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6, 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7, 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5, 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4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2"/>
          <p:cNvSpPr/>
          <p:nvPr/>
        </p:nvSpPr>
        <p:spPr>
          <a:xfrm rot="1621200">
            <a:off x="2146320" y="4433400"/>
            <a:ext cx="685800" cy="53352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337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600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2514600" y="50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2514600" y="3733920"/>
            <a:ext cx="83808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4, 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5, 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3, 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2, y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 rot="1621200">
            <a:off x="2819160" y="2361960"/>
            <a:ext cx="68580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590920" y="1828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21337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28954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>
            <a:off x="3048120" y="2743200"/>
            <a:ext cx="53316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-clas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 Projec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C:\Users\grosso\AppData\Local\Microsoft\Windows\Temporary Internet Files\Content.IE5\YH7D04NZ\MCj02903430000[1].wmf"/>
          <p:cNvPicPr/>
          <p:nvPr/>
        </p:nvPicPr>
        <p:blipFill>
          <a:blip r:embed="rId3"/>
          <a:stretch/>
        </p:blipFill>
        <p:spPr>
          <a:xfrm>
            <a:off x="2209680" y="1676520"/>
            <a:ext cx="1579680" cy="2670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C:\Users\grosso\AppData\Local\Microsoft\Windows\Temporary Internet Files\Content.IE5\YH7D04NZ\MCj02903430000[1].wmf"/>
          <p:cNvPicPr/>
          <p:nvPr/>
        </p:nvPicPr>
        <p:blipFill>
          <a:blip r:embed="rId4"/>
          <a:stretch/>
        </p:blipFill>
        <p:spPr>
          <a:xfrm>
            <a:off x="4191120" y="3505320"/>
            <a:ext cx="1579320" cy="26701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0"/>
          <p:cNvSpPr/>
          <p:nvPr/>
        </p:nvSpPr>
        <p:spPr>
          <a:xfrm>
            <a:off x="304920" y="380880"/>
            <a:ext cx="350496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6, y -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06668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33"/>
          <p:cNvCxnSpPr/>
          <p:nvPr/>
        </p:nvCxnSpPr>
        <p:spPr>
          <a:xfrm>
            <a:off x="2999160" y="1676520"/>
            <a:ext cx="18774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Straight Arrow Connector 37"/>
          <p:cNvCxnSpPr/>
          <p:nvPr/>
        </p:nvCxnSpPr>
        <p:spPr>
          <a:xfrm>
            <a:off x="4875840" y="1676520"/>
            <a:ext cx="29160" cy="1829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form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t is a change that occurs that maps or moves a shape in a specific directions onto an image. These are translations, rotations, reflections, and di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-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transformation that “slides” a shape to another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“slide” a shape up, down, right, left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 y)            ( x + 2,  y -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4"/>
          <p:cNvCxnSpPr/>
          <p:nvPr/>
        </p:nvCxnSpPr>
        <p:spPr>
          <a:xfrm>
            <a:off x="1600200" y="464832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7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Line 9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 rot="1621200">
            <a:off x="5029200" y="304776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4876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4419720" y="3276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4864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3809520" y="32004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 rot="1621200">
            <a:off x="3350880" y="3057480"/>
            <a:ext cx="681120" cy="5986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5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6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3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43828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182880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28954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H="1">
            <a:off x="2819160" y="32004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0"/>
          <p:cNvSpPr/>
          <p:nvPr/>
        </p:nvSpPr>
        <p:spPr>
          <a:xfrm rot="1621200">
            <a:off x="2362320" y="3048120"/>
            <a:ext cx="695160" cy="617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 rot="1621200">
            <a:off x="3363480" y="3008160"/>
            <a:ext cx="690480" cy="6303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rot="1621200">
            <a:off x="3362040" y="4349520"/>
            <a:ext cx="706320" cy="5950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30481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8195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0988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505320" y="358128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0492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16002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1621200">
            <a:off x="3344400" y="3003120"/>
            <a:ext cx="708120" cy="658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 rot="1621200">
            <a:off x="3332160" y="1974600"/>
            <a:ext cx="706320" cy="6858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1240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124080" y="1676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7432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8098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3505320" y="2209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1, 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0, 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2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3, y -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 rot="1621200">
            <a:off x="4419720" y="411444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4495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37339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480060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9"/>
          <p:cNvSpPr/>
          <p:nvPr/>
        </p:nvSpPr>
        <p:spPr>
          <a:xfrm flipH="1" flipV="1">
            <a:off x="3962160" y="3809880"/>
            <a:ext cx="533160" cy="45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 rot="1621200">
            <a:off x="5041440" y="2575080"/>
            <a:ext cx="638280" cy="604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95288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49568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54864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9:24:48Z</dcterms:created>
  <dc:creator>GFR</dc:creator>
  <dc:description/>
  <dc:language>en-US</dc:language>
  <cp:lastModifiedBy>RomaK</cp:lastModifiedBy>
  <dcterms:modified xsi:type="dcterms:W3CDTF">2015-09-04T09:22:44Z</dcterms:modified>
  <cp:revision>38</cp:revision>
  <dc:subject/>
  <dc:title>Translations</dc:title>
</cp:coreProperties>
</file>