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42C2A-3780-4255-96D3-5D17F2CA68A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 (-6,  -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 (-7,  -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 (-5,  -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x, y)     (x - 4, y -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 (-6,  -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 (-7,  -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 (-5,  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(x - 4, y -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 (-4,  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 (-5, 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 (-3, 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x, y)     (x - 2, y +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 (-4,  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 (-5, 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 (-3, 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(x - 2, y +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-clas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lation Proj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n-clas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lation Proj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(x, y)     (x + 6, y - 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(x + 6, y - 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formations: It is a change that occurs that maps or moves a shape in a specific directions onto an image. These are translations, rotations, reflections, and dil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-image: The position of the shape before the change is ma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: The position of the shape after the change is ma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lation: A transformation that “slides” a shape to another loc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fini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s: It is a change that occurs that maps or moves a shape in a specific directions onto an image. These are translations, rotations, reflections, and di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-image: The position of the shape before the change is m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mage: The position of the shape after the change is m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ranslation: A transformation that “slides” a shape to another lo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lat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“slide” a shape up, down, right, left or 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b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, y)            ( x + 2,  y -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ransl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You “slide” a shape up, down, right, left or 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t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       ( x + 2,  y -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 (3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 (2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 (4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x, y)     (x + 5, y + 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 (3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 (2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 (4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(x + 5, y +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 (-5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 (-6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 (-4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x, y)     (x - 3, y + 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 (-5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 (-6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 (-4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(x - 3, y +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 (-2, -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 (-3, -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 (-1, -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x, y)     (x + 0, y -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 (-2, -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 (-3, -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 (-1, 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(x + 0, y -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 (-2, 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 (-3, 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 (-1,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x, y)     (x + 0, y +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 (-2, 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 (-3, 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 (-1,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(x + 0, y +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 (1,  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 (0, -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 (2, -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x, y)     (x + 3, y -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 (1, 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 (0, -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 (2, -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(x + 3, y -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 (3,  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 (2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 (4, 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x, y)     (x + 5, y +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 (3,  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 (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 (4, 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(x + 5, y +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1965D-0DC2-4285-A655-BB4252FA4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31790-3BF2-4804-8BCC-DBF5AC815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CA3F3-593C-4C79-9089-9770DA2DA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A6AEA-414D-4FAD-89A6-C82DB158F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4C89F-1240-430F-B9B4-8F1810708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F36F5-AB3A-49A9-BC24-DAD39157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4D9D4-7059-40AC-B945-D9FABE450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29145-168F-43F2-A61A-FFAFC8DE1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FEBF9-7EE0-4ADC-8B41-FB0B0A09B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1058D-AC01-4B40-B340-1801E4308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78BE1-4545-4759-9C3D-775E17E8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96B96-4622-4F79-825A-8ED9AF36D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608CB-58DC-4799-A0A5-971C6833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571AA-6B58-4748-85E4-B22991F7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7B49B-45F6-446D-A059-DF3A9015D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26EE2-15EF-4FA7-8CCD-C0F63071A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0F3D0-77EE-4EB9-899D-D528A3464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7088C-FA9D-488D-B088-CDC5859C2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7F2E6-39C3-48D5-8902-33CCF2865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D39CD-F930-4DC6-BE6C-CAF798ED1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F48C6-C2EC-43E2-A308-C55C9254A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28173-34C5-4C8E-8773-0B3D31D5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ACFA1-7B53-46BB-8FDA-96E418FC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E5F9F-6589-451B-B43B-42DC2AC9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71DA-2F34-4B54-BCA6-252F5523B7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4D2D3-2B2E-4C9A-B513-C3F0B3D36C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Translation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Object 2"/>
          <p:cNvGraphicFramePr/>
          <p:nvPr/>
        </p:nvGraphicFramePr>
        <p:xfrm>
          <a:off x="1679400" y="914400"/>
          <a:ext cx="54896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9400" y="914400"/>
                    <a:ext cx="5489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Line 3"/>
          <p:cNvSpPr/>
          <p:nvPr/>
        </p:nvSpPr>
        <p:spPr>
          <a:xfrm>
            <a:off x="1981080" y="4038480"/>
            <a:ext cx="4876920" cy="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4"/>
          <p:cNvSpPr/>
          <p:nvPr/>
        </p:nvSpPr>
        <p:spPr>
          <a:xfrm flipV="1">
            <a:off x="4267080" y="1219320"/>
            <a:ext cx="0" cy="502920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68580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411480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7"/>
          <p:cNvSpPr/>
          <p:nvPr/>
        </p:nvSpPr>
        <p:spPr>
          <a:xfrm rot="1621200">
            <a:off x="3429000" y="3047760"/>
            <a:ext cx="706320" cy="65088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380880" y="4495680"/>
            <a:ext cx="1371600" cy="1789920"/>
          </a:xfrm>
          <a:prstGeom prst="rect">
            <a:avLst/>
          </a:prstGeom>
          <a:solidFill>
            <a:srgbClr val="0000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Pre-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 (-2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 (-3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 (-1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7315200" y="4572000"/>
            <a:ext cx="1371600" cy="17899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’ (-6,  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’ (-7,  -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’ (-5,  -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380880" y="304920"/>
            <a:ext cx="3505320" cy="10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x, y)     (x - 4, y -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1"/>
          <p:cNvSpPr/>
          <p:nvPr/>
        </p:nvSpPr>
        <p:spPr>
          <a:xfrm>
            <a:off x="121932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12"/>
          <p:cNvSpPr/>
          <p:nvPr/>
        </p:nvSpPr>
        <p:spPr>
          <a:xfrm rot="1621200">
            <a:off x="2146320" y="4433400"/>
            <a:ext cx="685800" cy="53352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34290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28954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5"/>
          <p:cNvSpPr/>
          <p:nvPr/>
        </p:nvSpPr>
        <p:spPr>
          <a:xfrm>
            <a:off x="380988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2133720" y="40384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7"/>
          <p:cNvSpPr/>
          <p:nvPr/>
        </p:nvSpPr>
        <p:spPr>
          <a:xfrm>
            <a:off x="1600200" y="4648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8"/>
          <p:cNvSpPr/>
          <p:nvPr/>
        </p:nvSpPr>
        <p:spPr>
          <a:xfrm>
            <a:off x="2514600" y="5029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9"/>
          <p:cNvSpPr/>
          <p:nvPr/>
        </p:nvSpPr>
        <p:spPr>
          <a:xfrm flipV="1">
            <a:off x="2514600" y="3733920"/>
            <a:ext cx="838080" cy="76176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2" name="Object 2"/>
          <p:cNvGraphicFramePr/>
          <p:nvPr/>
        </p:nvGraphicFramePr>
        <p:xfrm>
          <a:off x="1679400" y="914400"/>
          <a:ext cx="54896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9400" y="914400"/>
                    <a:ext cx="5489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Line 3"/>
          <p:cNvSpPr/>
          <p:nvPr/>
        </p:nvSpPr>
        <p:spPr>
          <a:xfrm>
            <a:off x="1981080" y="4038480"/>
            <a:ext cx="4876920" cy="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4"/>
          <p:cNvSpPr/>
          <p:nvPr/>
        </p:nvSpPr>
        <p:spPr>
          <a:xfrm flipV="1">
            <a:off x="4267080" y="1219320"/>
            <a:ext cx="0" cy="502920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68580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411480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7"/>
          <p:cNvSpPr/>
          <p:nvPr/>
        </p:nvSpPr>
        <p:spPr>
          <a:xfrm rot="1621200">
            <a:off x="3429000" y="3047760"/>
            <a:ext cx="706320" cy="65088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380880" y="4495680"/>
            <a:ext cx="1371600" cy="1789920"/>
          </a:xfrm>
          <a:prstGeom prst="rect">
            <a:avLst/>
          </a:prstGeom>
          <a:solidFill>
            <a:srgbClr val="0000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Pre-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 (-2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 (-3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 (-1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7315200" y="4572000"/>
            <a:ext cx="1371600" cy="17899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’ (-4,  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’ (-5, 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’ (-3, 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0"/>
          <p:cNvSpPr/>
          <p:nvPr/>
        </p:nvSpPr>
        <p:spPr>
          <a:xfrm>
            <a:off x="380880" y="304920"/>
            <a:ext cx="3505320" cy="10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x, y)     (x - 2, y +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1"/>
          <p:cNvSpPr/>
          <p:nvPr/>
        </p:nvSpPr>
        <p:spPr>
          <a:xfrm>
            <a:off x="121932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12"/>
          <p:cNvSpPr/>
          <p:nvPr/>
        </p:nvSpPr>
        <p:spPr>
          <a:xfrm rot="1621200">
            <a:off x="2819160" y="2361960"/>
            <a:ext cx="685800" cy="53316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3"/>
          <p:cNvSpPr/>
          <p:nvPr/>
        </p:nvSpPr>
        <p:spPr>
          <a:xfrm>
            <a:off x="34290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4"/>
          <p:cNvSpPr/>
          <p:nvPr/>
        </p:nvSpPr>
        <p:spPr>
          <a:xfrm>
            <a:off x="28954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5"/>
          <p:cNvSpPr/>
          <p:nvPr/>
        </p:nvSpPr>
        <p:spPr>
          <a:xfrm>
            <a:off x="380988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6"/>
          <p:cNvSpPr/>
          <p:nvPr/>
        </p:nvSpPr>
        <p:spPr>
          <a:xfrm>
            <a:off x="2590920" y="18288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7"/>
          <p:cNvSpPr/>
          <p:nvPr/>
        </p:nvSpPr>
        <p:spPr>
          <a:xfrm>
            <a:off x="2133720" y="25909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8"/>
          <p:cNvSpPr/>
          <p:nvPr/>
        </p:nvSpPr>
        <p:spPr>
          <a:xfrm>
            <a:off x="2895480" y="2895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9"/>
          <p:cNvSpPr/>
          <p:nvPr/>
        </p:nvSpPr>
        <p:spPr>
          <a:xfrm>
            <a:off x="3048120" y="2743200"/>
            <a:ext cx="533160" cy="6094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In-class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Translation Project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" name="Object 2"/>
          <p:cNvGraphicFramePr/>
          <p:nvPr/>
        </p:nvGraphicFramePr>
        <p:xfrm>
          <a:off x="1679400" y="914400"/>
          <a:ext cx="54896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9400" y="914400"/>
                    <a:ext cx="5489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Line 3"/>
          <p:cNvSpPr/>
          <p:nvPr/>
        </p:nvSpPr>
        <p:spPr>
          <a:xfrm>
            <a:off x="1981080" y="4038480"/>
            <a:ext cx="4876920" cy="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4"/>
          <p:cNvSpPr/>
          <p:nvPr/>
        </p:nvSpPr>
        <p:spPr>
          <a:xfrm flipV="1">
            <a:off x="4267080" y="1219320"/>
            <a:ext cx="0" cy="502920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68580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411480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4" descr="C:\Users\grosso\AppData\Local\Microsoft\Windows\Temporary Internet Files\Content.IE5\YH7D04NZ\MCj02903430000[1].wmf"/>
          <p:cNvPicPr/>
          <p:nvPr/>
        </p:nvPicPr>
        <p:blipFill>
          <a:blip r:embed="rId3"/>
          <a:stretch/>
        </p:blipFill>
        <p:spPr>
          <a:xfrm>
            <a:off x="2209680" y="1676520"/>
            <a:ext cx="1579680" cy="26701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C:\Users\grosso\AppData\Local\Microsoft\Windows\Temporary Internet Files\Content.IE5\YH7D04NZ\MCj02903430000[1].wmf"/>
          <p:cNvPicPr/>
          <p:nvPr/>
        </p:nvPicPr>
        <p:blipFill>
          <a:blip r:embed="rId4"/>
          <a:stretch/>
        </p:blipFill>
        <p:spPr>
          <a:xfrm>
            <a:off x="4191120" y="3505320"/>
            <a:ext cx="1579320" cy="267012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10"/>
          <p:cNvSpPr/>
          <p:nvPr/>
        </p:nvSpPr>
        <p:spPr>
          <a:xfrm>
            <a:off x="304920" y="380880"/>
            <a:ext cx="3504960" cy="10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x, y)     (x + 6, y - 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1"/>
          <p:cNvSpPr/>
          <p:nvPr/>
        </p:nvSpPr>
        <p:spPr>
          <a:xfrm>
            <a:off x="1066680" y="1219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" name="Straight Arrow Connector 33"/>
          <p:cNvCxnSpPr/>
          <p:nvPr/>
        </p:nvCxnSpPr>
        <p:spPr>
          <a:xfrm>
            <a:off x="2999160" y="1676520"/>
            <a:ext cx="1877400" cy="2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Straight Arrow Connector 37"/>
          <p:cNvCxnSpPr/>
          <p:nvPr/>
        </p:nvCxnSpPr>
        <p:spPr>
          <a:xfrm>
            <a:off x="4875840" y="1676520"/>
            <a:ext cx="29160" cy="18295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9903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form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It is a change that occurs that maps or moves a shape in a specific directions onto an image. These are translations, rotations, reflections, and dil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e-im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 position of the shap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befo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change is m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m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 position of the shap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af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change is m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l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transformation that “slides” a shape to another lo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la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“slide” a shape up, down, right, left or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, y)            ( x + 2,  y -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Straight Arrow Connector 4"/>
          <p:cNvCxnSpPr/>
          <p:nvPr/>
        </p:nvCxnSpPr>
        <p:spPr>
          <a:xfrm>
            <a:off x="1600200" y="4648320"/>
            <a:ext cx="838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Object 7"/>
          <p:cNvGraphicFramePr/>
          <p:nvPr/>
        </p:nvGraphicFramePr>
        <p:xfrm>
          <a:off x="1679400" y="914400"/>
          <a:ext cx="54896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9400" y="914400"/>
                    <a:ext cx="5489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Line 9"/>
          <p:cNvSpPr/>
          <p:nvPr/>
        </p:nvSpPr>
        <p:spPr>
          <a:xfrm>
            <a:off x="1981080" y="4038480"/>
            <a:ext cx="4876920" cy="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0"/>
          <p:cNvSpPr/>
          <p:nvPr/>
        </p:nvSpPr>
        <p:spPr>
          <a:xfrm flipV="1">
            <a:off x="4267080" y="1219320"/>
            <a:ext cx="0" cy="502920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68580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411480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3"/>
          <p:cNvSpPr/>
          <p:nvPr/>
        </p:nvSpPr>
        <p:spPr>
          <a:xfrm rot="1621200">
            <a:off x="3429000" y="3047760"/>
            <a:ext cx="706320" cy="65088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4"/>
          <p:cNvSpPr/>
          <p:nvPr/>
        </p:nvSpPr>
        <p:spPr>
          <a:xfrm>
            <a:off x="380880" y="4495680"/>
            <a:ext cx="1371600" cy="1789920"/>
          </a:xfrm>
          <a:prstGeom prst="rect">
            <a:avLst/>
          </a:prstGeom>
          <a:solidFill>
            <a:srgbClr val="0000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Pre-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 (-2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 (-3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 (-1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7315200" y="4572000"/>
            <a:ext cx="1371600" cy="17899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’ (3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’ (2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’ (4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380880" y="304920"/>
            <a:ext cx="3505320" cy="10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x, y)     (x + 5, y +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8"/>
          <p:cNvSpPr/>
          <p:nvPr/>
        </p:nvSpPr>
        <p:spPr>
          <a:xfrm>
            <a:off x="121932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9"/>
          <p:cNvSpPr/>
          <p:nvPr/>
        </p:nvSpPr>
        <p:spPr>
          <a:xfrm rot="1621200">
            <a:off x="5029200" y="3047760"/>
            <a:ext cx="706320" cy="65088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0"/>
          <p:cNvSpPr/>
          <p:nvPr/>
        </p:nvSpPr>
        <p:spPr>
          <a:xfrm>
            <a:off x="34290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1"/>
          <p:cNvSpPr/>
          <p:nvPr/>
        </p:nvSpPr>
        <p:spPr>
          <a:xfrm>
            <a:off x="28954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2"/>
          <p:cNvSpPr/>
          <p:nvPr/>
        </p:nvSpPr>
        <p:spPr>
          <a:xfrm>
            <a:off x="380988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3"/>
          <p:cNvSpPr/>
          <p:nvPr/>
        </p:nvSpPr>
        <p:spPr>
          <a:xfrm>
            <a:off x="4876920" y="25909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4"/>
          <p:cNvSpPr/>
          <p:nvPr/>
        </p:nvSpPr>
        <p:spPr>
          <a:xfrm>
            <a:off x="4419720" y="32767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5"/>
          <p:cNvSpPr/>
          <p:nvPr/>
        </p:nvSpPr>
        <p:spPr>
          <a:xfrm>
            <a:off x="548640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6"/>
          <p:cNvSpPr/>
          <p:nvPr/>
        </p:nvSpPr>
        <p:spPr>
          <a:xfrm flipH="1">
            <a:off x="3809520" y="320040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Object 2"/>
          <p:cNvGraphicFramePr/>
          <p:nvPr/>
        </p:nvGraphicFramePr>
        <p:xfrm>
          <a:off x="1603440" y="914400"/>
          <a:ext cx="54896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3440" y="914400"/>
                    <a:ext cx="5489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Line 3"/>
          <p:cNvSpPr/>
          <p:nvPr/>
        </p:nvSpPr>
        <p:spPr>
          <a:xfrm>
            <a:off x="1981080" y="4038480"/>
            <a:ext cx="4876920" cy="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4"/>
          <p:cNvSpPr/>
          <p:nvPr/>
        </p:nvSpPr>
        <p:spPr>
          <a:xfrm flipV="1">
            <a:off x="4191120" y="1219320"/>
            <a:ext cx="0" cy="502920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68580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411480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7"/>
          <p:cNvSpPr/>
          <p:nvPr/>
        </p:nvSpPr>
        <p:spPr>
          <a:xfrm rot="1621200">
            <a:off x="3350880" y="3057480"/>
            <a:ext cx="681120" cy="59868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380880" y="4495680"/>
            <a:ext cx="1371600" cy="1789920"/>
          </a:xfrm>
          <a:prstGeom prst="rect">
            <a:avLst/>
          </a:prstGeom>
          <a:solidFill>
            <a:srgbClr val="0000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Pre-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 (-2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 (-3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 (-1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7315200" y="4572000"/>
            <a:ext cx="1371600" cy="17899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’ (-5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’ (-6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’ (-4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380880" y="304920"/>
            <a:ext cx="3505320" cy="10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x, y)     (x - 3, y +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1"/>
          <p:cNvSpPr/>
          <p:nvPr/>
        </p:nvSpPr>
        <p:spPr>
          <a:xfrm>
            <a:off x="121932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34290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4"/>
          <p:cNvSpPr/>
          <p:nvPr/>
        </p:nvSpPr>
        <p:spPr>
          <a:xfrm>
            <a:off x="28954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380988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6"/>
          <p:cNvSpPr/>
          <p:nvPr/>
        </p:nvSpPr>
        <p:spPr>
          <a:xfrm>
            <a:off x="2438280" y="2590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7"/>
          <p:cNvSpPr/>
          <p:nvPr/>
        </p:nvSpPr>
        <p:spPr>
          <a:xfrm>
            <a:off x="1828800" y="32004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8"/>
          <p:cNvSpPr/>
          <p:nvPr/>
        </p:nvSpPr>
        <p:spPr>
          <a:xfrm>
            <a:off x="289548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9"/>
          <p:cNvSpPr/>
          <p:nvPr/>
        </p:nvSpPr>
        <p:spPr>
          <a:xfrm flipH="1">
            <a:off x="2819160" y="3200400"/>
            <a:ext cx="6094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20"/>
          <p:cNvSpPr/>
          <p:nvPr/>
        </p:nvSpPr>
        <p:spPr>
          <a:xfrm rot="1621200">
            <a:off x="2362320" y="3048120"/>
            <a:ext cx="695160" cy="61740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Object 2"/>
          <p:cNvGraphicFramePr/>
          <p:nvPr/>
        </p:nvGraphicFramePr>
        <p:xfrm>
          <a:off x="1603440" y="914400"/>
          <a:ext cx="54896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3440" y="914400"/>
                    <a:ext cx="5489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Line 3"/>
          <p:cNvSpPr/>
          <p:nvPr/>
        </p:nvSpPr>
        <p:spPr>
          <a:xfrm>
            <a:off x="1981080" y="4038480"/>
            <a:ext cx="4876920" cy="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4"/>
          <p:cNvSpPr/>
          <p:nvPr/>
        </p:nvSpPr>
        <p:spPr>
          <a:xfrm flipV="1">
            <a:off x="4191120" y="1219320"/>
            <a:ext cx="0" cy="502920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68580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411480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7"/>
          <p:cNvSpPr/>
          <p:nvPr/>
        </p:nvSpPr>
        <p:spPr>
          <a:xfrm rot="1621200">
            <a:off x="3363480" y="3008160"/>
            <a:ext cx="690480" cy="63036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7315200" y="4572000"/>
            <a:ext cx="1371600" cy="17899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’ (-2, 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’ (-3, -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’ (-1, -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380880" y="304920"/>
            <a:ext cx="3505320" cy="10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x, y)     (x + 0, y -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1"/>
          <p:cNvSpPr/>
          <p:nvPr/>
        </p:nvSpPr>
        <p:spPr>
          <a:xfrm>
            <a:off x="121932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2"/>
          <p:cNvSpPr/>
          <p:nvPr/>
        </p:nvSpPr>
        <p:spPr>
          <a:xfrm rot="1621200">
            <a:off x="3362040" y="4349520"/>
            <a:ext cx="706320" cy="59508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3"/>
          <p:cNvSpPr/>
          <p:nvPr/>
        </p:nvSpPr>
        <p:spPr>
          <a:xfrm>
            <a:off x="34290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28954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5"/>
          <p:cNvSpPr/>
          <p:nvPr/>
        </p:nvSpPr>
        <p:spPr>
          <a:xfrm>
            <a:off x="380988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6"/>
          <p:cNvSpPr/>
          <p:nvPr/>
        </p:nvSpPr>
        <p:spPr>
          <a:xfrm>
            <a:off x="3048120" y="40384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2819520" y="4648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8"/>
          <p:cNvSpPr/>
          <p:nvPr/>
        </p:nvSpPr>
        <p:spPr>
          <a:xfrm>
            <a:off x="3809880" y="4952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9"/>
          <p:cNvSpPr/>
          <p:nvPr/>
        </p:nvSpPr>
        <p:spPr>
          <a:xfrm>
            <a:off x="3505320" y="3581280"/>
            <a:ext cx="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304920" y="4495680"/>
            <a:ext cx="1371600" cy="1789920"/>
          </a:xfrm>
          <a:prstGeom prst="rect">
            <a:avLst/>
          </a:prstGeom>
          <a:solidFill>
            <a:srgbClr val="0000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Pre-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 (-2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 (-3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 (-1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Object 2"/>
          <p:cNvGraphicFramePr/>
          <p:nvPr/>
        </p:nvGraphicFramePr>
        <p:xfrm>
          <a:off x="1600200" y="914400"/>
          <a:ext cx="54896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914400"/>
                    <a:ext cx="5489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Line 3"/>
          <p:cNvSpPr/>
          <p:nvPr/>
        </p:nvSpPr>
        <p:spPr>
          <a:xfrm>
            <a:off x="1981080" y="4038480"/>
            <a:ext cx="4876920" cy="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4"/>
          <p:cNvSpPr/>
          <p:nvPr/>
        </p:nvSpPr>
        <p:spPr>
          <a:xfrm flipV="1">
            <a:off x="4191120" y="1219320"/>
            <a:ext cx="0" cy="502920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68580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411480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7"/>
          <p:cNvSpPr/>
          <p:nvPr/>
        </p:nvSpPr>
        <p:spPr>
          <a:xfrm rot="1621200">
            <a:off x="3344400" y="3003120"/>
            <a:ext cx="708120" cy="65880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380880" y="4495680"/>
            <a:ext cx="1371600" cy="1789920"/>
          </a:xfrm>
          <a:prstGeom prst="rect">
            <a:avLst/>
          </a:prstGeom>
          <a:solidFill>
            <a:srgbClr val="0000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Pre-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 (-2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 (-3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 (-1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7315200" y="4572000"/>
            <a:ext cx="1371600" cy="17899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’ (-2, 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’ (-3, 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’ (-1,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380880" y="304920"/>
            <a:ext cx="3505320" cy="10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x, y)     (x + 0, y +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1"/>
          <p:cNvSpPr/>
          <p:nvPr/>
        </p:nvSpPr>
        <p:spPr>
          <a:xfrm>
            <a:off x="121932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2"/>
          <p:cNvSpPr/>
          <p:nvPr/>
        </p:nvSpPr>
        <p:spPr>
          <a:xfrm rot="1621200">
            <a:off x="3332160" y="1974600"/>
            <a:ext cx="706320" cy="68580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312408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4"/>
          <p:cNvSpPr/>
          <p:nvPr/>
        </p:nvSpPr>
        <p:spPr>
          <a:xfrm>
            <a:off x="28954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380988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3124080" y="16765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7"/>
          <p:cNvSpPr/>
          <p:nvPr/>
        </p:nvSpPr>
        <p:spPr>
          <a:xfrm>
            <a:off x="2743200" y="2209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8"/>
          <p:cNvSpPr/>
          <p:nvPr/>
        </p:nvSpPr>
        <p:spPr>
          <a:xfrm>
            <a:off x="380988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9"/>
          <p:cNvSpPr/>
          <p:nvPr/>
        </p:nvSpPr>
        <p:spPr>
          <a:xfrm flipV="1">
            <a:off x="3505320" y="2209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Object 2"/>
          <p:cNvGraphicFramePr/>
          <p:nvPr/>
        </p:nvGraphicFramePr>
        <p:xfrm>
          <a:off x="1679400" y="914400"/>
          <a:ext cx="54896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9400" y="914400"/>
                    <a:ext cx="5489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Line 3"/>
          <p:cNvSpPr/>
          <p:nvPr/>
        </p:nvSpPr>
        <p:spPr>
          <a:xfrm>
            <a:off x="1981080" y="4038480"/>
            <a:ext cx="4876920" cy="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4"/>
          <p:cNvSpPr/>
          <p:nvPr/>
        </p:nvSpPr>
        <p:spPr>
          <a:xfrm flipV="1">
            <a:off x="4267080" y="1219320"/>
            <a:ext cx="0" cy="502920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68580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411480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7"/>
          <p:cNvSpPr/>
          <p:nvPr/>
        </p:nvSpPr>
        <p:spPr>
          <a:xfrm rot="1621200">
            <a:off x="3429000" y="3047760"/>
            <a:ext cx="706320" cy="65088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380880" y="4495680"/>
            <a:ext cx="1371600" cy="1789920"/>
          </a:xfrm>
          <a:prstGeom prst="rect">
            <a:avLst/>
          </a:prstGeom>
          <a:solidFill>
            <a:srgbClr val="0000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Pre-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 (-2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 (-3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 (-1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7315200" y="4572000"/>
            <a:ext cx="1371600" cy="17899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’ (1, 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’ (0, -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’ (2, -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380880" y="304920"/>
            <a:ext cx="3505320" cy="10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x, y)     (x + 3, y -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1"/>
          <p:cNvSpPr/>
          <p:nvPr/>
        </p:nvSpPr>
        <p:spPr>
          <a:xfrm>
            <a:off x="121932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2"/>
          <p:cNvSpPr/>
          <p:nvPr/>
        </p:nvSpPr>
        <p:spPr>
          <a:xfrm rot="1621200">
            <a:off x="4419720" y="4114440"/>
            <a:ext cx="706320" cy="65088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3"/>
          <p:cNvSpPr/>
          <p:nvPr/>
        </p:nvSpPr>
        <p:spPr>
          <a:xfrm>
            <a:off x="34290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4"/>
          <p:cNvSpPr/>
          <p:nvPr/>
        </p:nvSpPr>
        <p:spPr>
          <a:xfrm>
            <a:off x="28954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5"/>
          <p:cNvSpPr/>
          <p:nvPr/>
        </p:nvSpPr>
        <p:spPr>
          <a:xfrm>
            <a:off x="380988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6"/>
          <p:cNvSpPr/>
          <p:nvPr/>
        </p:nvSpPr>
        <p:spPr>
          <a:xfrm>
            <a:off x="4495680" y="3733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7"/>
          <p:cNvSpPr/>
          <p:nvPr/>
        </p:nvSpPr>
        <p:spPr>
          <a:xfrm>
            <a:off x="3733920" y="43434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8"/>
          <p:cNvSpPr/>
          <p:nvPr/>
        </p:nvSpPr>
        <p:spPr>
          <a:xfrm>
            <a:off x="4800600" y="4724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9"/>
          <p:cNvSpPr/>
          <p:nvPr/>
        </p:nvSpPr>
        <p:spPr>
          <a:xfrm flipH="1" flipV="1">
            <a:off x="3962160" y="3809880"/>
            <a:ext cx="533160" cy="45720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Object 2"/>
          <p:cNvGraphicFramePr/>
          <p:nvPr/>
        </p:nvGraphicFramePr>
        <p:xfrm>
          <a:off x="1679400" y="914400"/>
          <a:ext cx="54896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9400" y="914400"/>
                    <a:ext cx="5489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Line 3"/>
          <p:cNvSpPr/>
          <p:nvPr/>
        </p:nvSpPr>
        <p:spPr>
          <a:xfrm>
            <a:off x="1981080" y="4038480"/>
            <a:ext cx="4876920" cy="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4"/>
          <p:cNvSpPr/>
          <p:nvPr/>
        </p:nvSpPr>
        <p:spPr>
          <a:xfrm flipV="1">
            <a:off x="4267080" y="1219320"/>
            <a:ext cx="0" cy="502920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68580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411480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7"/>
          <p:cNvSpPr/>
          <p:nvPr/>
        </p:nvSpPr>
        <p:spPr>
          <a:xfrm rot="1621200">
            <a:off x="3429000" y="3047760"/>
            <a:ext cx="706320" cy="65088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380880" y="4495680"/>
            <a:ext cx="1371600" cy="1789920"/>
          </a:xfrm>
          <a:prstGeom prst="rect">
            <a:avLst/>
          </a:prstGeom>
          <a:solidFill>
            <a:srgbClr val="0000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Pre-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 (-2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 (-3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 (-1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7315200" y="4572000"/>
            <a:ext cx="1371600" cy="17899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’ (3,  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’ (2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’ (4, 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380880" y="304920"/>
            <a:ext cx="3505320" cy="10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x, y)     (x + 5, y +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1"/>
          <p:cNvSpPr/>
          <p:nvPr/>
        </p:nvSpPr>
        <p:spPr>
          <a:xfrm>
            <a:off x="121932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2"/>
          <p:cNvSpPr/>
          <p:nvPr/>
        </p:nvSpPr>
        <p:spPr>
          <a:xfrm rot="1621200">
            <a:off x="5041440" y="2575080"/>
            <a:ext cx="638280" cy="60480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3"/>
          <p:cNvSpPr/>
          <p:nvPr/>
        </p:nvSpPr>
        <p:spPr>
          <a:xfrm>
            <a:off x="34290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4"/>
          <p:cNvSpPr/>
          <p:nvPr/>
        </p:nvSpPr>
        <p:spPr>
          <a:xfrm>
            <a:off x="28954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5"/>
          <p:cNvSpPr/>
          <p:nvPr/>
        </p:nvSpPr>
        <p:spPr>
          <a:xfrm>
            <a:off x="380988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6"/>
          <p:cNvSpPr/>
          <p:nvPr/>
        </p:nvSpPr>
        <p:spPr>
          <a:xfrm>
            <a:off x="4952880" y="2133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7"/>
          <p:cNvSpPr/>
          <p:nvPr/>
        </p:nvSpPr>
        <p:spPr>
          <a:xfrm>
            <a:off x="4495680" y="2895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8"/>
          <p:cNvSpPr/>
          <p:nvPr/>
        </p:nvSpPr>
        <p:spPr>
          <a:xfrm>
            <a:off x="5486400" y="3200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9"/>
          <p:cNvSpPr/>
          <p:nvPr/>
        </p:nvSpPr>
        <p:spPr>
          <a:xfrm flipH="1">
            <a:off x="3809520" y="2819520"/>
            <a:ext cx="1143000" cy="53316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19:24:48Z</dcterms:created>
  <dc:creator>GFR</dc:creator>
  <dc:description/>
  <dc:language>en-US</dc:language>
  <cp:lastModifiedBy>RomaK</cp:lastModifiedBy>
  <dcterms:modified xsi:type="dcterms:W3CDTF">2015-09-04T09:22:44Z</dcterms:modified>
  <cp:revision>38</cp:revision>
  <dc:subject/>
  <dc:title>Translations</dc:title>
</cp:coreProperties>
</file>