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C471-FFC7-4C15-9402-87F07AA633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6,  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7, 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5,  -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4, y -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6,  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7, 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5,  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4, y -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4, 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5, 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3, 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2, y +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4, 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5, 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3, 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2, y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-cla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lation Proj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-cla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 Proj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(x, y)     (x + 6, y -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6, y -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s: It is a change that occurs that maps or moves a shape in a specific directions onto an image. These are translations, rotations, reflections, and dil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-image: The position of the shape before the change is m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: The position of the shape after the change is m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A transformation that “slides” a shape to another lo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s: It is a change that occurs that maps or moves a shape in a specific directions onto an image. These are translations, rotations, reflections, and di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: The position of the shape before the change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age: The position of the shape after the change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: A transformation that “slides” a shape to another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“slide” a shape up, down, right, left or 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, y)            ( x + 2,  y -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“slide” a shape up, down, right, left 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       ( x + 2,  y -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3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2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4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5, y +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3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2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5, y +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5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6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4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3, y +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5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6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3, y +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2, 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3,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1, -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0, y -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2, 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3,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1, 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0, y -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2,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3,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1,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0, y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2,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3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1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0, y +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1, 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0, 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2,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3, y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1, 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0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2,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3, y -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3, 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4, 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5, y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3, 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4, 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5, y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73E4D-59BB-4EF6-B8AD-D8AF5082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D8768-D654-4C54-A002-D90CAF10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3CA3A-4AA9-4D1B-9A56-3BCFCDC0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DFF54-DDAF-46A6-A795-4365B666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829F-404D-489C-AE2B-E37C0A2F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8323-0F0B-4618-9A83-3CAB52D8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802E-32BF-4709-B1B8-6B72AA2F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6E9F-FC6E-4CC4-90FA-B1591B6D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81A8-D251-47E0-8ECF-5C7E955A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272A-F859-443A-8BD8-DFDA08E2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8506-4F30-4951-BF48-6CA10DEF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C17DD-E71A-496C-9A78-07E0F2CB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4951-1197-4695-9337-DFA2AD8E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44EA-D752-440C-80E5-48681C4C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A161-083C-4CE6-AEFD-AC8295C6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D912-4FCF-41ED-B33E-AB0EFC6B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D29D-6A37-4A7A-A5CD-DD99A1E0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221E9-C63C-4EC6-91A2-2B156D20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9580B-6B80-4CD7-812C-694A76AE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09E02-3016-4B88-99F7-C36A890D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2754A-3E4A-4B8F-A2C4-52081D25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AA4A3-1228-429F-8222-7516F800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59177-D73F-4F9E-A3B4-973C5AE3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7EFC2-332A-4461-ADC4-2687FC38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656F-1BCA-40FA-B457-0587BB8074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33CF-5872-401B-AC7D-2031FD4ED6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ansla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6, 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7, 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5, 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4, y -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2"/>
          <p:cNvSpPr/>
          <p:nvPr/>
        </p:nvSpPr>
        <p:spPr>
          <a:xfrm rot="1621200">
            <a:off x="2146320" y="4433400"/>
            <a:ext cx="685800" cy="53352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337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16002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2514600" y="5029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V="1">
            <a:off x="2514600" y="3733920"/>
            <a:ext cx="83808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4, 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5, 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3, 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2, y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2"/>
          <p:cNvSpPr/>
          <p:nvPr/>
        </p:nvSpPr>
        <p:spPr>
          <a:xfrm rot="1621200">
            <a:off x="2819160" y="2361960"/>
            <a:ext cx="685800" cy="5331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2590920" y="1828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21337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28954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>
            <a:off x="3048120" y="2743200"/>
            <a:ext cx="533160" cy="609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-clas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anslation Projec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C:\Users\grosso\AppData\Local\Microsoft\Windows\Temporary Internet Files\Content.IE5\YH7D04NZ\MCj02903430000[1].wmf"/>
          <p:cNvPicPr/>
          <p:nvPr/>
        </p:nvPicPr>
        <p:blipFill>
          <a:blip r:embed="rId3"/>
          <a:stretch/>
        </p:blipFill>
        <p:spPr>
          <a:xfrm>
            <a:off x="2209680" y="1676520"/>
            <a:ext cx="1579680" cy="2670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C:\Users\grosso\AppData\Local\Microsoft\Windows\Temporary Internet Files\Content.IE5\YH7D04NZ\MCj02903430000[1].wmf"/>
          <p:cNvPicPr/>
          <p:nvPr/>
        </p:nvPicPr>
        <p:blipFill>
          <a:blip r:embed="rId4"/>
          <a:stretch/>
        </p:blipFill>
        <p:spPr>
          <a:xfrm>
            <a:off x="4191120" y="3505320"/>
            <a:ext cx="1579320" cy="26701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0"/>
          <p:cNvSpPr/>
          <p:nvPr/>
        </p:nvSpPr>
        <p:spPr>
          <a:xfrm>
            <a:off x="304920" y="380880"/>
            <a:ext cx="350496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6, y -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106668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33"/>
          <p:cNvCxnSpPr/>
          <p:nvPr/>
        </p:nvCxnSpPr>
        <p:spPr>
          <a:xfrm>
            <a:off x="2999160" y="1676520"/>
            <a:ext cx="18774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Straight Arrow Connector 37"/>
          <p:cNvCxnSpPr/>
          <p:nvPr/>
        </p:nvCxnSpPr>
        <p:spPr>
          <a:xfrm>
            <a:off x="4875840" y="1676520"/>
            <a:ext cx="29160" cy="1829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form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t is a change that occurs that maps or moves a shape in a specific directions onto an image. These are translations, rotations, reflections, and di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-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osition of the shap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ange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osition of the shap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ange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transformation that “slides” a shape to another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“slide” a shape up, down, right, left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 y)            ( x + 2,  y -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4"/>
          <p:cNvCxnSpPr/>
          <p:nvPr/>
        </p:nvCxnSpPr>
        <p:spPr>
          <a:xfrm>
            <a:off x="1600200" y="464832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7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Line 9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3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2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4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5, y +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"/>
          <p:cNvSpPr/>
          <p:nvPr/>
        </p:nvSpPr>
        <p:spPr>
          <a:xfrm rot="1621200">
            <a:off x="5029200" y="3047760"/>
            <a:ext cx="706320" cy="6508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48769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4419720" y="3276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48640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 flipH="1">
            <a:off x="3809520" y="32004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60344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 rot="1621200">
            <a:off x="3350880" y="3057480"/>
            <a:ext cx="681120" cy="5986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5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6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4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3, y +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243828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1828800" y="32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289548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 flipH="1">
            <a:off x="2819160" y="32004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0"/>
          <p:cNvSpPr/>
          <p:nvPr/>
        </p:nvSpPr>
        <p:spPr>
          <a:xfrm rot="1621200">
            <a:off x="2362320" y="3048120"/>
            <a:ext cx="695160" cy="6174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160344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 rot="1621200">
            <a:off x="3363480" y="3008160"/>
            <a:ext cx="690480" cy="6303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2,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3,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1,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0, y -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 rot="1621200">
            <a:off x="3362040" y="4349520"/>
            <a:ext cx="706320" cy="5950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30481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2819520" y="46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380988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505320" y="358128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0492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16002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 rot="1621200">
            <a:off x="3344400" y="3003120"/>
            <a:ext cx="708120" cy="6588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2,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3,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1,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0, y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2"/>
          <p:cNvSpPr/>
          <p:nvPr/>
        </p:nvSpPr>
        <p:spPr>
          <a:xfrm rot="1621200">
            <a:off x="3332160" y="1974600"/>
            <a:ext cx="706320" cy="6858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31240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3124080" y="1676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27432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38098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 flipV="1">
            <a:off x="3505320" y="2209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1, 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0, 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2,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3, y -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 rot="1621200">
            <a:off x="4419720" y="4114440"/>
            <a:ext cx="706320" cy="6508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4495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37339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4800600" y="47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9"/>
          <p:cNvSpPr/>
          <p:nvPr/>
        </p:nvSpPr>
        <p:spPr>
          <a:xfrm flipH="1" flipV="1">
            <a:off x="3962160" y="3809880"/>
            <a:ext cx="533160" cy="4572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3, 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4, 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5, y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2"/>
          <p:cNvSpPr/>
          <p:nvPr/>
        </p:nvSpPr>
        <p:spPr>
          <a:xfrm rot="1621200">
            <a:off x="5041440" y="2575080"/>
            <a:ext cx="638280" cy="6048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495288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4495680" y="2895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548640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9"/>
          <p:cNvSpPr/>
          <p:nvPr/>
        </p:nvSpPr>
        <p:spPr>
          <a:xfrm flipH="1">
            <a:off x="3809520" y="2819520"/>
            <a:ext cx="1143000" cy="5331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9:24:48Z</dcterms:created>
  <dc:creator>GFR</dc:creator>
  <dc:description/>
  <dc:language>en-US</dc:language>
  <cp:lastModifiedBy>RomaK</cp:lastModifiedBy>
  <dcterms:modified xsi:type="dcterms:W3CDTF">2015-09-04T09:22:44Z</dcterms:modified>
  <cp:revision>38</cp:revision>
  <dc:subject/>
  <dc:title>Translations</dc:title>
</cp:coreProperties>
</file>