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46A7-69B2-41A4-90D2-6A64CA1F42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0AC88-F6E8-47A3-B1B6-36F95C5A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853F2-6211-44D2-B97C-65515765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ECC1-E1D7-41FD-A180-B39699B3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4C3F3-15C5-4484-BD9B-90FE611A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705F-2688-4268-A6FD-EF80BD65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C6C7-6EAD-47DE-8082-62B43852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EC5D-2A66-4221-AFC5-80AC130B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9CE9-37FF-4C99-B38E-A660B736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3636-17DF-4195-A100-A13C1584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ED38-75F4-41F6-B493-5F2579FF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F870-A0BD-4D55-B008-D7470216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0ED4-C988-49CE-8F82-475D6214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D1C5-9D44-4B04-9DE3-CAC22D6C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FCAB-515F-41A2-A26F-E0926D75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42F2-3F71-42DA-8D1A-FE348865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C755-EEB2-49E9-87C8-5416A3BB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CD36-C522-45BF-9ED6-1D5C708C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7BF2D-8D35-4A3B-ABDC-15735499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2491-4663-45A7-B91E-0C372C19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64D5-E91D-4810-8BBF-21F644A8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4E86D-50FB-4869-A76A-4E888A55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543A-AFA7-4322-816E-53A3EAAA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C71A-565C-4F01-944D-17D68237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7101-AED7-4F8B-86C5-F239933D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8F72-3D71-4AB7-B45A-46FDADF979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832D-542B-4C77-B666-8229CA3BD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6, 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7, 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5, 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4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2"/>
          <p:cNvSpPr/>
          <p:nvPr/>
        </p:nvSpPr>
        <p:spPr>
          <a:xfrm rot="1621200">
            <a:off x="2146320" y="4433400"/>
            <a:ext cx="685800" cy="53352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337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600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2514600" y="50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2514600" y="3733920"/>
            <a:ext cx="83808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4, 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5, 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3, 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2, y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 rot="1621200">
            <a:off x="2819160" y="2361960"/>
            <a:ext cx="68580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590920" y="1828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21337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28954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>
            <a:off x="3048120" y="2743200"/>
            <a:ext cx="53316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-clas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 Projec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C:\Users\grosso\AppData\Local\Microsoft\Windows\Temporary Internet Files\Content.IE5\YH7D04NZ\MCj02903430000[1].wmf"/>
          <p:cNvPicPr/>
          <p:nvPr/>
        </p:nvPicPr>
        <p:blipFill>
          <a:blip r:embed="rId3"/>
          <a:stretch/>
        </p:blipFill>
        <p:spPr>
          <a:xfrm>
            <a:off x="2209680" y="1676520"/>
            <a:ext cx="1579680" cy="2670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C:\Users\grosso\AppData\Local\Microsoft\Windows\Temporary Internet Files\Content.IE5\YH7D04NZ\MCj02903430000[1].wmf"/>
          <p:cNvPicPr/>
          <p:nvPr/>
        </p:nvPicPr>
        <p:blipFill>
          <a:blip r:embed="rId4"/>
          <a:stretch/>
        </p:blipFill>
        <p:spPr>
          <a:xfrm>
            <a:off x="4191120" y="3505320"/>
            <a:ext cx="1579320" cy="26701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0"/>
          <p:cNvSpPr/>
          <p:nvPr/>
        </p:nvSpPr>
        <p:spPr>
          <a:xfrm>
            <a:off x="304920" y="380880"/>
            <a:ext cx="350496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6, y -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06668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33"/>
          <p:cNvCxnSpPr/>
          <p:nvPr/>
        </p:nvCxnSpPr>
        <p:spPr>
          <a:xfrm>
            <a:off x="2999160" y="1676520"/>
            <a:ext cx="18774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Straight Arrow Connector 37"/>
          <p:cNvCxnSpPr/>
          <p:nvPr/>
        </p:nvCxnSpPr>
        <p:spPr>
          <a:xfrm>
            <a:off x="4875840" y="1676520"/>
            <a:ext cx="29160" cy="1829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form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t is a change that occurs that maps or moves a shape in a specific directions onto an image. These are translations, rotations, reflections, and di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-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transformation that “slides” a shape to another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“slide” a shape up, down, right, left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 y)            ( x + 2,  y -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4"/>
          <p:cNvCxnSpPr/>
          <p:nvPr/>
        </p:nvCxnSpPr>
        <p:spPr>
          <a:xfrm>
            <a:off x="1600200" y="464832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7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Line 9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 rot="1621200">
            <a:off x="5029200" y="304776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4876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4419720" y="3276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4864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3809520" y="32004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 rot="1621200">
            <a:off x="3350880" y="3057480"/>
            <a:ext cx="681120" cy="5986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5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6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3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43828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182880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28954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H="1">
            <a:off x="2819160" y="32004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0"/>
          <p:cNvSpPr/>
          <p:nvPr/>
        </p:nvSpPr>
        <p:spPr>
          <a:xfrm rot="1621200">
            <a:off x="2362320" y="3048120"/>
            <a:ext cx="695160" cy="617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 rot="1621200">
            <a:off x="3363480" y="3008160"/>
            <a:ext cx="690480" cy="6303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rot="1621200">
            <a:off x="3362040" y="4349520"/>
            <a:ext cx="706320" cy="5950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30481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8195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0988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505320" y="358128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0492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16002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1621200">
            <a:off x="3344400" y="3003120"/>
            <a:ext cx="708120" cy="658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 rot="1621200">
            <a:off x="3332160" y="1974600"/>
            <a:ext cx="706320" cy="6858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1240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124080" y="1676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7432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8098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3505320" y="2209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1, 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0, 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2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3, y -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 rot="1621200">
            <a:off x="4419720" y="411444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4495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37339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480060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9"/>
          <p:cNvSpPr/>
          <p:nvPr/>
        </p:nvSpPr>
        <p:spPr>
          <a:xfrm flipH="1" flipV="1">
            <a:off x="3962160" y="3809880"/>
            <a:ext cx="533160" cy="45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 rot="1621200">
            <a:off x="5041440" y="2575080"/>
            <a:ext cx="638280" cy="604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95288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49568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54864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9:24:48Z</dcterms:created>
  <dc:creator>GFR</dc:creator>
  <dc:description/>
  <dc:language>en-US</dc:language>
  <cp:lastModifiedBy>RomaK</cp:lastModifiedBy>
  <dcterms:modified xsi:type="dcterms:W3CDTF">2015-09-04T09:22:44Z</dcterms:modified>
  <cp:revision>38</cp:revision>
  <dc:subject/>
  <dc:title>Translations</dc:title>
</cp:coreProperties>
</file>