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87D2-A2AB-45DB-813C-61845A580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941-19D3-41AD-BCF9-B84C2A3E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89E-54C7-40C5-BC4A-4646BA25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4C839-2BDA-435D-B447-CD2137CD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F3CF0-310A-4CA9-B191-6F311143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3721D-F2DE-4FFA-8F82-FE51D1A4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8049F-4A2E-4CA4-8AFF-ACA15489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483AF-540D-4E7D-8823-B232A1F3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25739-12EE-4B7F-97FA-071D5C3C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41218-12E6-4CC7-904B-329A1EB7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467F5-EB02-4900-B9C4-31F1B045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76AB8-9536-4D89-A00A-503DD8AB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D80CE-4906-4F0F-A206-848FF823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423-7664-4554-B62E-1A15F22B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88C9C-FFEC-4C1C-865A-CCE47925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B1B42-EF1E-4865-8276-1F932BE7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3C7AF-D3F5-4053-AD35-F6A4419D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F5FA5-D0CB-4812-8CEC-D0074932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7EA51-A6AE-4EE6-B2AF-3F5AC031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5F225-C6BB-4CC1-B260-ACA720F9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0937A-FBBD-401F-8175-1ADB79F0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DBEE7-F1A3-451B-AE12-8B972061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A3029-DE1D-4D81-8433-E31CAFC5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78D22-20B8-4288-88A0-963D4CE8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A57-0225-4338-A72E-9826573C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1A88A-BFC6-4F53-A02E-24D00B62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E2573-ED90-45E4-B0FD-D9B9FF08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30ED3-ACD5-4C4B-82F9-131ED541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F6519-C1EB-4C63-B48C-D10A153D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50EE4-9E17-4C5A-8866-41180E12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8EEF6-9D67-41E4-9A98-5EE050C1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6E36F-FD5C-4F11-A94B-B50A7B6E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8234F-17A3-4EF5-9D76-68199BB4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6C3CC-0B2D-4AB1-82AC-0558A40F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DDEEB-1FF4-44A5-B60E-133F42B3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9BBC-ED2A-4549-956B-A62743BE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9FEE2-61FC-40DE-8D2B-61E5A605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71BF6-AE6B-4E48-ABAA-E7651B32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CA048-CF52-4025-B54D-4E73C1B3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46489-6243-4B92-BCFE-FA312F47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50C74-6830-49A8-A1E7-63D750DF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5D2B4-645C-488B-8FFE-C0AA94CE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06069-23F9-4292-B44E-0230DA6B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BE2DA-34AC-4B8B-90DC-B07DAC86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F9335-6AAC-4235-AE14-A175715A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62A06-D206-4982-BBFB-8DEC8C66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87DD-B005-4E25-B762-7623DE64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FCFAC-8878-4B59-9682-A19F7CCD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71874-AB5D-4759-A422-E62C8631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7DF2E-E96A-46E5-A9B5-364C4EBD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5682E-F33A-4952-BB39-01BE5CDA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D70A1-0B0B-49DE-86DB-337D201A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FB7F-89F0-49FA-BC16-5D4A01EC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D2D8-2354-4EFE-AAFB-02120C71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880B-6EF6-4025-966A-142058C8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CC45-42F0-453E-BB90-5FC9B083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2AAA-8D83-49DB-9B6B-EEDD15C8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EB7-17BE-4866-B95F-42B85F01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32BC-4764-4E37-977C-09964C8F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91EB-37EB-490B-ABE5-FE487EB5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AF2D-1430-49A4-97A3-0413E713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F23F-E01F-4577-A028-35F2CEA0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B6BE-9A14-4955-A0E7-3C7C9A96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B888-80D1-40DF-9292-C3BA016C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1DDA-337E-4E1C-AD2E-3EDD0E6B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E90CE-573F-4985-B34F-68E7894D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CF6BC-17CC-49E9-9A79-F4948F87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3BF1C-1590-4E75-9BBA-5239E54A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C38-8EF5-43F4-A4E6-D5066DDA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C61EF-7880-4D7B-9DED-818F7FA8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D9894-B18F-4E9D-AECF-09231F29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F510F-2B3C-477C-ACC6-295391B3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36A4D-4ED9-40A1-AEEB-9E2BFF48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77F64-2ECD-4713-A78E-B1EB550C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3680F-4FCD-400E-86D1-1425EA75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84341-60F4-44DE-83E7-053D173C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15E82-F21F-4552-851E-74F5EFC6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775E6-5025-4672-BFC5-279360B0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3B3DA-774A-43DF-85A7-C6707896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6F3-16E5-4360-B17C-55DF8670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B6EA2-ED56-4742-B24E-704D7549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A5D17-7E95-433A-A201-E7A705DF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5C5DA-6BF3-47AB-8803-5D7C0650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F090B-2FEB-484A-B745-72D2E20C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A440F-63FD-400C-8D6D-30286CAC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D0248-D170-4DA4-918D-8B4FCE35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E31E2-1CE3-4AFB-8D0B-A00BAB3C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CDE77-C3EF-41DD-ACC3-8C9A560B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40D3F-9391-4CA3-945D-483F92CF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CF683-F31E-420C-823E-1399CC15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569-0CE5-4755-BE5E-3B1CF667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2F2E0-4EB2-473F-A3E2-0E44C961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4BFCE-9D30-4088-95E1-F41D1C75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15B5D-87AD-4E16-A5BF-167E0A36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FDC64-C06A-4537-93E2-9B0BA9C7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3201C-B231-4B6F-A2A6-271275B8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C4A98-B620-44F1-96FD-B4451DD8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786E0-8DD8-4BF8-9E27-2E4B7D8A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04626-CEF8-40F1-8E1F-5D6800E1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49727-D641-4AE3-A9A7-C8D21954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0A09F-3C73-4C25-AB9D-85A93706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991-6D3E-47FC-AFF1-F63BBCEB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0C7CE-1800-4B8E-9C14-FFE11519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9A55A-2CDC-42DE-A87A-2531D139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0C101-D45E-4A03-85EB-A291E712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9441F-A848-4355-874A-29FE78AE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D48C2-D724-423B-B63A-B5968106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9760B-FA00-4FDA-BBD2-A1FBA747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6010D-96F0-421C-85C7-C5AC0D61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372F7-BDF2-4B46-A962-32514278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2B54B-6E09-41BB-965D-A7C588C5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5AAF4-EA41-4661-9886-C8FCB1C7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6B5-CB02-4156-9CC4-11FE9F13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6A602-CFF2-4390-BDDD-EF61DD02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A7334-412A-4D3C-A3F6-938BEE01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1D338-C296-46D7-B093-FBF17310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8B163-835D-4837-AC19-AC771FEE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11308-06FA-4037-80D5-1DDEFCF7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DA36E-A57D-42E7-9FB3-C7C6EC92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C7B39-8632-4BA3-9DF7-A13CEA75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9A429-77BD-4316-870F-548471C5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06F7E-CE3E-4336-B30E-B70A88A4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63359-656B-4B81-993F-7ED344DE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BB7-CBA9-4F3C-AC02-A235849B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CCE84-55BA-4D0B-AC56-D756560C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D7CD6-6F9C-441D-BE02-59FC5BED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76E97-557E-4141-B151-382A8727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9F576-6308-4B61-96CD-71A16183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DB57B-43B6-4685-BFF6-B2AACFAB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D4714-0C08-4A6A-BFA4-6E5FAFAA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D6F48-1DBA-469F-A960-28808B11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AABF7-BFBE-4785-ADEB-E7963D49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ADD76-06F9-4AAA-8A65-BBAC4861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3AE29-7503-4659-A74A-0E5F4119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763-176B-4195-8936-BA252E80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5CA45-7911-4763-9B8A-5CB97B89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D66E4-0ED5-4BFB-8B64-E7981888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0BECD-922A-4A28-A4C5-93BE87A7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0C7A3-9F03-477B-B3EA-5CBCC4EE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30BC9-AD6F-40C1-8237-489B8679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16DF9-F7D0-48FF-80AE-09170BEB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A5720-1651-476E-9271-40217FBD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4F087-5CBB-47B4-BF23-9B5E2FC3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39C46-9213-45E6-A103-88883C3F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67D0D-6DF2-47E7-BAF4-A7031A4D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1CBC-A546-4206-90F4-F4796C713BB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B088-41B1-4958-B0F9-1FCFDE07B3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BE0E-E3C1-4614-9599-C49C03B52D1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6F27-7C29-40FF-90E0-FB15D605F8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7A87-DB4A-4EB9-992E-3191CC635A3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06D7-7A40-4E2F-85E6-89B09F8D00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72E0-D06C-4B4C-B7EC-5F2F0A273F8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28E9-F81E-4144-9DC4-28748B853A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2B86-372F-4EB6-A2B5-B5821ED2D99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D196-DCFE-41F5-AB6E-F9F82BBA1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E014-37D4-4E7D-9407-4B0ADB2F5F6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F86A-4488-4CAE-8CAD-98216EDF0D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43B9-A136-437F-A360-DDFDDA1BBC7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8F01-D8C0-45A7-921F-8445D1E63B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71E2-EFDD-41F6-9044-DAF20DFCF03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CE8C-63CA-4564-B4F2-9593C7CC58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5B6C-B998-461B-A6DA-81B043F927F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8F15-73A3-433F-A666-3D7A597D48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3D29-FA55-40E7-B8C4-ECD57C4C666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D832-2C75-4E53-98FA-F8D9F6AB12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05BD-408B-4A53-9F01-1BC530F6ECF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A193-DAD0-4103-ADD4-AFCD09C488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3AC3-0E6A-4A34-BF76-913FFAE6A0A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9E06-F486-4063-B039-AFDD3D95B1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1905120" y="2133720"/>
            <a:ext cx="3657600" cy="1600200"/>
          </a:xfrm>
          <a:prstGeom prst="rtTriangle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295280" y="43434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762120" y="2438280"/>
            <a:ext cx="5790960" cy="15242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838080" y="44956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33520" y="5562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1828800" y="2133720"/>
            <a:ext cx="2057400" cy="2438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09480" y="5029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685800" y="44956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1523880" y="2438280"/>
            <a:ext cx="3429000" cy="1600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1371600" y="4419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wo Ways to Classify Triangl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 Their Si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449604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calen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85196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8"/>
          <p:cNvSpPr/>
          <p:nvPr/>
        </p:nvSpPr>
        <p:spPr>
          <a:xfrm>
            <a:off x="1371600" y="3200400"/>
            <a:ext cx="4572000" cy="1371600"/>
          </a:xfrm>
          <a:custGeom>
            <a:avLst/>
            <a:gdLst/>
            <a:ahLst/>
            <a:rect l="l" t="t" r="r" b="b"/>
            <a:pathLst>
              <a:path w="2880" h="864">
                <a:moveTo>
                  <a:pt x="1968" y="0"/>
                </a:moveTo>
                <a:lnTo>
                  <a:pt x="0" y="864"/>
                </a:lnTo>
                <a:lnTo>
                  <a:pt x="2880" y="624"/>
                </a:lnTo>
                <a:lnTo>
                  <a:pt x="196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osceles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3124080" y="30481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528" y="0"/>
                </a:moveTo>
                <a:lnTo>
                  <a:pt x="0" y="1632"/>
                </a:lnTo>
                <a:lnTo>
                  <a:pt x="1008" y="1632"/>
                </a:lnTo>
                <a:lnTo>
                  <a:pt x="52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By Their 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5791320" cy="32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ut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riangles hav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cute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7"/>
          <p:cNvSpPr/>
          <p:nvPr/>
        </p:nvSpPr>
        <p:spPr>
          <a:xfrm>
            <a:off x="2743200" y="3124080"/>
            <a:ext cx="2743200" cy="2362320"/>
          </a:xfrm>
          <a:custGeom>
            <a:avLst/>
            <a:gdLst/>
            <a:ahLst/>
            <a:rect l="l" t="t" r="r" b="b"/>
            <a:pathLst>
              <a:path w="1728" h="1488">
                <a:moveTo>
                  <a:pt x="720" y="0"/>
                </a:moveTo>
                <a:lnTo>
                  <a:pt x="0" y="1488"/>
                </a:lnTo>
                <a:lnTo>
                  <a:pt x="1728" y="1248"/>
                </a:lnTo>
                <a:lnTo>
                  <a:pt x="72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ght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Freeform 6"/>
          <p:cNvSpPr/>
          <p:nvPr/>
        </p:nvSpPr>
        <p:spPr>
          <a:xfrm>
            <a:off x="2514600" y="3276720"/>
            <a:ext cx="3124080" cy="1981080"/>
          </a:xfrm>
          <a:custGeom>
            <a:avLst/>
            <a:gdLst/>
            <a:ahLst/>
            <a:rect l="l" t="t" r="r" b="b"/>
            <a:pathLst>
              <a:path w="1968" h="1248">
                <a:moveTo>
                  <a:pt x="0" y="0"/>
                </a:moveTo>
                <a:lnTo>
                  <a:pt x="0" y="1248"/>
                </a:lnTo>
                <a:lnTo>
                  <a:pt x="1968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btus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8"/>
          <p:cNvSpPr/>
          <p:nvPr/>
        </p:nvSpPr>
        <p:spPr>
          <a:xfrm>
            <a:off x="1523880" y="3276720"/>
            <a:ext cx="4876920" cy="1371600"/>
          </a:xfrm>
          <a:custGeom>
            <a:avLst/>
            <a:gdLst/>
            <a:ahLst/>
            <a:rect l="l" t="t" r="r" b="b"/>
            <a:pathLst>
              <a:path w="3072" h="864">
                <a:moveTo>
                  <a:pt x="1824" y="0"/>
                </a:moveTo>
                <a:lnTo>
                  <a:pt x="0" y="864"/>
                </a:lnTo>
                <a:lnTo>
                  <a:pt x="3072" y="864"/>
                </a:lnTo>
                <a:lnTo>
                  <a:pt x="1824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9:23:19Z</dcterms:modified>
  <cp:revision>40</cp:revision>
  <dc:subject/>
  <dc:title>PowerPoint Presentation</dc:title>
</cp:coreProperties>
</file>