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16E9-47AA-440E-A1AC-186B2B9A1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ifying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Ways to Classify Triangl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Ways to Classify Triang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en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ing Triang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en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sides are the sam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n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ides are the sam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sceles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least two sides are the sam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two sides are the sam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By Their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ing Triang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eir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triangles have three acute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triangles have three acut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triangles have one right ang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 have one right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triangles have one obtuse ang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triangles have one obtuse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6F12-6D16-43B4-94C2-4E32E1D8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BB07-8D72-4A30-B984-D166F863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B02D8-11A1-4E67-AA06-D4F5E798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F054E-E790-4DA3-BF3B-E29957F8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FCF5E-DDC8-43F6-9202-13A31EC9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2419C-B0D4-479A-81B0-E1ABEAEE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ED0E6-240C-4C08-AA63-395C1160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7507D-4478-455B-B03F-564EA3EB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7DB44-C847-4CAF-8AD7-1078DAF2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00751-C704-4AFE-88F2-797667C5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1937F-8673-4A9B-9774-33863A2F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5FE5C-44B6-475B-A3B3-2610E03A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24E6-AD23-45C5-939F-9690FFC9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56B0F-5BD5-47E4-B19C-A4740CF4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CA758-F13A-454A-A76C-3D0ACAF7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7F530-F2CF-4D46-A694-E5BA8E94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FDC92-857E-4F8A-B800-5E66D5AF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08BBE-DC78-453A-BED0-172485BA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F2E34-D8D3-4F3F-AC90-8551E2EA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25B18-948F-40C6-8824-056D3C98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85EBB-1175-4648-B5D7-0EA10FD6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CB7ED-891F-4B37-BF0E-9D6DC313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5B657-4D63-4B9E-B34C-A8A37257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6C15-D50B-4A9C-A09C-5322563D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46AC4-5CB0-43CD-A6A1-209AA096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90A37-5625-4980-B4A4-5023F27E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51728-F1B4-4D87-900E-659549BD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EF576-1CAC-4317-8E88-EC2DB38F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ED20A-81BB-4346-A308-85DF6100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C48BE-5562-467F-A665-E15397CB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2776C-5039-4D87-A3E2-F06B8C1A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C0D3F-C3E1-4EF7-9E12-41F5486B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6C2A4-73AD-47F9-BAE2-B3FC4135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549B5-1CCC-4133-A2AB-1F6EF24E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9FA8-2116-4C28-BF31-202F8F44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476BD-114B-4C07-9201-78F164ED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98437-7DF5-4ED7-A6F3-B19027ED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112A1-684B-4C6F-9FE4-28ECC962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9D847-A86B-4D29-BAAD-29F2DCE7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2B887-1AC1-499B-B721-FE945CEF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CAB4D-4291-4198-B02D-C80594E5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1FCDF7-9040-426F-99F7-EBB708EC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54B5C-2F4D-4352-9B11-AABF5DFE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59021-C18D-43ED-ABC1-B810D2BB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B31C2-35B1-49DF-ABF5-129E650F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D347-D2A8-4720-90A7-2073FECE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B287A-516A-465E-8E7A-DCA55E6C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38AD2-699D-43A3-ADC6-0E5B49FF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C886D-2196-498A-B378-37172E81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FA8D1-11F8-49A8-8C22-CF96F319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59800-744B-4960-9E84-3172F46B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2E16-7DFA-42E5-BD30-4CBD4BA5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B772-FD20-43E3-A11F-D83708A4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B731-C418-4376-B156-0397FCA2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0EF5-D71D-4F65-84B0-F7400F19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7E9D-BAC6-42A3-8667-BAE29B17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DA5E-9A9A-4012-93B8-38F0897E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6E16-6F3D-4857-8594-DD769EA9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2E5C-5FA2-4237-B3D8-0A8CCE14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ED4F-1BE9-43CC-A3DE-D991E424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E524-6A52-4DA8-94A8-F0E71A02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D9B8-F08D-4DAA-B822-34C9F6C8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BF15F-8F8F-49DF-923B-EDBB7F47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CA612-7BBA-4BDC-BA74-06C1943F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3222C-EB26-4D04-A3F7-B00CDCEA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8551C-0741-46D5-9248-F99CBE97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01D30-48C2-45E6-8AFF-BAAF4FCC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4296-507F-42CE-9B64-5DD878FE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B7F2C-4C9C-4912-AD81-349A7D5E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5C57A-D021-4AAC-AE4E-0B940DC3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B69BD-23A4-4400-AA4F-4F68A0D6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02B43-3463-4BC0-B787-CEF77CEE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628B6-1602-4EF5-9190-417FF091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BE51F-C775-4E6A-A2F7-8A079856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7A9C2-07E2-4FBD-B142-B0296A76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FF4F9-CFCF-4760-856D-E62D0B72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354B5-3E01-4880-8F6E-D262F147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35AE2-CA6C-4959-A2F5-8437179F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864-44C6-44C8-AA47-03782F7D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4E245-7866-41DD-ADAF-CDE38360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846BC-D541-4D19-AFC8-9AB204C9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81BC1-9C8A-4EDC-BBA2-D0097882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043DB-ADD4-4F25-9B71-30295F20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06FA8-F022-4DFF-80A3-FC441B61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8065A-0076-487A-B309-C48724A4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B42EB-9A1E-446E-9C40-73B0A77D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527D9-E630-4950-BD84-CAF6EEF8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E7D51-2B58-4498-A090-E63BD374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33623-A559-4B4A-A70B-BD3E81D9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BD4F-2362-4DC1-B59C-C9B38B9B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67EA3-5C18-46DB-AAB3-83A0E141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6A9C3-B2BF-4B1F-830F-D2C412A6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C386F-409D-441E-B95A-397C0217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5490B-6D3E-4639-AC0F-3C5E5740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38CF3-600A-43D2-BBEA-88D42C42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EDE25-4F41-4CFC-987E-4560EDC6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26B9F-2618-4B37-A387-9AE0FC42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49B2B-28C4-4DDA-B132-6C7DC5FA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DC469-BB57-43F8-B4A9-43126FA3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9A6AC-E98A-4B6E-97B8-7E7EE1C7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3252-196D-417E-8BFA-506C2A77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ADF19-CAC7-47E3-A68C-C91889EB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7010C-3C7E-4840-A33F-D8E1A3C2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0D0E7-4E0F-49F1-8AFF-8BD34BC6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D5840-1049-484A-B9C9-08F79FEC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38D8B-6E3F-4294-A1CB-05929B2A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6579C-9A2A-44DA-A829-FAFD1CBA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154B5-C285-4797-A580-5665FFB4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DED22-145D-4A06-A680-F92C2670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C4433-32D4-46D7-8182-BFB92273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06D36-D10F-4C87-B281-FAC151C7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ECB6-40C8-4D52-978F-9C26EDD6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96E4C-DA67-404D-B2DD-5D0CC8BE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6E411-E952-4035-AD64-ED4DF653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23780-C16E-44D9-8C4F-BD0F5D69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101ED-CCDF-4C69-9C60-F0EB0CB9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C6464-374D-472B-857C-432B2AFB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24E75-B980-420C-B360-1D38D679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BED14-6385-4D28-A9C0-8205C3D3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922EF-D90A-4D33-985F-EFBFD031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DDE1D-7967-4F85-BF72-E4AFBB40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01E52-5419-4BBD-97BB-55971847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1B42-A9B2-4723-B8D7-B0641633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A7BFA-F253-4478-A294-C326B896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DC7FD-7249-4024-9457-D3A26089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ECD57-F174-44C1-A52B-E130EC49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9CEAA-08E8-4DD9-AA87-6B98E283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83A07-BE1D-4D10-9B21-E12859DE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53557-F3BD-4545-91F1-FEB63919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A4D39-29E9-4695-82FA-DC79CA29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EAEC8-CDE2-4678-A27E-09F9BE12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AB2EB-7375-420E-AF4A-0D38E765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8AA13-99FF-4225-9091-AA11687F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18EF-9CBC-4F03-BC67-4292CE0D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0235A-F959-4D34-804E-048738B7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51781-995D-4E85-9C27-E355F169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1AE3A-5E0F-461E-B187-7144B3BB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1A7E8-9238-48EE-AFC5-25B822D3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AB5DE-D7CD-4A58-A0B9-B7AB43D7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C5D87-2B40-4159-A0FE-9589A1AA3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7FFC8-2568-4A65-A98C-D89AA500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2A3D9-EBF2-43EF-B245-C381D399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149BB-ECBB-4482-BBE2-F0A9CF0B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450BB-CFDB-4886-9588-11AF85AD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03D5-F66D-4442-9121-ED58125B945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C5CE-737F-4362-9840-414B1B8F5D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A19D-444D-4A14-90D9-A8FAA4E67F4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131A-3ED6-4643-9441-6E869B3DD4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C693-AB43-48EA-AA07-F3122DC428F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F241-D315-4536-A55A-B21FE931C8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E6CE-43C0-415A-BA4C-3CC2E0F7C6C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7611-A0E4-4E5E-9254-570A6AC0CF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97E4-710D-4955-A4A2-528F7EFE0F3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B0DD-982E-418D-ADF3-182818F829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5A32-9D1D-4E5B-86E8-4651B6CF4C8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F541-94FD-4120-9DAF-F3658F94A1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527D-11C3-4EB8-95D1-C5CA2E08816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F20D-858D-4679-B9E0-9F50BAC2A4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401E-458C-403A-98CB-BFF30FC184B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4663-C219-4AEC-8D06-688A69EFCD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3453-6EC5-4AC4-B5F5-2BC460C96C9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BDFD-F6CE-433C-A279-91BE895347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B697-7A41-4739-BB0F-E54C9EC0DFB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71EC-C296-4003-BDF7-3791DE1E46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D597-C980-4BC3-9513-F953D2CF871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EED1-B0B3-48D7-B5A2-25EF549945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E3D9-EE45-4F52-BC38-1D65024977D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1331-68C7-48CE-8EF5-02A4AB0583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AutoShape 4"/>
          <p:cNvSpPr/>
          <p:nvPr/>
        </p:nvSpPr>
        <p:spPr>
          <a:xfrm>
            <a:off x="1905120" y="2133720"/>
            <a:ext cx="3657600" cy="1600200"/>
          </a:xfrm>
          <a:prstGeom prst="rtTriangle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1295280" y="43434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ight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AutoShape 4"/>
          <p:cNvSpPr/>
          <p:nvPr/>
        </p:nvSpPr>
        <p:spPr>
          <a:xfrm>
            <a:off x="762120" y="2438280"/>
            <a:ext cx="5790960" cy="152424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838080" y="44956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tuse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533520" y="556272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AutoShape 5"/>
          <p:cNvSpPr/>
          <p:nvPr/>
        </p:nvSpPr>
        <p:spPr>
          <a:xfrm>
            <a:off x="1828800" y="2133720"/>
            <a:ext cx="2057400" cy="2438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09480" y="502920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685800" y="44956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tuse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AutoShape 10"/>
          <p:cNvSpPr/>
          <p:nvPr/>
        </p:nvSpPr>
        <p:spPr>
          <a:xfrm>
            <a:off x="1523880" y="2438280"/>
            <a:ext cx="3429000" cy="16002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1371600" y="44197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ight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wo Ways to Classify Triangle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Their Ang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y Their Si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4496040" cy="2743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e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osc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calen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2200" y="1980720"/>
            <a:ext cx="785196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ides are the same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Freeform 8"/>
          <p:cNvSpPr/>
          <p:nvPr/>
        </p:nvSpPr>
        <p:spPr>
          <a:xfrm>
            <a:off x="1371600" y="3200400"/>
            <a:ext cx="4572000" cy="1371600"/>
          </a:xfrm>
          <a:custGeom>
            <a:avLst/>
            <a:gdLst/>
            <a:ahLst/>
            <a:rect l="l" t="t" r="r" b="b"/>
            <a:pathLst>
              <a:path w="2880" h="864">
                <a:moveTo>
                  <a:pt x="1968" y="0"/>
                </a:moveTo>
                <a:lnTo>
                  <a:pt x="0" y="864"/>
                </a:lnTo>
                <a:lnTo>
                  <a:pt x="2880" y="624"/>
                </a:lnTo>
                <a:lnTo>
                  <a:pt x="1968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sosceles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least two sides are the same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3124080" y="30481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528" y="0"/>
                </a:moveTo>
                <a:lnTo>
                  <a:pt x="0" y="1632"/>
                </a:lnTo>
                <a:lnTo>
                  <a:pt x="1008" y="1632"/>
                </a:lnTo>
                <a:lnTo>
                  <a:pt x="528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By Their 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371240" y="2438280"/>
            <a:ext cx="5791320" cy="327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ut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 triangles hav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re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cute ang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Freeform 7"/>
          <p:cNvSpPr/>
          <p:nvPr/>
        </p:nvSpPr>
        <p:spPr>
          <a:xfrm>
            <a:off x="2743200" y="3124080"/>
            <a:ext cx="2743200" cy="2362320"/>
          </a:xfrm>
          <a:custGeom>
            <a:avLst/>
            <a:gdLst/>
            <a:ahLst/>
            <a:rect l="l" t="t" r="r" b="b"/>
            <a:pathLst>
              <a:path w="1728" h="1488">
                <a:moveTo>
                  <a:pt x="720" y="0"/>
                </a:moveTo>
                <a:lnTo>
                  <a:pt x="0" y="1488"/>
                </a:lnTo>
                <a:lnTo>
                  <a:pt x="1728" y="1248"/>
                </a:lnTo>
                <a:lnTo>
                  <a:pt x="720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ight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ht triangles have one right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Freeform 6"/>
          <p:cNvSpPr/>
          <p:nvPr/>
        </p:nvSpPr>
        <p:spPr>
          <a:xfrm>
            <a:off x="2514600" y="3276720"/>
            <a:ext cx="3124080" cy="1981080"/>
          </a:xfrm>
          <a:custGeom>
            <a:avLst/>
            <a:gdLst/>
            <a:ahLst/>
            <a:rect l="l" t="t" r="r" b="b"/>
            <a:pathLst>
              <a:path w="1968" h="1248">
                <a:moveTo>
                  <a:pt x="0" y="0"/>
                </a:moveTo>
                <a:lnTo>
                  <a:pt x="0" y="1248"/>
                </a:lnTo>
                <a:lnTo>
                  <a:pt x="1968" y="1248"/>
                </a:lnTo>
                <a:lnTo>
                  <a:pt x="0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btus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use triangles have one obtuse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Freeform 8"/>
          <p:cNvSpPr/>
          <p:nvPr/>
        </p:nvSpPr>
        <p:spPr>
          <a:xfrm>
            <a:off x="1523880" y="3276720"/>
            <a:ext cx="4876920" cy="1371600"/>
          </a:xfrm>
          <a:custGeom>
            <a:avLst/>
            <a:gdLst/>
            <a:ahLst/>
            <a:rect l="l" t="t" r="r" b="b"/>
            <a:pathLst>
              <a:path w="3072" h="864">
                <a:moveTo>
                  <a:pt x="1824" y="0"/>
                </a:moveTo>
                <a:lnTo>
                  <a:pt x="0" y="864"/>
                </a:lnTo>
                <a:lnTo>
                  <a:pt x="3072" y="864"/>
                </a:lnTo>
                <a:lnTo>
                  <a:pt x="1824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09:23:19Z</dcterms:modified>
  <cp:revision>40</cp:revision>
  <dc:subject/>
  <dc:title>PowerPoint Presentation</dc:title>
</cp:coreProperties>
</file>