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CD76-422B-4A7C-9D46-B95051936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C5D-6959-4789-A843-97536D42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89E-B3EE-4841-99AE-88463936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BF4-7144-41CB-A35C-19A7D0DC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50F-7D67-425C-ABD1-469C0D95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1918-1DC5-4208-AC1A-FDC6E829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9B3-A8EC-4C48-8EE0-035AA7AA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832D-3308-4870-90C2-B338FFA5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DB9E-0DAE-4B9A-B278-D9375E4C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52DE-7902-4999-AEF1-D8D008EC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4C62-1823-49C7-B9E8-895F0014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4BBE-24B9-48B6-8DD6-91910B4D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020-9A3C-4360-B030-2E208D10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5044-87B6-472C-96E9-153C3207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24F4-80A8-4DE1-B2E0-E3FDA2A2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167D-402C-4612-8D1A-244C73DC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F99B-5F89-4CAB-949A-AA20B814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1F61-DBC4-4CE7-8A4A-387F307F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40A-60EC-42B5-A7B2-6FF8F6C7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088-740B-4991-9A9C-71E3B691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C9A-4C6E-4597-89CD-84279800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FC9-4B37-4ADD-A36E-109A9373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663-9EF3-4764-957D-9DBF634B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2E9-F784-4A52-9A29-A6ED7CB3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8C5-EE72-4291-A8A1-CD216B8C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5995-E7EC-4F1D-A2D4-424B8BD5D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BDE1-4E9E-4CAF-8A15-CE7FFF5EB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space occupied by any 3-dimensional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676520" y="1676520"/>
            <a:ext cx="1752480" cy="457200"/>
          </a:xfrm>
          <a:prstGeom prst="cube">
            <a:avLst>
              <a:gd name="adj" fmla="val 25000"/>
            </a:avLst>
          </a:prstGeom>
          <a:solidFill>
            <a:srgbClr val="3366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91120" y="1295280"/>
            <a:ext cx="1143000" cy="914400"/>
          </a:xfrm>
          <a:prstGeom prst="cube">
            <a:avLst>
              <a:gd name="adj" fmla="val 25000"/>
            </a:avLst>
          </a:prstGeom>
          <a:solidFill>
            <a:srgbClr val="00ff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172200" y="1828800"/>
            <a:ext cx="1752480" cy="304920"/>
          </a:xfrm>
          <a:prstGeom prst="cube">
            <a:avLst>
              <a:gd name="adj" fmla="val 25000"/>
            </a:avLst>
          </a:pr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2895480" y="3809880"/>
            <a:ext cx="533520" cy="457200"/>
          </a:xfrm>
          <a:prstGeom prst="cube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4327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276720" y="4191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429000" y="3962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523880" y="50292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1c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3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91"/>
          <p:cNvSpPr/>
          <p:nvPr/>
        </p:nvSpPr>
        <p:spPr>
          <a:xfrm flipH="1" rot="16200000">
            <a:off x="21715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438280" y="3581280"/>
            <a:ext cx="4572000" cy="381240"/>
          </a:xfrm>
          <a:prstGeom prst="parallelogram">
            <a:avLst>
              <a:gd name="adj" fmla="val 24329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52680" y="2514600"/>
            <a:ext cx="36576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2438280" y="2514600"/>
            <a:ext cx="4572000" cy="380880"/>
          </a:xfrm>
          <a:prstGeom prst="parallelogram">
            <a:avLst>
              <a:gd name="adj" fmla="val 2435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352680" y="3581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9"/>
          <p:cNvSpPr/>
          <p:nvPr/>
        </p:nvSpPr>
        <p:spPr>
          <a:xfrm flipH="1" rot="16200000">
            <a:off x="58291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438280" y="2895480"/>
            <a:ext cx="36576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95"/>
          <p:cNvGrpSpPr/>
          <p:nvPr/>
        </p:nvGrpSpPr>
        <p:grpSpPr>
          <a:xfrm>
            <a:off x="2438280" y="2514600"/>
            <a:ext cx="4572000" cy="1447920"/>
            <a:chOff x="2438280" y="2514600"/>
            <a:chExt cx="4572000" cy="1447920"/>
          </a:xfrm>
        </p:grpSpPr>
        <p:sp>
          <p:nvSpPr>
            <p:cNvPr id="176" name="AutoShape 96"/>
            <p:cNvSpPr/>
            <p:nvPr/>
          </p:nvSpPr>
          <p:spPr>
            <a:xfrm flipH="1" rot="16200000">
              <a:off x="2171520" y="2781360"/>
              <a:ext cx="1447920" cy="914400"/>
            </a:xfrm>
            <a:prstGeom prst="parallelogram">
              <a:avLst>
                <a:gd name="adj" fmla="val 414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AutoShape 97"/>
            <p:cNvSpPr/>
            <p:nvPr/>
          </p:nvSpPr>
          <p:spPr>
            <a:xfrm>
              <a:off x="2438280" y="3581280"/>
              <a:ext cx="4572000" cy="381240"/>
            </a:xfrm>
            <a:prstGeom prst="parallelogram">
              <a:avLst>
                <a:gd name="adj" fmla="val 243291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3352680" y="2514600"/>
              <a:ext cx="3657600" cy="10666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AutoShape 99"/>
            <p:cNvSpPr/>
            <p:nvPr/>
          </p:nvSpPr>
          <p:spPr>
            <a:xfrm>
              <a:off x="2438280" y="2514600"/>
              <a:ext cx="4572000" cy="380880"/>
            </a:xfrm>
            <a:prstGeom prst="parallelogram">
              <a:avLst>
                <a:gd name="adj" fmla="val 243521"/>
              </a:avLst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3352680" y="35812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01"/>
            <p:cNvSpPr/>
            <p:nvPr/>
          </p:nvSpPr>
          <p:spPr>
            <a:xfrm flipH="1" rot="16200000">
              <a:off x="5829120" y="2781360"/>
              <a:ext cx="1447920" cy="914400"/>
            </a:xfrm>
            <a:prstGeom prst="parallelogram">
              <a:avLst>
                <a:gd name="adj" fmla="val 41493"/>
              </a:avLst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2438280" y="2895480"/>
              <a:ext cx="3657600" cy="106704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" name="Text Box 103"/>
          <p:cNvSpPr/>
          <p:nvPr/>
        </p:nvSpPr>
        <p:spPr>
          <a:xfrm>
            <a:off x="35812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4"/>
          <p:cNvSpPr/>
          <p:nvPr/>
        </p:nvSpPr>
        <p:spPr>
          <a:xfrm>
            <a:off x="6324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5"/>
          <p:cNvSpPr/>
          <p:nvPr/>
        </p:nvSpPr>
        <p:spPr>
          <a:xfrm>
            <a:off x="70866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06"/>
          <p:cNvSpPr/>
          <p:nvPr/>
        </p:nvSpPr>
        <p:spPr>
          <a:xfrm>
            <a:off x="3276720" y="304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30555 E">
                                      <p:cBhvr>
                                        <p:cTn id="7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29444 E">
                                      <p:cBhvr>
                                        <p:cTn id="7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16667 0.22222 E">
                                      <p:cBhvr>
                                        <p:cTn id="7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75 -0.23334 E">
                                      <p:cBhvr>
                                        <p:cTn id="8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2 -0.00555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8334 0.00556 E">
                                      <p:cBhvr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3048120" y="2133720"/>
            <a:ext cx="3571920" cy="2743200"/>
            <a:chOff x="3048120" y="2133720"/>
            <a:chExt cx="3571920" cy="2743200"/>
          </a:xfrm>
        </p:grpSpPr>
        <p:sp>
          <p:nvSpPr>
            <p:cNvPr id="189" name="Rectangle 4"/>
            <p:cNvSpPr/>
            <p:nvPr/>
          </p:nvSpPr>
          <p:spPr>
            <a:xfrm>
              <a:off x="3876840" y="28195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876840" y="35053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876840" y="41911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876840" y="21337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781600" y="2819520"/>
              <a:ext cx="83844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048120" y="2819520"/>
              <a:ext cx="83808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4648320" y="4952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6483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6483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648320" y="1752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3200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0958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791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586728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6483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35053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35053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66294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1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2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505320" y="3657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6002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718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5146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6002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6002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09480" y="20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7524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51460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828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514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752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200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200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54864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68580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008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77724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8580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54864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82296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70102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65530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7150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400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638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086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219320" y="398952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88620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251160" y="3797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9548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495680" y="2438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791320" y="30988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486320" y="1596960"/>
            <a:ext cx="1905120" cy="1524240"/>
          </a:xfrm>
          <a:prstGeom prst="rect">
            <a:avLst/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886200" y="2286000"/>
            <a:ext cx="1905120" cy="152388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9"/>
          <p:cNvSpPr/>
          <p:nvPr/>
        </p:nvSpPr>
        <p:spPr>
          <a:xfrm rot="7900800">
            <a:off x="5060160" y="219132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10"/>
          <p:cNvSpPr/>
          <p:nvPr/>
        </p:nvSpPr>
        <p:spPr>
          <a:xfrm rot="7900800">
            <a:off x="3164760" y="219744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886200" y="-2844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889E-018 L 0 0.23889 E">
                                      <p:cBhvr>
                                        <p:cTn id="200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Base area x he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 x L x 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429000" y="1447920"/>
            <a:ext cx="1295280" cy="11430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988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2000" y="237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00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049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surface area = 2LxL + 2LxL + 2Lx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6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7"/>
          <p:cNvSpPr/>
          <p:nvPr/>
        </p:nvSpPr>
        <p:spPr>
          <a:xfrm>
            <a:off x="7169040" y="3587760"/>
            <a:ext cx="18226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56"/>
          <p:cNvSpPr/>
          <p:nvPr/>
        </p:nvSpPr>
        <p:spPr>
          <a:xfrm>
            <a:off x="5486400" y="3505320"/>
            <a:ext cx="168264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(LxB + BxH + Lx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373392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xBx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1981080" y="3587760"/>
            <a:ext cx="17528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22860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7169040" y="1512720"/>
            <a:ext cx="182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486400" y="1512720"/>
            <a:ext cx="1682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0"/>
          <p:cNvSpPr/>
          <p:nvPr/>
        </p:nvSpPr>
        <p:spPr>
          <a:xfrm>
            <a:off x="373392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1981080" y="1512720"/>
            <a:ext cx="1752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48"/>
          <p:cNvSpPr/>
          <p:nvPr/>
        </p:nvSpPr>
        <p:spPr>
          <a:xfrm>
            <a:off x="22860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7169040" y="66600"/>
            <a:ext cx="1822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 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5486400" y="66600"/>
            <a:ext cx="1682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surfa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73392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1981080" y="66600"/>
            <a:ext cx="1752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2860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228600" y="6660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28600" y="151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228600" y="358776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228600" y="670572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22860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198108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373392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48640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66"/>
          <p:cNvSpPr/>
          <p:nvPr/>
        </p:nvSpPr>
        <p:spPr>
          <a:xfrm>
            <a:off x="716904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899172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2590920" y="1981080"/>
            <a:ext cx="53316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2362320" y="4724280"/>
            <a:ext cx="114300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73152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84"/>
          <p:cNvSpPr/>
          <p:nvPr/>
        </p:nvSpPr>
        <p:spPr>
          <a:xfrm>
            <a:off x="7620120" y="18288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85"/>
          <p:cNvSpPr/>
          <p:nvPr/>
        </p:nvSpPr>
        <p:spPr>
          <a:xfrm>
            <a:off x="7315200" y="2133720"/>
            <a:ext cx="30492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86"/>
          <p:cNvSpPr/>
          <p:nvPr/>
        </p:nvSpPr>
        <p:spPr>
          <a:xfrm>
            <a:off x="8229600" y="15238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87"/>
          <p:cNvSpPr/>
          <p:nvPr/>
        </p:nvSpPr>
        <p:spPr>
          <a:xfrm>
            <a:off x="82296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88"/>
          <p:cNvSpPr/>
          <p:nvPr/>
        </p:nvSpPr>
        <p:spPr>
          <a:xfrm>
            <a:off x="792468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82296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90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91"/>
          <p:cNvSpPr/>
          <p:nvPr/>
        </p:nvSpPr>
        <p:spPr>
          <a:xfrm>
            <a:off x="7620120" y="2590920"/>
            <a:ext cx="30456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92"/>
          <p:cNvSpPr/>
          <p:nvPr/>
        </p:nvSpPr>
        <p:spPr>
          <a:xfrm>
            <a:off x="792468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93"/>
          <p:cNvSpPr/>
          <p:nvPr/>
        </p:nvSpPr>
        <p:spPr>
          <a:xfrm>
            <a:off x="7620120" y="289548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94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114"/>
          <p:cNvGrpSpPr/>
          <p:nvPr/>
        </p:nvGrpSpPr>
        <p:grpSpPr>
          <a:xfrm>
            <a:off x="7259760" y="4648320"/>
            <a:ext cx="1668240" cy="990360"/>
            <a:chOff x="7259760" y="4648320"/>
            <a:chExt cx="1668240" cy="990360"/>
          </a:xfrm>
        </p:grpSpPr>
        <p:sp>
          <p:nvSpPr>
            <p:cNvPr id="300" name="Rectangle 98"/>
            <p:cNvSpPr/>
            <p:nvPr/>
          </p:nvSpPr>
          <p:spPr>
            <a:xfrm>
              <a:off x="7537320" y="4944960"/>
              <a:ext cx="55584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99"/>
            <p:cNvSpPr/>
            <p:nvPr/>
          </p:nvSpPr>
          <p:spPr>
            <a:xfrm>
              <a:off x="8372520" y="4944960"/>
              <a:ext cx="55548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00"/>
            <p:cNvSpPr/>
            <p:nvPr/>
          </p:nvSpPr>
          <p:spPr>
            <a:xfrm>
              <a:off x="8093160" y="4944960"/>
              <a:ext cx="2793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01"/>
            <p:cNvSpPr/>
            <p:nvPr/>
          </p:nvSpPr>
          <p:spPr>
            <a:xfrm>
              <a:off x="7259760" y="4944960"/>
              <a:ext cx="2775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02"/>
            <p:cNvSpPr/>
            <p:nvPr/>
          </p:nvSpPr>
          <p:spPr>
            <a:xfrm>
              <a:off x="7537320" y="4648320"/>
              <a:ext cx="555840" cy="296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03"/>
            <p:cNvSpPr/>
            <p:nvPr/>
          </p:nvSpPr>
          <p:spPr>
            <a:xfrm>
              <a:off x="7537320" y="5362560"/>
              <a:ext cx="555840" cy="2761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4" descr="APPLEBRD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87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CANDLE"/>
          <p:cNvPicPr/>
          <p:nvPr/>
        </p:nvPicPr>
        <p:blipFill>
          <a:blip r:embed="rId2"/>
          <a:stretch/>
        </p:blipFill>
        <p:spPr>
          <a:xfrm>
            <a:off x="6248520" y="44197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CALCULAT"/>
          <p:cNvPicPr/>
          <p:nvPr/>
        </p:nvPicPr>
        <p:blipFill>
          <a:blip r:embed="rId3"/>
          <a:stretch/>
        </p:blipFill>
        <p:spPr>
          <a:xfrm rot="19991400">
            <a:off x="5257440" y="4952880"/>
            <a:ext cx="91440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6"/>
          <p:cNvSpPr/>
          <p:nvPr/>
        </p:nvSpPr>
        <p:spPr>
          <a:xfrm>
            <a:off x="2971800" y="4754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01:46:11Z</dcterms:created>
  <dc:creator>rudy</dc:creator>
  <dc:description/>
  <dc:language>en-US</dc:language>
  <cp:lastModifiedBy>RomaK</cp:lastModifiedBy>
  <dcterms:modified xsi:type="dcterms:W3CDTF">2015-09-04T09:23:36Z</dcterms:modified>
  <cp:revision>27</cp:revision>
  <dc:subject/>
  <dc:title>Slide 1</dc:title>
</cp:coreProperties>
</file>