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9.png" ContentType="image/png"/>
  <Override PartName="/ppt/media/image14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2.png" ContentType="image/png"/>
  <Override PartName="/ppt/media/image16.wmf" ContentType="image/x-wmf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7FE70-7492-45CE-8401-09EC9494388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Volume of a Cylin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ME WOR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d the Volume of the Solid. To 1 decimal pl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Homework/Challen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hallenge Ques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lume of a Cylin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ight we find the Volume of a Cylinde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 = A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rsion of un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cm – 10m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m – 100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km – 1000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rsions of Un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cm2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10 mm x 10 mm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100 mm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2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100 cm x 100 cm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10 000 cm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2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1000 mm x 1000 mm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1 000 000 m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ha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100 m x 100 m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10 000 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km2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100 h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bout when cubic unit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cm3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1cm x 1cm x 1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10 mm × 10 mm × 10 m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1000 mm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3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1m x 1m x 1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100 cm × 100 cm × 100 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1 000 000 cm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pac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lume - The volume of a three-dimensional figure is the amount of space within i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ed in Units Cubed (e.g. cm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lume and capacity are relate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pacity is the amount of material (usually liquid) that a container can hol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pacity is measured in millilitres, litres and kilolitr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xamples of Capac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es Volume relate to Capacit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00 mL = 1 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00 L = 1 k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cm3 = 1 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,000cm3 = 1000ml = 1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3 = 1000 L = 1 k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onvert 1800 mL to 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800ml =  1800/10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= 1.8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.3 m3 to L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m3 = 1000L (1k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.3m3 = 2.3k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= 2300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Volum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volume of a three-dimensional figure is the amount of space within i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ed in Units Cubed (e.g. cm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pac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d the Capacity of this cub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ngth = 5.53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 = A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(5.53 x 5.53) x 5.5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169.11cm3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1cm3 = 1m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pacity = 169.11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ngth = 5.53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d the capacity of this rectangular pris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lume = Ah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(26 x 12) x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312 × 5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1560 cm3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1cm3 = 1m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pacity = 1560 mL or 1.56 L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1000mL = 1L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x 11.08 – Q 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size rainwater tank would be needed to hold the run-off when 40 mm of rain falls on a roof 12 m long and 3.6 m wide? (Answer in litres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lume of a Pr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lume of a Prism is calculated b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lume = Area of cross section x perpendicular he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 = A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 = (4 x 4) x 4 = 64 m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i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has 2 equal shapes at the base, but it is not a prism as it has rounded sid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a Cylin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lume of a Cylin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ight we find the Volume of a Cylinde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V = A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ieces Miss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d the volume of concrete used to make this pi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lume of Concrete = Volume of Big Cylinder – Volume of Small Cylinder (hol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shape is present her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3D shapes can you se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6B5F-CBBE-4023-812B-AF543B0C6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DD13-5879-40A3-8F97-B6C6C6524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EBFB-C554-4F62-BA30-496E5AF1A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18C0-1B56-4A0F-AE62-17CB1A311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1606-24DD-432A-94C0-CBD494D3B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1425-51C2-4CFE-8248-7B805877D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AE5C-DEF4-4712-BBB8-0976B1705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CA73-5F21-4690-B3A2-047267DD4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A5B7-76AE-4ECA-AA5B-EBBE8045E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B3A1-5609-4658-A41C-E36C74CDE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15E0-359C-42E5-8B8E-4B971DA2A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DE16-5CA8-40AA-86AB-DDE40213F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E606D-7C46-4046-8ED5-1CAC4AD785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Volume of a Cylind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HOM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4"/>
          <p:cNvSpPr/>
          <p:nvPr/>
        </p:nvSpPr>
        <p:spPr>
          <a:xfrm>
            <a:off x="1428840" y="5643720"/>
            <a:ext cx="728640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  <a:ea typeface="Arial"/>
              </a:rPr>
              <a:t>Find the Volume of the Solid. To 1 decimal 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3" descr=""/>
          <p:cNvPicPr/>
          <p:nvPr/>
        </p:nvPicPr>
        <p:blipFill>
          <a:blip r:embed="rId1"/>
          <a:stretch/>
        </p:blipFill>
        <p:spPr>
          <a:xfrm>
            <a:off x="2214720" y="2071800"/>
            <a:ext cx="478620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Homework/Challen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Challenge Ques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3828960" y="3143160"/>
            <a:ext cx="531504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Volume of a Cylind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How might we find the Volume of a Cylin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V = A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Conversion of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1cm – 10m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1m – 100c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1km – 1000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Conversions of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5" descr=""/>
          <p:cNvPicPr/>
          <p:nvPr/>
        </p:nvPicPr>
        <p:blipFill>
          <a:blip r:embed="rId1"/>
          <a:stretch/>
        </p:blipFill>
        <p:spPr>
          <a:xfrm>
            <a:off x="4500720" y="4581360"/>
            <a:ext cx="4046400" cy="2054520"/>
          </a:xfrm>
          <a:prstGeom prst="rect">
            <a:avLst/>
          </a:prstGeom>
          <a:ln w="0">
            <a:noFill/>
          </a:ln>
        </p:spPr>
      </p:pic>
      <p:sp>
        <p:nvSpPr>
          <p:cNvPr id="85" name="Text Box 6"/>
          <p:cNvSpPr/>
          <p:nvPr/>
        </p:nvSpPr>
        <p:spPr>
          <a:xfrm>
            <a:off x="1116000" y="1341360"/>
            <a:ext cx="61927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1 cm2 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= 10 mm x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10 mm 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=100 mm2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1 m2 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= 100 cm x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100 cm 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= 10 000 cm2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1 m2 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= 1000 mm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1000 mm 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= 1 000 000 mm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1 ha 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= 100 m x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100 m 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= 10 000 m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1 km2 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= 100 h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What about when cubic unit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98064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1 cm</a:t>
            </a:r>
            <a:r>
              <a:rPr b="0" lang="en-AU" sz="3200" spc="-1" strike="noStrike" baseline="30000">
                <a:solidFill>
                  <a:srgbClr val="000000"/>
                </a:solidFill>
                <a:latin typeface="Calibri"/>
              </a:rPr>
              <a:t>3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= 1cm x 1cm x 1c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= 10 mm × 10 mm × 10 m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= 1000 mm</a:t>
            </a:r>
            <a:r>
              <a:rPr b="0" lang="en-AU" sz="3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1 m</a:t>
            </a:r>
            <a:r>
              <a:rPr b="0" lang="en-AU" sz="3200" spc="-1" strike="noStrike" baseline="30000">
                <a:solidFill>
                  <a:srgbClr val="000000"/>
                </a:solidFill>
                <a:latin typeface="Calibri"/>
              </a:rPr>
              <a:t>3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= 1m x 1m x 1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= 100 cm × 100 cm × 100 c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= 1 000 000 cm</a:t>
            </a:r>
            <a:r>
              <a:rPr b="0" lang="en-AU" sz="3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6" descr=""/>
          <p:cNvPicPr/>
          <p:nvPr/>
        </p:nvPicPr>
        <p:blipFill>
          <a:blip r:embed="rId1"/>
          <a:stretch/>
        </p:blipFill>
        <p:spPr>
          <a:xfrm>
            <a:off x="4859280" y="4653000"/>
            <a:ext cx="365148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Capac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250920" y="980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olume - The volume of a three-dimensional figure is the amount of space within i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Measured in Units Cubed (e.g. cm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Volume and capacity are related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Capacity is the amount of material (usually liquid) that a container can hold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Capacity is measured in millilitres, litres and kilolit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5" descr=""/>
          <p:cNvPicPr/>
          <p:nvPr/>
        </p:nvPicPr>
        <p:blipFill>
          <a:blip r:embed="rId1"/>
          <a:stretch/>
        </p:blipFill>
        <p:spPr>
          <a:xfrm>
            <a:off x="2916360" y="4869000"/>
            <a:ext cx="3600360" cy="20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Examples of Capac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5" descr=""/>
          <p:cNvPicPr/>
          <p:nvPr/>
        </p:nvPicPr>
        <p:blipFill>
          <a:blip r:embed="rId1"/>
          <a:stretch/>
        </p:blipFill>
        <p:spPr>
          <a:xfrm>
            <a:off x="1187280" y="2271600"/>
            <a:ext cx="6913800" cy="33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Calibri"/>
              </a:rPr>
              <a:t>How does Volume relate to Capacity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71360" y="1213920"/>
            <a:ext cx="761508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Calibri"/>
              </a:rPr>
              <a:t>1000 mL = 1 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Calibri"/>
              </a:rPr>
              <a:t>1000 L = 1 k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Calibri"/>
              </a:rPr>
              <a:t>1 cm</a:t>
            </a:r>
            <a:r>
              <a:rPr b="1" lang="en-AU" sz="36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1" lang="en-AU" sz="3600" spc="-1" strike="noStrike">
                <a:solidFill>
                  <a:srgbClr val="000000"/>
                </a:solidFill>
                <a:latin typeface="Calibri"/>
              </a:rPr>
              <a:t> = 1 m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Calibri"/>
              </a:rPr>
              <a:t>1,000cm</a:t>
            </a:r>
            <a:r>
              <a:rPr b="1" lang="en-AU" sz="36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1" lang="en-AU" sz="3600" spc="-1" strike="noStrike">
                <a:solidFill>
                  <a:srgbClr val="000000"/>
                </a:solidFill>
                <a:latin typeface="Calibri"/>
              </a:rPr>
              <a:t> = 1000ml = 1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Calibri"/>
              </a:rPr>
              <a:t>1 m</a:t>
            </a:r>
            <a:r>
              <a:rPr b="1" lang="en-AU" sz="36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1" lang="en-AU" sz="3600" spc="-1" strike="noStrike">
                <a:solidFill>
                  <a:srgbClr val="000000"/>
                </a:solidFill>
                <a:latin typeface="Calibri"/>
              </a:rPr>
              <a:t> = 1000 L = 1 k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Convert 1800 mL to L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1800ml =  1800/1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= 1.8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2.3 m3 to L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1m3 = 1000L (1k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2.3m3 = 2.3k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= 2300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5" descr=""/>
          <p:cNvPicPr/>
          <p:nvPr/>
        </p:nvPicPr>
        <p:blipFill>
          <a:blip r:embed="rId1"/>
          <a:stretch/>
        </p:blipFill>
        <p:spPr>
          <a:xfrm>
            <a:off x="5364000" y="2205000"/>
            <a:ext cx="229572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What is Volum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volume of a three-dimensional figure is the amount of space within i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Measured in Units Cubed (e.g. cm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Capac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Find the Capacity of this cub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Length = 5.53c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V = A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= (5.53 x 5.53) x 5.5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= 169.11cm3 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(1cm3 = 1m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Capacity = 169.11m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5" descr=""/>
          <p:cNvPicPr/>
          <p:nvPr/>
        </p:nvPicPr>
        <p:blipFill>
          <a:blip r:embed="rId1"/>
          <a:stretch/>
        </p:blipFill>
        <p:spPr>
          <a:xfrm>
            <a:off x="6732720" y="549360"/>
            <a:ext cx="1887480" cy="140004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6"/>
          <p:cNvSpPr/>
          <p:nvPr/>
        </p:nvSpPr>
        <p:spPr>
          <a:xfrm>
            <a:off x="6516720" y="18252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Length = 5.53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Find the capacity of this rectangular pris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Calibri"/>
              </a:rPr>
              <a:t>Solu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Volume = </a:t>
            </a:r>
            <a:r>
              <a:rPr b="0" i="1" lang="en-AU" sz="3200" spc="-1" strike="noStrike">
                <a:solidFill>
                  <a:srgbClr val="000000"/>
                </a:solidFill>
                <a:latin typeface="Calibri"/>
              </a:rPr>
              <a:t>Ah </a:t>
            </a:r>
            <a:r>
              <a:rPr b="0" i="1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= (26 x 12) x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= 312 × 5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= 1560 cm3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(1cm3 = 1m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Capacity = 1560 mL or 1.56 L  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(1000mL = 1L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5781600" y="0"/>
            <a:ext cx="3362400" cy="19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Ex 11.08 – Q 7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4" descr=""/>
          <p:cNvPicPr/>
          <p:nvPr/>
        </p:nvPicPr>
        <p:blipFill>
          <a:blip r:embed="rId1"/>
          <a:stretch/>
        </p:blipFill>
        <p:spPr>
          <a:xfrm>
            <a:off x="539640" y="1341360"/>
            <a:ext cx="799308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What size rainwater tank would be needed to hold the run-off when 40 mm of rain falls on a roof 12 m long and 3.6 m wide? (Answer in litres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Volume of a Pris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400" spc="-1" strike="noStrike">
                <a:solidFill>
                  <a:srgbClr val="000000"/>
                </a:solidFill>
                <a:latin typeface="Calibri"/>
              </a:rPr>
              <a:t>Volume of a Prism is calculated by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Volume = Area of cross section x perpendicular heigh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V = A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V = (4 x 4) x 4 = 64 m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5643720" y="3714840"/>
            <a:ext cx="282888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What is thi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It has 2 equal shapes at the base, but it is not a prism as it has rounded sid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It is a Cylind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5929200" y="3357720"/>
            <a:ext cx="255276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Volume of a Cylind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How might we find the Volume of a Cylin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V = A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5429160" y="3071880"/>
            <a:ext cx="3328920" cy="33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Pieces Mis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Find the volume of concrete used to make this pip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Volume of Concrete = Volume of Big Cylinder – Volume of Small Cylinder (hol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5364000" y="3500280"/>
            <a:ext cx="325440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What shape is present her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4700520" y="3714840"/>
            <a:ext cx="4443480" cy="2786040"/>
          </a:xfrm>
          <a:prstGeom prst="rect">
            <a:avLst/>
          </a:prstGeom>
          <a:ln w="0">
            <a:noFill/>
          </a:ln>
        </p:spPr>
      </p:pic>
      <p:sp>
        <p:nvSpPr>
          <p:cNvPr id="69" name="TextBox 4"/>
          <p:cNvSpPr/>
          <p:nvPr/>
        </p:nvSpPr>
        <p:spPr>
          <a:xfrm>
            <a:off x="4643280" y="3714840"/>
            <a:ext cx="64296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9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What 3D shapes can you se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5214960" y="3429000"/>
            <a:ext cx="37670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2T07:35:10Z</dcterms:created>
  <dc:creator>Corporate Edition</dc:creator>
  <dc:description/>
  <dc:language>en-US</dc:language>
  <cp:lastModifiedBy>RomaK</cp:lastModifiedBy>
  <dcterms:modified xsi:type="dcterms:W3CDTF">2015-09-04T09:23:43Z</dcterms:modified>
  <cp:revision>53</cp:revision>
  <dc:subject/>
  <dc:title>Slide 1</dc:title>
</cp:coreProperties>
</file>