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0CBD-9722-48BA-A180-31A2C24C17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Volume of the Solid. To 1 decimal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mework/Chall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 – 10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 – 10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km –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mm x 10 m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00 m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cm x 100 c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000 c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0 mm x 1000 m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m x 100 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when cubic uni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cm x 1cm x 1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mm × 10 mm ×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0 m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m x 1m x 1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cm × 100 cm ×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- The volume of a three-dimensional figure is the amount of space within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and capacity are rel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is the amount of material (usually liquid) that a container can ho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is measured in millilitres, litres and kiloli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 of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Volume relate to Capa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mL = 1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L = 1 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 = 1 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000cm3 = 1000ml = 1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3 = 1000 L = 1 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rt 1800 mL to 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800ml =  1800/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 1.8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3 m3 to 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m3 = 1000L (1k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3m3 = 2.3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 2300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Volu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of a three-dimensional figure is the amount of space within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Capacity of this cu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5.53 x 5.53) x 5.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69.11cm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= 169.11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capacity of this rectangular pri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A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26 x 12) 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12 × 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560 cm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= 1560 mL or 1.56 L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000mL = 1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 11.08 – Q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ize rainwater tank would be needed to hold the run-off when 40 mm of rain falls on a roof 12 m long and 3.6 m wide? (Answer in litre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Prism is calcula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Area of cross section x perpendicular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(4 x 4) x 4 = 64 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 equal shapes at the base, but it is not a prism as it has rounded s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eces Mi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volume of concrete used to make this pi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Concrete = Volume of Big Cylinder – Volume of Small Cylinder (ho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 is present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D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0599-9077-4DBD-A796-1EB27F16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70DC-E745-4810-8EDC-5F80749B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037-F212-4ADE-AC49-46A35949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795-ABC2-4297-93EC-E3E9F283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DE0A-0D6B-4150-BB2D-334D4F61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856-1955-4145-9519-D5A00C48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30B-5164-47C5-8232-25741517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483-3704-4E63-9E53-F96A98EF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9D8-2DFF-4049-992A-9A5BBD6E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C03-FA93-473E-A864-AD07FB43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31E-ACAC-42B1-A18E-6923CE5E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67B-974C-4C8B-AB43-8F8AB52A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3527-E74A-495F-A7BA-0DD2022E3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428840" y="5643720"/>
            <a:ext cx="72864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Arial"/>
              </a:rPr>
              <a:t>Find the Volume of the Solid. To 1 decima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214720" y="20718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work/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allenge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828960" y="3143160"/>
            <a:ext cx="5315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 of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cm – 10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m – 100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km – 1000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4500720" y="4581360"/>
            <a:ext cx="4046400" cy="2054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116000" y="1341360"/>
            <a:ext cx="619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c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m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 m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100 mm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c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 c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000 cm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0 m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0 m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 000 000 m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 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000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about when cubic uni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80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cm x 1cm x 1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 mm × 10 mm × 10 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00 m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m x 1m x 1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0 cm × 100 cm × 100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 000 000 c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4859280" y="4653000"/>
            <a:ext cx="36514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980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- The volume of a three-dimensional figure is the amount of space withi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and capacity are rel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is the amount of material (usually liquid) that a container can h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is measured in millilitres, litres and kilolit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2916360" y="4869000"/>
            <a:ext cx="36003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s of 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187280" y="2271600"/>
            <a:ext cx="691380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How does Volume relate to Capacit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1360" y="1213920"/>
            <a:ext cx="7615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000 mL = 1 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000 L = 1 k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 m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,000c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000ml = 1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000 L = 1 k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vert 1800 mL to 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800ml =  1800/1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.8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3 m3 to L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m3 = 1000L (1k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3m3 = 2.3k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2300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2295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Volu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olume of a three-dimensional figure is the amount of space withi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Capacity of this cu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(5.53 x 5.53) x 5.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69.11cm3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= 169.11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732720" y="549360"/>
            <a:ext cx="1887480" cy="1400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6516720" y="1825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ngth = 5.5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capacity of this rectangular pr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= 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Ah 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(26 x 12) x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312 × 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560 cm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= 1560 mL or 1.56 L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000mL = 1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781600" y="0"/>
            <a:ext cx="3362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 11.08 – Q 7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9930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ize rainwater tank would be needed to hold the run-off when 40 mm of rain falls on a roof 12 m long and 3.6 m wide? (Answer in litre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P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00000"/>
                </a:solidFill>
                <a:latin typeface="Calibri"/>
              </a:rPr>
              <a:t>Volume of a Prism is calculated b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= Area of cross section x perpendicular 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(4 x 4) x 4 = 64 m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643720" y="3714840"/>
            <a:ext cx="2828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has 2 equal shapes at the base, but it is not a prism as it has rounded s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t is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929200" y="3357720"/>
            <a:ext cx="25527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429160" y="3071880"/>
            <a:ext cx="33289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ieces Mi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volume of concrete used to make this p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of Concrete = Volume of Big Cylinder – Volume of Small Cylinder (ho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254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hape is present 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700520" y="3714840"/>
            <a:ext cx="4443480" cy="2786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4643280" y="3714840"/>
            <a:ext cx="642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9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3D shapes can you se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214960" y="3429000"/>
            <a:ext cx="3767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7:35:10Z</dcterms:created>
  <dc:creator>Corporate Edition</dc:creator>
  <dc:description/>
  <dc:language>en-US</dc:language>
  <cp:lastModifiedBy>RomaK</cp:lastModifiedBy>
  <dcterms:modified xsi:type="dcterms:W3CDTF">2015-09-04T09:23:43Z</dcterms:modified>
  <cp:revision>53</cp:revision>
  <dc:subject/>
  <dc:title>Slide 1</dc:title>
</cp:coreProperties>
</file>