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3CDC-DA6D-4CD0-B1DD-5FAC2CF3DA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3B7-9D21-4993-9D8C-472EAA1A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404-750F-4F08-BD40-1F25474A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E63-EDFC-46BE-B05C-B793DE4A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8B2-19D5-4D6F-8B07-FEFFED80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CF87-B218-4C3A-9CCD-3FCA4CF9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C244-EFF9-4D47-9F10-4ADE1710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66CC-9B7E-4751-9082-D5519B3B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6967-B682-4F72-B7E2-A1A02BE4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7A02-147A-4DEA-B0AF-5A17C9A2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10A0-75A2-4B30-9067-D2330678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39E1-4B95-4F00-8BCF-53A05ED6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FFF-49F2-4D51-9D62-67DBA364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8204-AD9F-40E9-BA06-65F069BB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F27C-D5D1-4F13-B082-21A07C74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4A0A-97D6-4BF1-A87F-C9C29942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99AE-4E9E-4CF8-85E2-D52C9D53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C850-E4BA-49F6-BC76-3B347BFF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06A-E0AB-4275-B83B-9A11502A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02A-8281-49FC-BA99-0825484B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A68-F318-4C99-B3A7-E77C2A39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134-020E-4BDF-8E7C-529AF0E5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4ED-85DE-449E-ADF6-F46ED22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FFF-0817-40C1-9B50-6EC32B8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73A-F885-4424-92AA-E1D92D20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2136-A5E1-47C0-AA9D-8F26E88639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1774-D703-41B7-A9F8-F841FEE4205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6" descr="linkedtriangles"/>
          <p:cNvPicPr/>
          <p:nvPr/>
        </p:nvPicPr>
        <p:blipFill>
          <a:blip r:embed="rId1"/>
          <a:stretch/>
        </p:blipFill>
        <p:spPr>
          <a:xfrm>
            <a:off x="2819520" y="28954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7" descr="equiangular"/>
          <p:cNvPicPr/>
          <p:nvPr/>
        </p:nvPicPr>
        <p:blipFill>
          <a:blip r:embed="rId1"/>
          <a:stretch/>
        </p:blipFill>
        <p:spPr>
          <a:xfrm>
            <a:off x="5105520" y="223524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6" descr="Congruent"/>
          <p:cNvPicPr/>
          <p:nvPr/>
        </p:nvPicPr>
        <p:blipFill>
          <a:blip r:embed="rId1"/>
          <a:stretch/>
        </p:blipFill>
        <p:spPr>
          <a:xfrm>
            <a:off x="4800600" y="3200400"/>
            <a:ext cx="434340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7" descr="Hypotenuse"/>
          <p:cNvPicPr/>
          <p:nvPr/>
        </p:nvPicPr>
        <p:blipFill>
          <a:blip r:embed="rId1"/>
          <a:stretch/>
        </p:blipFill>
        <p:spPr>
          <a:xfrm>
            <a:off x="4648320" y="2619360"/>
            <a:ext cx="4343400" cy="27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 right triangle with legs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hypotenus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a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6" descr="PTheorem"/>
          <p:cNvPicPr/>
          <p:nvPr/>
        </p:nvPicPr>
        <p:blipFill>
          <a:blip r:embed="rId1"/>
          <a:srcRect l="0" t="0" r="62919" b="22993"/>
          <a:stretch/>
        </p:blipFill>
        <p:spPr>
          <a:xfrm>
            <a:off x="4856040" y="2336760"/>
            <a:ext cx="344988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6" descr="triangle"/>
          <p:cNvPicPr/>
          <p:nvPr/>
        </p:nvPicPr>
        <p:blipFill>
          <a:blip r:embed="rId1"/>
          <a:stretch/>
        </p:blipFill>
        <p:spPr>
          <a:xfrm>
            <a:off x="4876920" y="2344680"/>
            <a:ext cx="403848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(a+b)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/2=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2" descr="acute"/>
          <p:cNvPicPr/>
          <p:nvPr/>
        </p:nvPicPr>
        <p:blipFill>
          <a:blip r:embed="rId1"/>
          <a:stretch/>
        </p:blipFill>
        <p:spPr>
          <a:xfrm>
            <a:off x="4952880" y="2479680"/>
            <a:ext cx="358164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7" descr="obtuse"/>
          <p:cNvPicPr/>
          <p:nvPr/>
        </p:nvPicPr>
        <p:blipFill>
          <a:blip r:embed="rId1"/>
          <a:stretch/>
        </p:blipFill>
        <p:spPr>
          <a:xfrm>
            <a:off x="5105520" y="2940120"/>
            <a:ext cx="350496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876920" y="2438280"/>
            <a:ext cx="3733560" cy="3657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876920" y="5791320"/>
            <a:ext cx="3045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7" descr="Scalene"/>
          <p:cNvPicPr/>
          <p:nvPr/>
        </p:nvPicPr>
        <p:blipFill>
          <a:blip r:embed="rId1"/>
          <a:stretch/>
        </p:blipFill>
        <p:spPr>
          <a:xfrm>
            <a:off x="4952880" y="25210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7" descr="Isosceles"/>
          <p:cNvPicPr/>
          <p:nvPr/>
        </p:nvPicPr>
        <p:blipFill>
          <a:blip r:embed="rId1"/>
          <a:stretch/>
        </p:blipFill>
        <p:spPr>
          <a:xfrm>
            <a:off x="5626080" y="2133720"/>
            <a:ext cx="24894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78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IsoTriTh.avi" descr=""/>
          <p:cNvPicPr/>
          <p:nvPr/>
        </p:nvPicPr>
        <p:blipFill>
          <a:blip r:embed="rId1"/>
          <a:stretch/>
        </p:blipFill>
        <p:spPr>
          <a:xfrm>
            <a:off x="3760920" y="18288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4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7" descr="equilateral"/>
          <p:cNvPicPr/>
          <p:nvPr/>
        </p:nvPicPr>
        <p:blipFill>
          <a:blip r:embed="rId1"/>
          <a:stretch/>
        </p:blipFill>
        <p:spPr>
          <a:xfrm>
            <a:off x="5029200" y="2367000"/>
            <a:ext cx="34290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1Z</dcterms:modified>
  <cp:revision>10</cp:revision>
  <dc:subject/>
  <dc:title>The World Of Triangles</dc:title>
</cp:coreProperties>
</file>