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A6F3-84B8-443D-B4E3-BC04A6F39D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92929"/>
                </a:solidFill>
                <a:latin typeface="Arial"/>
              </a:rPr>
              <a:t>The World Of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World Of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quiangular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 equiangular triangle is a triangle which has three equal angles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angular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quiangular triangle is a triangle which has three equal ang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gruent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gruent triangles are triangles whose corresponding angles and sides are congruent. 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y are exactly the same size and shape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triangles are triangles whose corresponding angles and sides are congruent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exactly the same size and sha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Hypotenu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hypotenuse of a right triangle is the triangle's longest side, i.e., the side opposite the righ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poten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potenuse of a right triangle is the triangle's longest side, i.e., the side opposite the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Pythagorean Theore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or a right triangle with legs a and b and hypotenuse c, a2+b2=c2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ythagorean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ight triangle with legs a and b and hypotenuse c, a2+b2=c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riangle Quiz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lease complete the following quiz that covers the information that was just presented to you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complete the following quiz that covers the information that was just presented to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a triangle has three unequal sides it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Obtu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Isosce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triangle has three unequal sides it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Obt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hich has three equal angles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Equilater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hich has three equal angles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Equ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ith (at least) two equal sides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ith (at least) two equal sides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4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wo triangles that are equal are called ______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Acute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Obtuse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Congruent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riangles that are equal are called ______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cu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Obt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Congru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5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ith all three sides of equal length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Equilater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Equilater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ith all three sides of equal length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Equ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Equ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is a 3-sided polygon.  Every triangle has three sides and three angles. When added together, the three angles equal 180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is a 3-sided polygon.  Every triangle has three sides and three angles. When added together, the three angles equal 18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6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ith an angle of 90°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ith an angle of 90°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7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in which all three angles are less than 90°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Righ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Scale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in which all three angles are less than 90°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Scal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8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in which one of the angles is greater than 90°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Obtu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Obtu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in which one of the angles is greater than 90°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Obt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Obt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9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is the Hypotenuse of a right triangle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The smalles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The side opposite the righ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The righ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The side opposite the righ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Hypotenuse of a right triang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The smalles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The side opposite the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The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The side opposite the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10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Pythagorean Theorem states …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pr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(a+b)2/2=c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a2+b2=c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a2+b2=c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ythagorean Theorem state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(a+b)2/2=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2+b2=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2+b2=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1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Use the Pythagorean Theorem to solve the following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=  5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 = 1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 = 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 = 1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Pythagorean Theorem to solve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cute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in which all three angles are less than 90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ute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in which all three angles are less than 9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Obtuse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 obtuse triangle is a triangle in which one of the angles is greater than 90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use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btuse triangle is a triangle in which one of the angles is greater than 9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ight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right triangle is triangle with an angle of 90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ight triangle is triangle with an angle of 9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calene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ith three unequal sides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ene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ith three unequal s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sosceles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 isosceles triangle is a triangle with (at least) two equal sides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sceles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sosceles triangle is a triangle with (at least) two equal s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sosceles Triangle Theorem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following movie shows that if two sides of a triangle are congruent, then the angles opposite those sides are congruent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sceles Triangle Theor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movie shows that if two sides of a triangle are congruent, then the angles opposite those sides are congru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quilateral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 equilateral triangle is a triangle with all three sides of equal length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ateral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quilateral triangle is a triangle with all three sides of equal l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2C28-1771-40DD-9A01-2E2829A3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2264-EF99-454F-8F11-18297308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8947-BFB9-4F1B-97C9-9B266A23F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4761-B7FF-411D-AC33-EEF263EAF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BFCC-1E21-4EAA-9E6F-2272B5FD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CB02-EF45-4265-8E1E-120C9491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F4DD-81BD-4C18-A84C-1436EE11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EE22-D5CA-47CD-9161-954C0881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1A2F-29E3-4CE8-80BD-92B01AD9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A0CE-9A18-4A4F-8604-044351F9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D15B-D7EF-44E7-AA47-946B3F47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0A53-71C8-472B-B0BD-4556CACF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FA36-EA2C-4F2F-85CF-1BE89E68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70EA-739B-4BE2-9575-138820E8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DF08-2DBC-41FF-950B-A62EA89E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A403-E97D-4626-8AF8-2A87B416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52B6-13F8-4FB6-911D-AA6B815BD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10AC-9B7F-444C-919D-92805B2A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E97F-94D3-469C-8401-EF6E3F82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3786-015F-4FB6-9853-9646FC87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73BB-B2C4-44A4-9238-C9847F82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B9D9-5267-4814-8B21-EF96ADBB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DB22-1061-453A-A165-24EF4CB9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3116-675B-4BFE-9803-9A9E0F83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1F5C-FC2E-40C9-AA16-534AF24E2D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6FAE-7746-44FF-BD06-914ADFC28B6D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orld Of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1" name="Picture 6" descr="linkedtriangles"/>
          <p:cNvPicPr/>
          <p:nvPr/>
        </p:nvPicPr>
        <p:blipFill>
          <a:blip r:embed="rId1"/>
          <a:stretch/>
        </p:blipFill>
        <p:spPr>
          <a:xfrm>
            <a:off x="2819520" y="2895480"/>
            <a:ext cx="396216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quiangular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 equiangular triangle is a triangle which has three equal angles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0" name="Picture 7" descr="equiangular"/>
          <p:cNvPicPr/>
          <p:nvPr/>
        </p:nvPicPr>
        <p:blipFill>
          <a:blip r:embed="rId1"/>
          <a:stretch/>
        </p:blipFill>
        <p:spPr>
          <a:xfrm>
            <a:off x="5105520" y="2235240"/>
            <a:ext cx="373356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gruent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gruent triangles are triangles whose corresponding angles and sides are congruent. 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ey are exactly the same size and shape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3" name="Picture 6" descr="Congruent"/>
          <p:cNvPicPr/>
          <p:nvPr/>
        </p:nvPicPr>
        <p:blipFill>
          <a:blip r:embed="rId1"/>
          <a:stretch/>
        </p:blipFill>
        <p:spPr>
          <a:xfrm>
            <a:off x="4800600" y="3200400"/>
            <a:ext cx="4343400" cy="1728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ypoten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e hypotenuse of a right triangle is the triangle's longest side, i.e., the side opposite the right 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6" name="Picture 7" descr="Hypotenuse"/>
          <p:cNvPicPr/>
          <p:nvPr/>
        </p:nvPicPr>
        <p:blipFill>
          <a:blip r:embed="rId1"/>
          <a:stretch/>
        </p:blipFill>
        <p:spPr>
          <a:xfrm>
            <a:off x="4648320" y="2619360"/>
            <a:ext cx="4343400" cy="2728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ythagorean Theor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r a right triangle with legs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and hypotenuse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 a</a:t>
            </a:r>
            <a:r>
              <a:rPr b="0" lang="en-US" sz="28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+b</a:t>
            </a:r>
            <a:r>
              <a:rPr b="0" lang="en-US" sz="28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=c</a:t>
            </a:r>
            <a:r>
              <a:rPr b="0" lang="en-US" sz="28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9" name="Picture 6" descr="PTheorem"/>
          <p:cNvPicPr/>
          <p:nvPr/>
        </p:nvPicPr>
        <p:blipFill>
          <a:blip r:embed="rId1"/>
          <a:srcRect l="0" t="0" r="62919" b="22993"/>
          <a:stretch/>
        </p:blipFill>
        <p:spPr>
          <a:xfrm>
            <a:off x="4856040" y="2336760"/>
            <a:ext cx="3449880" cy="3228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iangle Qui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lease complete the following quiz that covers the information that was just presented to you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f a triangle has three unequal sides it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Obtu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Isosce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hich has three equal angles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Equilater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ith (at least) two equal sides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wo triangles that are equal are called ______ triangl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Acut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Obtus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Congruent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76920" y="19810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ith all three sides of equal length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Equilater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Equilater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is a 3-sided polygon.  Every triangle has three sides and three angles. When added together, the three angles equal 180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4" name="Picture 6" descr="triangle"/>
          <p:cNvPicPr/>
          <p:nvPr/>
        </p:nvPicPr>
        <p:blipFill>
          <a:blip r:embed="rId1"/>
          <a:stretch/>
        </p:blipFill>
        <p:spPr>
          <a:xfrm>
            <a:off x="4876920" y="2344680"/>
            <a:ext cx="4038480" cy="3133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ith an angle of 90°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in which all three angles are less than 90°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Righ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Scale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in which one of the angles is greater than 90°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Obtu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Obtu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What is the Hypotenuse of a right triangle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The smallest angl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The side opposite the right angl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The right angl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The side opposite the right angl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e Pythagorean Theorem states …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en-US" sz="2400" spc="-1" strike="noStrike">
                <a:solidFill>
                  <a:srgbClr val="29292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(a+b)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/2=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a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+b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=c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a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+b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=c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Use the Pythagorean Theorem to solve the following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 =  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 = 1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 = 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 = 13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ute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in which all three angles are less than 90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7" name="Picture 12" descr="acute"/>
          <p:cNvPicPr/>
          <p:nvPr/>
        </p:nvPicPr>
        <p:blipFill>
          <a:blip r:embed="rId1"/>
          <a:stretch/>
        </p:blipFill>
        <p:spPr>
          <a:xfrm>
            <a:off x="4952880" y="2479680"/>
            <a:ext cx="3581640" cy="2316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tuse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 obtuse triangle is a triangle in which one of the angles is greater than 90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0" name="Picture 7" descr="obtuse"/>
          <p:cNvPicPr/>
          <p:nvPr/>
        </p:nvPicPr>
        <p:blipFill>
          <a:blip r:embed="rId1"/>
          <a:stretch/>
        </p:blipFill>
        <p:spPr>
          <a:xfrm>
            <a:off x="5105520" y="2940120"/>
            <a:ext cx="3504960" cy="2050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ght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right triangle is triangle with an angle of 90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4876920" y="2438280"/>
            <a:ext cx="3733560" cy="3657600"/>
          </a:xfrm>
          <a:prstGeom prst="rtTriangl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4876920" y="5791320"/>
            <a:ext cx="30456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alene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ith three unequal sides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8" name="Picture 7" descr="Scalene"/>
          <p:cNvPicPr/>
          <p:nvPr/>
        </p:nvPicPr>
        <p:blipFill>
          <a:blip r:embed="rId1"/>
          <a:stretch/>
        </p:blipFill>
        <p:spPr>
          <a:xfrm>
            <a:off x="4952880" y="2521080"/>
            <a:ext cx="3810240" cy="2847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osceles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 isosceles triangle is a triangle with (at least) two equal sides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1" name="Picture 7" descr="Isosceles"/>
          <p:cNvPicPr/>
          <p:nvPr/>
        </p:nvPicPr>
        <p:blipFill>
          <a:blip r:embed="rId1"/>
          <a:stretch/>
        </p:blipFill>
        <p:spPr>
          <a:xfrm>
            <a:off x="5626080" y="2133720"/>
            <a:ext cx="24894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osceles Triangle Theore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78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e following movie shows that if two sides of a triangle are congruent, then the angles opposite those sides are congruent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4" name="IsoTriTh.avi" descr=""/>
          <p:cNvPicPr/>
          <p:nvPr/>
        </p:nvPicPr>
        <p:blipFill>
          <a:blip r:embed="rId1"/>
          <a:stretch/>
        </p:blipFill>
        <p:spPr>
          <a:xfrm>
            <a:off x="3760920" y="1828800"/>
            <a:ext cx="594360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445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quilateral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 equilateral triangle is a triangle with all three sides of equal length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7" name="Picture 7" descr="equilateral"/>
          <p:cNvPicPr/>
          <p:nvPr/>
        </p:nvPicPr>
        <p:blipFill>
          <a:blip r:embed="rId1"/>
          <a:stretch/>
        </p:blipFill>
        <p:spPr>
          <a:xfrm>
            <a:off x="5029200" y="2367000"/>
            <a:ext cx="3429000" cy="3321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2:03:16Z</dcterms:created>
  <dc:creator>its</dc:creator>
  <dc:description/>
  <dc:language>en-US</dc:language>
  <cp:lastModifiedBy>RomaK</cp:lastModifiedBy>
  <dcterms:modified xsi:type="dcterms:W3CDTF">2015-09-04T09:23:51Z</dcterms:modified>
  <cp:revision>10</cp:revision>
  <dc:subject/>
  <dc:title>The World Of Triangles</dc:title>
</cp:coreProperties>
</file>