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7B4E-34A5-4E4E-AFE5-B520548E4E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AF4-9DF7-4D89-9121-9F350A94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936-AE9A-42AA-A644-7BE7849D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E3E-CF66-4D65-84C8-A89DEBE0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CD9-85E2-4CC8-86EB-3773596F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D1CF-24C9-4D89-AEE6-F1F791DA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246A-AE09-44F1-A5F4-812F00AB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3783-87F9-4AA1-A0B4-34C41786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ADE4-363F-4035-AC37-AA8D8E6B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5D62-A103-4535-A4F5-0592BC6A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10E3-4FAE-4A53-828A-05B8CB3A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5074-E1B5-40F3-86B1-13700619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217-E581-4BEA-A07F-E1F1AB2B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D1E1-12B2-46FB-902B-C4EFE6E2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8B3A-8136-4EC4-8A92-BB1B7530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89CD-9538-4424-B659-54392B36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3296-2DBE-4203-9889-DEE736C5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E38F-5035-49D7-90A7-BDE616B0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06C-FCBD-4027-A3B2-2EC6DEE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5CA-1C3C-4843-93F5-72A0F59B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FE0-C679-443E-9FF3-25407A49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7C1-3528-47C9-BFFB-3C42895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E44-F9D4-495C-A7B3-E545C94A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7E4-2C58-49CB-A3EB-1E0D74DB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49D-14FE-41CD-8497-5194505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BA28-8DE2-4ECC-90F5-02BD408BD1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B290-E047-4CE6-B9AC-D008FE26674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linkedtriangles"/>
          <p:cNvPicPr/>
          <p:nvPr/>
        </p:nvPicPr>
        <p:blipFill>
          <a:blip r:embed="rId1"/>
          <a:stretch/>
        </p:blipFill>
        <p:spPr>
          <a:xfrm>
            <a:off x="28195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7" descr="equiangular"/>
          <p:cNvPicPr/>
          <p:nvPr/>
        </p:nvPicPr>
        <p:blipFill>
          <a:blip r:embed="rId1"/>
          <a:stretch/>
        </p:blipFill>
        <p:spPr>
          <a:xfrm>
            <a:off x="5105520" y="223524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6" descr="Congruent"/>
          <p:cNvPicPr/>
          <p:nvPr/>
        </p:nvPicPr>
        <p:blipFill>
          <a:blip r:embed="rId1"/>
          <a:stretch/>
        </p:blipFill>
        <p:spPr>
          <a:xfrm>
            <a:off x="4800600" y="3200400"/>
            <a:ext cx="43434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7" descr="Hypotenuse"/>
          <p:cNvPicPr/>
          <p:nvPr/>
        </p:nvPicPr>
        <p:blipFill>
          <a:blip r:embed="rId1"/>
          <a:stretch/>
        </p:blipFill>
        <p:spPr>
          <a:xfrm>
            <a:off x="4648320" y="261936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 right triangle with legs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ypotenus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6" descr="PTheorem"/>
          <p:cNvPicPr/>
          <p:nvPr/>
        </p:nvPicPr>
        <p:blipFill>
          <a:blip r:embed="rId1"/>
          <a:srcRect l="0" t="0" r="62919" b="22993"/>
          <a:stretch/>
        </p:blipFill>
        <p:spPr>
          <a:xfrm>
            <a:off x="4856040" y="2336760"/>
            <a:ext cx="34498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6" descr="triangle"/>
          <p:cNvPicPr/>
          <p:nvPr/>
        </p:nvPicPr>
        <p:blipFill>
          <a:blip r:embed="rId1"/>
          <a:stretch/>
        </p:blipFill>
        <p:spPr>
          <a:xfrm>
            <a:off x="4876920" y="234468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(a+b)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/2=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2" descr="acute"/>
          <p:cNvPicPr/>
          <p:nvPr/>
        </p:nvPicPr>
        <p:blipFill>
          <a:blip r:embed="rId1"/>
          <a:stretch/>
        </p:blipFill>
        <p:spPr>
          <a:xfrm>
            <a:off x="4952880" y="2479680"/>
            <a:ext cx="35816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7" descr="obtuse"/>
          <p:cNvPicPr/>
          <p:nvPr/>
        </p:nvPicPr>
        <p:blipFill>
          <a:blip r:embed="rId1"/>
          <a:stretch/>
        </p:blipFill>
        <p:spPr>
          <a:xfrm>
            <a:off x="5105520" y="2940120"/>
            <a:ext cx="35049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76920" y="2438280"/>
            <a:ext cx="3733560" cy="3657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5791320"/>
            <a:ext cx="3045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7" descr="Scalene"/>
          <p:cNvPicPr/>
          <p:nvPr/>
        </p:nvPicPr>
        <p:blipFill>
          <a:blip r:embed="rId1"/>
          <a:stretch/>
        </p:blipFill>
        <p:spPr>
          <a:xfrm>
            <a:off x="4952880" y="25210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7" descr="Isosceles"/>
          <p:cNvPicPr/>
          <p:nvPr/>
        </p:nvPicPr>
        <p:blipFill>
          <a:blip r:embed="rId1"/>
          <a:stretch/>
        </p:blipFill>
        <p:spPr>
          <a:xfrm>
            <a:off x="5626080" y="2133720"/>
            <a:ext cx="24894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7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IsoTriTh.avi" descr=""/>
          <p:cNvPicPr/>
          <p:nvPr/>
        </p:nvPicPr>
        <p:blipFill>
          <a:blip r:embed="rId1"/>
          <a:stretch/>
        </p:blipFill>
        <p:spPr>
          <a:xfrm>
            <a:off x="3760920" y="1828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4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7" descr="equilateral"/>
          <p:cNvPicPr/>
          <p:nvPr/>
        </p:nvPicPr>
        <p:blipFill>
          <a:blip r:embed="rId1"/>
          <a:stretch/>
        </p:blipFill>
        <p:spPr>
          <a:xfrm>
            <a:off x="5029200" y="2367000"/>
            <a:ext cx="3429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1Z</dcterms:modified>
  <cp:revision>10</cp:revision>
  <dc:subject/>
  <dc:title>The World Of Triangles</dc:title>
</cp:coreProperties>
</file>