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A738-FF29-4DA8-B05E-80B0A985E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Linear Equation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lope-Intercept For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and y-inter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slope and y-intercept.  Just substitute the “m” with the slope value and the “b” with the y-intercept val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½ 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intercept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 A Grap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the point where the line crosses the y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– intercept =  b  =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  = m =  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To write equations given the slope and a point using 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The slope and a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: slope (m) and a point (x,y).  Substitute x, y, and m into y = mx+b and find the value of b (the y-intercept).  Then write the equation substituting m and b values into y = mx +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4,-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= ½(4)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=   2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y =  mx+b along with the sl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mx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= ½(2)  +  b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 =   1   +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     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   =   b      S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 =  ½  and b  =  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Two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equation of the line in  y= mx + b form.  Given: Two points.  First find the slope (m) and then substitute one of the points x and y values into Point-Slope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(-2, -4) &amp;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         = m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=½ and point (2, 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= ½x –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269-462B-48A8-997F-0CB08151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6DA-F4A2-4351-BAFD-1D012A0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C99-E00D-414B-BE2D-742691E8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C25F-89E2-441C-A504-21A38A44F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7B5D-E0D2-4F3A-B28C-70F5A42F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8181-752A-40E2-84CC-E9B74CA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886C-03B2-4E48-91FB-B34840C8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3492-DC0D-41C2-81BB-4C348052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7258-1883-48E8-B311-B78A4B54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44B-B435-45E8-9963-C312F3CC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4C0D-3941-475C-8ACB-6FC4C0EF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018-56CE-4D14-B5A6-0791858C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B558-BDA5-4CFD-AC0B-AF1A417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1DED-B113-4022-AE2F-FFBD22B8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0294-0D01-4743-BDE8-4F343B9A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4CAC-1AE2-4E8C-A24F-604355FB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9956-ECD6-456A-AFA0-33651EB5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2CB-05B3-4614-BC4B-F5E28012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966-5368-4E22-BA71-4F5B777E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CDBB-608F-4597-9D21-486FF418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5F3-F8D3-4AA0-8649-A15EE625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0DCE-2D56-412A-AA7A-DBF9A20D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6CBA-E4BC-48E8-B532-DBBD0BC3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1A6-4C21-4F6F-9998-403366CD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30AE-A511-4BA7-83B4-45F783AAC5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9BF-1602-4239-B82F-F1E70C8299A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560" y="3581280"/>
            <a:ext cx="647676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Writing Linear Equations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In Slope-Intercept Form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292929"/>
                </a:solidFill>
                <a:latin typeface="Arial"/>
              </a:rPr>
              <a:t>y = mx + b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760" y="685440"/>
            <a:ext cx="5715000" cy="6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and y-intercept.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Just substitute the “m” with the slope value and the “b” with the y-intercept value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181120" y="1981080"/>
            <a:ext cx="3754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lope = ½  an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y-intercept = 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86600" y="1981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8001000" y="259092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590920" y="4952880"/>
            <a:ext cx="3754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5562 L -0.06666 0.2781 E">
                                      <p:cBhvr>
                                        <p:cTn id="6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445 L -0.03333 0.18911 E">
                                      <p:cBhvr>
                                        <p:cTn id="6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6019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Grap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the point where the line crosses the y axi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-380880" y="1600200"/>
            <a:ext cx="4723920" cy="3809880"/>
            <a:chOff x="-380880" y="1600200"/>
            <a:chExt cx="4723920" cy="3809880"/>
          </a:xfrm>
        </p:grpSpPr>
        <p:pic>
          <p:nvPicPr>
            <p:cNvPr id="110" name="Picture 14" descr="[image]"/>
            <p:cNvPicPr/>
            <p:nvPr/>
          </p:nvPicPr>
          <p:blipFill>
            <a:blip r:embed="rId1"/>
            <a:stretch/>
          </p:blipFill>
          <p:spPr>
            <a:xfrm>
              <a:off x="173160" y="1600200"/>
              <a:ext cx="41698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-380880" y="1853280"/>
              <a:ext cx="1108440" cy="50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2" name="Rectangle 16"/>
            <p:cNvSpPr/>
            <p:nvPr/>
          </p:nvSpPr>
          <p:spPr>
            <a:xfrm>
              <a:off x="-380880" y="1853280"/>
              <a:ext cx="4434480" cy="3291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3" name="Rectangle 22"/>
          <p:cNvSpPr/>
          <p:nvPr/>
        </p:nvSpPr>
        <p:spPr>
          <a:xfrm>
            <a:off x="4952880" y="11430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8"/>
              <p:cNvSpPr txBox="1"/>
              <p:nvPr/>
            </p:nvSpPr>
            <p:spPr>
              <a:xfrm>
                <a:off x="5867280" y="2743200"/>
                <a:ext cx="45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9"/>
              <p:cNvSpPr txBox="1"/>
              <p:nvPr/>
            </p:nvSpPr>
            <p:spPr>
              <a:xfrm>
                <a:off x="7315200" y="2666880"/>
                <a:ext cx="1523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31"/>
          <p:cNvSpPr/>
          <p:nvPr/>
        </p:nvSpPr>
        <p:spPr>
          <a:xfrm>
            <a:off x="4267080" y="3429000"/>
            <a:ext cx="4343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y – intercept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=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b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-3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  = m =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mx + b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2209680" y="41148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Line 35"/>
          <p:cNvSpPr/>
          <p:nvPr/>
        </p:nvSpPr>
        <p:spPr>
          <a:xfrm flipV="1">
            <a:off x="2209680" y="3657600"/>
            <a:ext cx="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Line 36"/>
          <p:cNvSpPr/>
          <p:nvPr/>
        </p:nvSpPr>
        <p:spPr>
          <a:xfrm>
            <a:off x="2286000" y="3733920"/>
            <a:ext cx="609480" cy="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5"/>
              <p:cNvSpPr txBox="1"/>
              <p:nvPr/>
            </p:nvSpPr>
            <p:spPr>
              <a:xfrm>
                <a:off x="5715000" y="3886200"/>
                <a:ext cx="914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up    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ver 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Rectangle 47"/>
          <p:cNvSpPr/>
          <p:nvPr/>
        </p:nvSpPr>
        <p:spPr>
          <a:xfrm>
            <a:off x="7391520" y="38098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7010280" y="3429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2666880" y="53341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028E-008 L 0.02917 0.16651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95837E-006 L -0.14167 0.09991 E">
                                      <p:cBhvr>
                                        <p:cTn id="16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7544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07520" indent="-40752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To write equations given the slope and a point using  Point-Slope Form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7960" y="1676160"/>
            <a:ext cx="4267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6172200" y="16002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7924680" y="1676520"/>
            <a:ext cx="381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8153280" y="167652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718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764280" y="434340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32" name="Object 16"/>
          <p:cNvGraphicFramePr/>
          <p:nvPr/>
        </p:nvGraphicFramePr>
        <p:xfrm>
          <a:off x="1066680" y="4983120"/>
          <a:ext cx="281952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98312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8"/>
          <p:cNvGraphicFramePr/>
          <p:nvPr/>
        </p:nvGraphicFramePr>
        <p:xfrm>
          <a:off x="5410080" y="2209680"/>
          <a:ext cx="281952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2209680"/>
                    <a:ext cx="281952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Object 19"/>
              <p:cNvSpPr txBox="1"/>
              <p:nvPr/>
            </p:nvSpPr>
            <p:spPr>
              <a:xfrm>
                <a:off x="5378400" y="2743200"/>
                <a:ext cx="2957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0"/>
              <p:cNvSpPr txBox="1"/>
              <p:nvPr/>
            </p:nvSpPr>
            <p:spPr>
              <a:xfrm>
                <a:off x="5486400" y="3352680"/>
                <a:ext cx="27828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AutoShape 24"/>
          <p:cNvSpPr/>
          <p:nvPr/>
        </p:nvSpPr>
        <p:spPr>
          <a:xfrm>
            <a:off x="6934320" y="3352680"/>
            <a:ext cx="685800" cy="304920"/>
          </a:xfrm>
          <a:custGeom>
            <a:avLst/>
            <a:gdLst>
              <a:gd name="textAreaLeft" fmla="*/ 0 w 685800"/>
              <a:gd name="textAreaRight" fmla="*/ 194040 w 685800"/>
              <a:gd name="textAreaTop" fmla="*/ 11736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29"/>
              <p:cNvSpPr txBox="1"/>
              <p:nvPr/>
            </p:nvSpPr>
            <p:spPr>
              <a:xfrm>
                <a:off x="5029200" y="3886200"/>
                <a:ext cx="35402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0"/>
              <p:cNvSpPr txBox="1"/>
              <p:nvPr/>
            </p:nvSpPr>
            <p:spPr>
              <a:xfrm>
                <a:off x="5529240" y="4495680"/>
                <a:ext cx="25401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AutoShape 33"/>
          <p:cNvSpPr/>
          <p:nvPr/>
        </p:nvSpPr>
        <p:spPr>
          <a:xfrm>
            <a:off x="6858000" y="3276720"/>
            <a:ext cx="1523880" cy="380880"/>
          </a:xfrm>
          <a:custGeom>
            <a:avLst/>
            <a:gdLst>
              <a:gd name="textAreaLeft" fmla="*/ 266400 w 1523880"/>
              <a:gd name="textAreaRight" fmla="*/ 1104840 w 15238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5867280" y="5029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	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Schoolbook"/>
              </a:rPr>
              <a:t>-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6553080" y="4876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05 0.1 E">
                                      <p:cBhvr>
                                        <p:cTn id="20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1.11111E-006 L -0.24583 0.08889 E">
                                      <p:cBhvr>
                                        <p:cTn id="21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02917 0.09445 E">
                                      <p:cBhvr>
                                        <p:cTn id="22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4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579132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Th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lop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287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Given: slope (m) and a point (x,y).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 Substitute x, y, and m into y = mx+b and </a:t>
            </a:r>
            <a:r>
              <a:rPr b="0" lang="en-US" sz="2600" spc="-1" strike="noStrike" u="sng">
                <a:solidFill>
                  <a:srgbClr val="292929"/>
                </a:solidFill>
                <a:uFillTx/>
                <a:latin typeface="Arial"/>
              </a:rPr>
              <a:t>find the value of b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 (the y-intercept).  Then write the equation</a:t>
            </a:r>
            <a:r>
              <a:rPr b="1" lang="en-US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ubstituting m and b values into y = mx + b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419720" y="182844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Arial"/>
              </a:rPr>
              <a:t>Slope =½ and point (4,-1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943600" y="17524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7924680" y="1828800"/>
            <a:ext cx="381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8229600" y="18288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743200" y="5562720"/>
            <a:ext cx="3754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0" y="28195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(4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5040" indent="-185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4724280" y="3352680"/>
            <a:ext cx="38102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2      -2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6172200" y="37339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55112E-017 L 0.01667 0.08889 E">
                                      <p:cBhvr>
                                        <p:cTn id="322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0833 0.07801 E">
                                      <p:cBhvr>
                                        <p:cTn id="3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15417 0.08333 E">
                                      <p:cBhvr>
                                        <p:cTn id="34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5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9600"/>
                            </p:stCondLst>
                            <p:childTnLst>
                              <p:par>
                                <p:cTn id="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16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300"/>
                            </p:stCondLst>
                            <p:childTnLst>
                              <p:par>
                                <p:cTn id="373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9600"/>
                            </p:stCondLst>
                            <p:childTnLst>
                              <p:par>
                                <p:cTn id="3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96480"/>
            <a:ext cx="64008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y =  mx+b along with the slope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12"/>
              <p:cNvSpPr txBox="1"/>
              <p:nvPr/>
            </p:nvSpPr>
            <p:spPr>
              <a:xfrm>
                <a:off x="6019920" y="1905120"/>
                <a:ext cx="5140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10"/>
          <p:cNvSpPr/>
          <p:nvPr/>
        </p:nvSpPr>
        <p:spPr>
          <a:xfrm>
            <a:off x="304920" y="518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43434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3"/>
              <p:cNvSpPr txBox="1"/>
              <p:nvPr/>
            </p:nvSpPr>
            <p:spPr>
              <a:xfrm>
                <a:off x="7467480" y="1981080"/>
                <a:ext cx="16765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5"/>
              <p:cNvSpPr txBox="1"/>
              <p:nvPr/>
            </p:nvSpPr>
            <p:spPr>
              <a:xfrm>
                <a:off x="4648320" y="2666880"/>
                <a:ext cx="15555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6"/>
              <p:cNvSpPr txBox="1"/>
              <p:nvPr/>
            </p:nvSpPr>
            <p:spPr>
              <a:xfrm>
                <a:off x="6324480" y="2666880"/>
                <a:ext cx="106992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7"/>
              <p:cNvSpPr txBox="1"/>
              <p:nvPr/>
            </p:nvSpPr>
            <p:spPr>
              <a:xfrm>
                <a:off x="7848720" y="2666880"/>
                <a:ext cx="8064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Rectangle 18"/>
          <p:cNvSpPr/>
          <p:nvPr/>
        </p:nvSpPr>
        <p:spPr>
          <a:xfrm>
            <a:off x="4343400" y="320040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m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5715000" y="3124080"/>
            <a:ext cx="609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7696080" y="3200400"/>
            <a:ext cx="533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739152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4648320" y="396252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½(2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3429000" y="6095880"/>
            <a:ext cx="2971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Arial"/>
              </a:rPr>
              <a:t>y= ½x – 3</a:t>
            </a:r>
            <a:endParaRPr b="0" lang="en-US" sz="4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4876920" y="4419720"/>
            <a:ext cx="3292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b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-1      -1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      So!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 =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nd b  =  -3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AutoShape 28"/>
          <p:cNvSpPr/>
          <p:nvPr/>
        </p:nvSpPr>
        <p:spPr>
          <a:xfrm>
            <a:off x="6172200" y="46483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3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398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4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4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0.05 0.0777 E">
                                      <p:cBhvr>
                                        <p:cTn id="44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4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2125 0.0777 E">
                                      <p:cBhvr>
                                        <p:cTn id="45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3469E-006 L -0.1 0.0777 E">
                                      <p:cBhvr>
                                        <p:cTn id="459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46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475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89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0900"/>
                            </p:stCondLst>
                            <p:childTnLst>
                              <p:par>
                                <p:cTn id="486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492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you are given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wo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59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ing the equation of the line in  y= mx + b form.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Given: Two points.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First find the slope (m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nd then substitute one of the points x and y values into Point-Slope Form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73" name="Object 13"/>
          <p:cNvGraphicFramePr/>
          <p:nvPr/>
        </p:nvGraphicFramePr>
        <p:xfrm>
          <a:off x="1447920" y="4648320"/>
          <a:ext cx="25905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648320"/>
                    <a:ext cx="2590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12"/>
          <p:cNvSpPr/>
          <p:nvPr/>
        </p:nvSpPr>
        <p:spPr>
          <a:xfrm>
            <a:off x="992880" y="4038480"/>
            <a:ext cx="34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292929"/>
                </a:solidFill>
                <a:uFillTx/>
                <a:latin typeface="Times New Roman"/>
              </a:rPr>
              <a:t>Point-Slope Form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762120" y="510444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oint (-2, -4) &amp; Point (2, -2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800600" y="1676520"/>
            <a:ext cx="3352680" cy="11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Find th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292929"/>
                </a:solidFill>
                <a:latin typeface="Arial"/>
              </a:rPr>
              <a:t>Slope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=         = m =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8"/>
              <p:cNvSpPr txBox="1"/>
              <p:nvPr/>
            </p:nvSpPr>
            <p:spPr>
              <a:xfrm>
                <a:off x="7620120" y="2057400"/>
                <a:ext cx="1371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y'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hang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'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20"/>
              <p:cNvSpPr txBox="1"/>
              <p:nvPr/>
            </p:nvSpPr>
            <p:spPr>
              <a:xfrm>
                <a:off x="6324480" y="1981080"/>
                <a:ext cx="514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i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u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21"/>
              <p:cNvSpPr txBox="1"/>
              <p:nvPr/>
            </p:nvSpPr>
            <p:spPr>
              <a:xfrm>
                <a:off x="4800600" y="2590920"/>
                <a:ext cx="1555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22"/>
              <p:cNvSpPr txBox="1"/>
              <p:nvPr/>
            </p:nvSpPr>
            <p:spPr>
              <a:xfrm>
                <a:off x="6553080" y="2590920"/>
                <a:ext cx="106992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3"/>
              <p:cNvSpPr txBox="1"/>
              <p:nvPr/>
            </p:nvSpPr>
            <p:spPr>
              <a:xfrm>
                <a:off x="7848720" y="2514600"/>
                <a:ext cx="806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24"/>
          <p:cNvSpPr/>
          <p:nvPr/>
        </p:nvSpPr>
        <p:spPr>
          <a:xfrm>
            <a:off x="4800600" y="32004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83600" indent="-18360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Slope =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½</a:t>
            </a: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 and point (2, -2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183600" indent="-183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84" name="Object 25"/>
          <p:cNvGraphicFramePr/>
          <p:nvPr/>
        </p:nvGraphicFramePr>
        <p:xfrm>
          <a:off x="5638680" y="3581280"/>
          <a:ext cx="259092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581280"/>
                    <a:ext cx="2590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6"/>
          <p:cNvSpPr/>
          <p:nvPr/>
        </p:nvSpPr>
        <p:spPr>
          <a:xfrm>
            <a:off x="6172200" y="3200400"/>
            <a:ext cx="609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½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8153280" y="3200400"/>
            <a:ext cx="533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7772400" y="32004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9"/>
              <p:cNvSpPr txBox="1"/>
              <p:nvPr/>
            </p:nvSpPr>
            <p:spPr>
              <a:xfrm>
                <a:off x="5638680" y="4038480"/>
                <a:ext cx="25146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0" name="AutoShape 30"/>
          <p:cNvSpPr/>
          <p:nvPr/>
        </p:nvSpPr>
        <p:spPr>
          <a:xfrm>
            <a:off x="7010280" y="4114800"/>
            <a:ext cx="685800" cy="152280"/>
          </a:xfrm>
          <a:custGeom>
            <a:avLst/>
            <a:gdLst>
              <a:gd name="textAreaLeft" fmla="*/ 0 w 685800"/>
              <a:gd name="textAreaRight" fmla="*/ 194040 w 685800"/>
              <a:gd name="textAreaTop" fmla="*/ 5868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6934320" y="4114800"/>
            <a:ext cx="1371600" cy="15228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2"/>
              <p:cNvSpPr txBox="1"/>
              <p:nvPr/>
            </p:nvSpPr>
            <p:spPr>
              <a:xfrm>
                <a:off x="5562720" y="4572000"/>
                <a:ext cx="25588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3"/>
              <p:cNvSpPr txBox="1"/>
              <p:nvPr/>
            </p:nvSpPr>
            <p:spPr>
              <a:xfrm>
                <a:off x="5715000" y="5046840"/>
                <a:ext cx="2133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Text Box 34"/>
          <p:cNvSpPr/>
          <p:nvPr/>
        </p:nvSpPr>
        <p:spPr>
          <a:xfrm>
            <a:off x="5867280" y="5410080"/>
            <a:ext cx="251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-2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	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         -2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3124080" y="5638680"/>
            <a:ext cx="3200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y= ½x – 3</a:t>
            </a:r>
            <a:r>
              <a:rPr b="0" lang="en-US" sz="6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>
            <a:off x="6629400" y="5334120"/>
            <a:ext cx="76320" cy="761760"/>
          </a:xfrm>
          <a:prstGeom prst="downArrow">
            <a:avLst>
              <a:gd name="adj1" fmla="val 50000"/>
              <a:gd name="adj2" fmla="val 249528"/>
            </a:avLst>
          </a:prstGeom>
          <a:solidFill>
            <a:srgbClr val="00ff00"/>
          </a:solidFill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47840" indent="-447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 advTm="7000"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0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5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7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9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0.05834 0.0555 E">
                                      <p:cBhvr>
                                        <p:cTn id="57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11841E-006 L -0.2375 0.06105 E">
                                      <p:cBhvr>
                                        <p:cTn id="580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58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53469E-006 L -0.01667 0.0666 E">
                                      <p:cBhvr>
                                        <p:cTn id="589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59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10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621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6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6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8Z</dcterms:modified>
  <cp:revision>19</cp:revision>
  <dc:subject/>
  <dc:title>The World Of Triangles</dc:title>
</cp:coreProperties>
</file>