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EEF6A-C6BD-4808-9667-DEED999B56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 World Of Linear Equation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Writing Linear Equations               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n Slope-Intercept Form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 = mx + b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orld Of Linear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 Linear Equations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lope-Intercept For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 mx +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f you are given:  </a:t>
            </a:r>
            <a:br>
              <a:rPr sz="1200"/>
            </a:b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 slope and y-intercep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Finding the equation of the line in  y= mx + b form.  Given: slope and y-intercept.  Just substitute the “m” with the slope value and the “b” with the y-intercept value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lope = ½  an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-intercept = -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= mx + b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= ½x – 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are given: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lope and y-interce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the equation of the line in  y= mx + b form.  Given: slope and y-intercept.  Just substitute the “m” with the slope value and the “b” with the y-intercept val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= ½ 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-intercept = 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= mx +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= ½x –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f you are given:  A Graph</a:t>
            </a:r>
            <a:br>
              <a:rPr sz="1200"/>
            </a:b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Find the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 – intercept =  b  = the point where the line crosses the y axis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lope =             = m =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          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 – intercept =  b  = -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lope =               = m =   ½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= mx + b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= ½x – 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are given:  A Graph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– intercept =  b  = the point where the line crosses the y ax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=             = m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– intercept =  b  = 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=               = m =   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= mx +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= ½x –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f you are given:</a:t>
            </a:r>
            <a:br>
              <a:rPr sz="1200"/>
            </a:b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The slope and a poin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Given: slope (m) and a point (x,y). To write equations given the slope and a point using  Point-Slope Form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lope =½ and point (4,-1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= ½x – 3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Point-Slope 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1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are given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The slope and a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n: slope (m) and a point (x,y). To write equations given the slope and a point using  Point-Slope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=½ and point (4,-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= ½x –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-Slope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f you are given:</a:t>
            </a:r>
            <a:br>
              <a:rPr sz="1200"/>
            </a:b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The slope and a poin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Given: slope (m) and a point (x,y).  Substitute x, y, and m into y = mx+b and find the value of b (the y-intercept).  Then write the equation substituting m and b values into y = mx + b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lope =½ and point (4,-1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 = mx  +  b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= ½x – 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1 = ½(4)  +  b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1  =   2   +  b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2      -2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3  =   b      So!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m  =  ½  and b  =  -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are given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The slope and a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n: slope (m) and a point (x,y).  Substitute x, y, and m into y = mx+b and find the value of b (the y-intercept).  Then write the equation substituting m and b values into y = mx +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=½ and point (4,-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 mx  + 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= ½x –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 = ½(4)  + 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  =   2   + 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     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  =   b      So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 =  ½  and b  =  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f you are given: </a:t>
            </a:r>
            <a:br>
              <a:rPr sz="1200"/>
            </a:b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                  Two poin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Finding the equation of the line in  y= mx + b form.  Given: Two points.  First find the slope (m) and then substitute one of the points x and y values into y =  mx+b along with the slope.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Point (-2, -4) &amp; Point (2, -2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Find the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lope =             = m =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lope =½ and point (2, -2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 = mx  +  b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2 = ½(2)  +  b   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= ½x – 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2  =   1   +  b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1      -1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3   =   b      So!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m  =  ½  and b  =  -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are given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Two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the equation of the line in  y= mx + b form.  Given: Two points.  First find the slope (m) and then substitute one of the points x and y values into y =  mx+b along with the slop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(-2, -4) &amp; Point (2, -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=             = m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=½ and point (2, -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 mx  + 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 = ½(2)  +  b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= ½x –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  =   1   + 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      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   =   b      So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 =  ½  and b  =  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f you are given: </a:t>
            </a:r>
            <a:br>
              <a:rPr sz="1200"/>
            </a:b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                  Two poin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Finding the equation of the line in  y= mx + b form.  Given: Two points.  First find the slope (m) and then substitute one of the points x and y values into Point-Slope Form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Point-Slope 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Point (-2, -4) &amp; Point (2, -2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Find the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lope =         = m =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lope =½ and point (2, -2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2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-2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= ½x – 3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are given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Two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the equation of the line in  y= mx + b form.  Given: Two points.  First find the slope (m) and then substitute one of the points x and y values into Point-Slope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-Slope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(-2, -4) &amp; Point (2, -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=         = m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=½ and point (2, -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= ½x –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AF3C-C599-46E9-899A-33F744D83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1DD6-3CB9-424F-B114-C88DE82D6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AC96-9433-44EB-BA5C-DDE1AAA41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AF04-EF50-4AB9-8D93-9C946DA65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C8BC2-C959-467C-ADB5-C39A47973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B8CF2-0360-42DC-A292-2F21E5FF6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FBC53-A193-4180-92BB-7D9FFBFC9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BEEF8-3095-4AEC-974B-B75DE9862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E8C22-BAE2-43FA-AC51-7829989A3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942C8-4476-4222-9098-E15EA2F18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6F5C3-FB45-4BE2-A761-D8D3751E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F270-8D56-4D7D-B6C7-1B78FB0E4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2F9EF-5D68-46F4-B135-9660A86F7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FDBC5-8AC0-4AC8-BA93-87449FC33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17B66-49B2-42CC-8D29-E09806550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5E308-8ABC-453F-96DF-362E184B2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C8A03-B71C-44D8-A358-DD81F0995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04B2-FF7B-4DD2-8C4F-1BCF20A08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317A-1A7B-4D94-B79F-FBAA3E55F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4FCF-5C35-4581-8779-4CF1E51B8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90E6-5FEF-47AE-9C86-4A508984C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6BE5-7CD1-4008-AF5B-E6FE83BA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D7E7-D6A3-4B8B-A35B-9CB0ED240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E2CA-C6C6-4BAD-9935-9EC1BA483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0FC52-A7A3-44E4-913E-C230A0D6D3F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6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D6F72-5B71-44E3-8F34-08C8C47F573C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World Of Linear Equ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447560" y="3581280"/>
            <a:ext cx="6476760" cy="190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Writing Linear Equations                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In Slope-Intercept Form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      </a:t>
            </a:r>
            <a:r>
              <a:rPr b="1" lang="en-US" sz="4400" spc="-1" strike="noStrike">
                <a:solidFill>
                  <a:srgbClr val="292929"/>
                </a:solidFill>
                <a:latin typeface="Arial"/>
              </a:rPr>
              <a:t>y = mx + b</a:t>
            </a:r>
            <a:endParaRPr b="0" lang="en-US" sz="4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 advTm="7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9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04760" y="685440"/>
            <a:ext cx="5715000" cy="67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you are given: 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lop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y-inter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40388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Arial"/>
              </a:rPr>
              <a:t>Finding the equation of the line in  y= mx + b form.  </a:t>
            </a:r>
            <a:r>
              <a:rPr b="1" i="1" lang="en-US" sz="2600" spc="-1" strike="noStrike" u="sng">
                <a:solidFill>
                  <a:srgbClr val="292929"/>
                </a:solidFill>
                <a:uFillTx/>
                <a:latin typeface="Arial"/>
              </a:rPr>
              <a:t>Given: slope and y-intercept.</a:t>
            </a:r>
            <a:r>
              <a:rPr b="1" lang="en-US" sz="26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292929"/>
                </a:solidFill>
                <a:latin typeface="Arial"/>
              </a:rPr>
              <a:t>Just substitute the “m” with the slope value and the “b” with the y-intercept value.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181120" y="1981080"/>
            <a:ext cx="375444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34160" indent="-434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lope = ½  and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y-intercept = -3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y= mx + b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86600" y="1981080"/>
            <a:ext cx="609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8001000" y="25909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-3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2590920" y="4952880"/>
            <a:ext cx="37544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92929"/>
                </a:solidFill>
                <a:latin typeface="Arial"/>
              </a:rPr>
              <a:t>y= ½x – 3</a:t>
            </a:r>
            <a:endParaRPr b="0" lang="en-US" sz="6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 advTm="7000">
    <p:random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77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" dur="770" fill="hold"/>
                                        <p:tgtEl>
                                          <p:spTgt spid="1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" dur="77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" dur="77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8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05562 L -0.06666 0.2781 E">
                                      <p:cBhvr>
                                        <p:cTn id="70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33 0.0445 L -0.03333 0.18911 E">
                                      <p:cBhvr>
                                        <p:cTn id="73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00200" y="457200"/>
            <a:ext cx="6019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f you are given: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 Graph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266720" y="1600200"/>
            <a:ext cx="48769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ind the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y – intercept</a:t>
            </a: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 =  </a:t>
            </a: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b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= the point where the line crosses the y axis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Slope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=             = m =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                 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109" name="Group 13"/>
          <p:cNvGrpSpPr/>
          <p:nvPr/>
        </p:nvGrpSpPr>
        <p:grpSpPr>
          <a:xfrm>
            <a:off x="-380880" y="1600200"/>
            <a:ext cx="4723920" cy="3809880"/>
            <a:chOff x="-380880" y="1600200"/>
            <a:chExt cx="4723920" cy="3809880"/>
          </a:xfrm>
        </p:grpSpPr>
        <p:pic>
          <p:nvPicPr>
            <p:cNvPr id="110" name="Picture 14" descr="[image]"/>
            <p:cNvPicPr/>
            <p:nvPr/>
          </p:nvPicPr>
          <p:blipFill>
            <a:blip r:embed="rId1"/>
            <a:stretch/>
          </p:blipFill>
          <p:spPr>
            <a:xfrm>
              <a:off x="173160" y="1600200"/>
              <a:ext cx="4169880" cy="38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15"/>
            <p:cNvSpPr/>
            <p:nvPr/>
          </p:nvSpPr>
          <p:spPr>
            <a:xfrm>
              <a:off x="-380880" y="1853280"/>
              <a:ext cx="1108440" cy="50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12" name="Rectangle 16"/>
            <p:cNvSpPr/>
            <p:nvPr/>
          </p:nvSpPr>
          <p:spPr>
            <a:xfrm>
              <a:off x="-380880" y="1853280"/>
              <a:ext cx="4434480" cy="3291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113" name="Rectangle 22"/>
          <p:cNvSpPr/>
          <p:nvPr/>
        </p:nvSpPr>
        <p:spPr>
          <a:xfrm>
            <a:off x="4952880" y="1143000"/>
            <a:ext cx="4038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28"/>
              <p:cNvSpPr txBox="1"/>
              <p:nvPr/>
            </p:nvSpPr>
            <p:spPr>
              <a:xfrm>
                <a:off x="5867280" y="2743200"/>
                <a:ext cx="4572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is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u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29"/>
              <p:cNvSpPr txBox="1"/>
              <p:nvPr/>
            </p:nvSpPr>
            <p:spPr>
              <a:xfrm>
                <a:off x="7315200" y="2666880"/>
                <a:ext cx="152388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hang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y'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hang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'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6" name="Rectangle 31"/>
          <p:cNvSpPr/>
          <p:nvPr/>
        </p:nvSpPr>
        <p:spPr>
          <a:xfrm>
            <a:off x="4267080" y="3429000"/>
            <a:ext cx="4343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y – intercept</a:t>
            </a: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 =  </a:t>
            </a: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b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= -3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Slope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=               = m =  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½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        </a:t>
            </a: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y= mx + b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Oval 33"/>
          <p:cNvSpPr/>
          <p:nvPr/>
        </p:nvSpPr>
        <p:spPr>
          <a:xfrm>
            <a:off x="2209680" y="4114800"/>
            <a:ext cx="15264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8" name="Line 35"/>
          <p:cNvSpPr/>
          <p:nvPr/>
        </p:nvSpPr>
        <p:spPr>
          <a:xfrm flipV="1">
            <a:off x="2209680" y="3657600"/>
            <a:ext cx="0" cy="45720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9" name="Line 36"/>
          <p:cNvSpPr/>
          <p:nvPr/>
        </p:nvSpPr>
        <p:spPr>
          <a:xfrm>
            <a:off x="2286000" y="3733920"/>
            <a:ext cx="609480" cy="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45"/>
              <p:cNvSpPr txBox="1"/>
              <p:nvPr/>
            </p:nvSpPr>
            <p:spPr>
              <a:xfrm>
                <a:off x="5715000" y="3886200"/>
                <a:ext cx="91440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up    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over 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1" name="Rectangle 47"/>
          <p:cNvSpPr/>
          <p:nvPr/>
        </p:nvSpPr>
        <p:spPr>
          <a:xfrm>
            <a:off x="7391520" y="3809880"/>
            <a:ext cx="609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2" name="Rectangle 49"/>
          <p:cNvSpPr/>
          <p:nvPr/>
        </p:nvSpPr>
        <p:spPr>
          <a:xfrm>
            <a:off x="7010280" y="34290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-3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3" name="Rectangle 50"/>
          <p:cNvSpPr/>
          <p:nvPr/>
        </p:nvSpPr>
        <p:spPr>
          <a:xfrm>
            <a:off x="2666880" y="5334120"/>
            <a:ext cx="37544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92929"/>
                </a:solidFill>
                <a:latin typeface="Arial"/>
              </a:rPr>
              <a:t>y= ½x – 3</a:t>
            </a:r>
            <a:endParaRPr b="0" lang="en-US" sz="6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 advTm="7000">
    <p:random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70028E-008 L 0.02917 0.16651 E">
                                      <p:cBhvr>
                                        <p:cTn id="159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95837E-006 L -0.14167 0.09991 E">
                                      <p:cBhvr>
                                        <p:cTn id="167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3880" y="-36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f you are given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The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lop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 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375444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07520" indent="-40752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292929"/>
                </a:solidFill>
                <a:uFillTx/>
                <a:latin typeface="Arial"/>
              </a:rPr>
              <a:t>Given: slope (m) and a point (x,y).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To write equations given the slope and a point using  Point-Slope Form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47960" y="1676160"/>
            <a:ext cx="426708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lope =½ and point (4,-1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6172200" y="160020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7924680" y="1676520"/>
            <a:ext cx="381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9" name="Rectangle 11"/>
          <p:cNvSpPr/>
          <p:nvPr/>
        </p:nvSpPr>
        <p:spPr>
          <a:xfrm>
            <a:off x="8153280" y="1676520"/>
            <a:ext cx="533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0" name="Rectangle 12"/>
          <p:cNvSpPr/>
          <p:nvPr/>
        </p:nvSpPr>
        <p:spPr>
          <a:xfrm>
            <a:off x="2971800" y="5562720"/>
            <a:ext cx="37544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92929"/>
                </a:solidFill>
                <a:latin typeface="Arial"/>
              </a:rPr>
              <a:t>y= ½x – 3 </a:t>
            </a:r>
            <a:endParaRPr b="0" lang="en-US" sz="6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764280" y="4343400"/>
            <a:ext cx="34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292929"/>
                </a:solidFill>
                <a:uFillTx/>
                <a:latin typeface="Times New Roman"/>
              </a:rPr>
              <a:t>Point-Slope Form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32" name="Object 16"/>
          <p:cNvGraphicFramePr/>
          <p:nvPr/>
        </p:nvGraphicFramePr>
        <p:xfrm>
          <a:off x="1066680" y="4983120"/>
          <a:ext cx="2819520" cy="56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4983120"/>
                    <a:ext cx="281952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Object 18"/>
          <p:cNvGraphicFramePr/>
          <p:nvPr/>
        </p:nvGraphicFramePr>
        <p:xfrm>
          <a:off x="5410080" y="2209680"/>
          <a:ext cx="2819520" cy="569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0080" y="2209680"/>
                    <a:ext cx="281952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6" name="Object 19"/>
              <p:cNvSpPr txBox="1"/>
              <p:nvPr/>
            </p:nvSpPr>
            <p:spPr>
              <a:xfrm>
                <a:off x="5378400" y="2743200"/>
                <a:ext cx="295740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20"/>
              <p:cNvSpPr txBox="1"/>
              <p:nvPr/>
            </p:nvSpPr>
            <p:spPr>
              <a:xfrm>
                <a:off x="5486400" y="3352680"/>
                <a:ext cx="278280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8" name="AutoShape 24"/>
          <p:cNvSpPr/>
          <p:nvPr/>
        </p:nvSpPr>
        <p:spPr>
          <a:xfrm>
            <a:off x="6934320" y="3352680"/>
            <a:ext cx="685800" cy="304920"/>
          </a:xfrm>
          <a:custGeom>
            <a:avLst/>
            <a:gdLst>
              <a:gd name="textAreaLeft" fmla="*/ 0 w 685800"/>
              <a:gd name="textAreaRight" fmla="*/ 194040 w 685800"/>
              <a:gd name="textAreaTop" fmla="*/ 11736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lnTo>
                  <a:pt x="15662" y="14285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29"/>
              <p:cNvSpPr txBox="1"/>
              <p:nvPr/>
            </p:nvSpPr>
            <p:spPr>
              <a:xfrm>
                <a:off x="5029200" y="3886200"/>
                <a:ext cx="354024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2</m:t>
                    </m:r>
                    <m:r>
                      <m:t xml:space="preserve">∗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∗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30"/>
              <p:cNvSpPr txBox="1"/>
              <p:nvPr/>
            </p:nvSpPr>
            <p:spPr>
              <a:xfrm>
                <a:off x="5529240" y="4495680"/>
                <a:ext cx="25401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1" name="AutoShape 33"/>
          <p:cNvSpPr/>
          <p:nvPr/>
        </p:nvSpPr>
        <p:spPr>
          <a:xfrm>
            <a:off x="6858000" y="3276720"/>
            <a:ext cx="1523880" cy="380880"/>
          </a:xfrm>
          <a:custGeom>
            <a:avLst/>
            <a:gdLst>
              <a:gd name="textAreaLeft" fmla="*/ 266400 w 1523880"/>
              <a:gd name="textAreaRight" fmla="*/ 1104840 w 15238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2" name="Text Box 38"/>
          <p:cNvSpPr/>
          <p:nvPr/>
        </p:nvSpPr>
        <p:spPr>
          <a:xfrm>
            <a:off x="5867280" y="50292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entury Schoolbook"/>
              </a:rPr>
              <a:t>-1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entury Schoolbook"/>
              </a:rPr>
              <a:t>	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entury Schoolbook"/>
              </a:rPr>
              <a:t>    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entury Schoolbook"/>
              </a:rPr>
              <a:t>	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entury Schoolbook"/>
              </a:rPr>
              <a:t>-1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3" name="AutoShape 39"/>
          <p:cNvSpPr/>
          <p:nvPr/>
        </p:nvSpPr>
        <p:spPr>
          <a:xfrm>
            <a:off x="6553080" y="4876920"/>
            <a:ext cx="76320" cy="761760"/>
          </a:xfrm>
          <a:prstGeom prst="downArrow">
            <a:avLst>
              <a:gd name="adj1" fmla="val 50000"/>
              <a:gd name="adj2" fmla="val 249528"/>
            </a:avLst>
          </a:prstGeom>
          <a:solidFill>
            <a:srgbClr val="00ff00"/>
          </a:solidFill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47840" indent="-4478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 advTm="7000">
    <p:random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0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22222E-006 L 0.05 0.1 E">
                                      <p:cBhvr>
                                        <p:cTn id="217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1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022E-016 1.11111E-006 L -0.24583 0.08889 E">
                                      <p:cBhvr>
                                        <p:cTn id="225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33333E-006 L -0.02917 0.09445 E">
                                      <p:cBhvr>
                                        <p:cTn id="235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6" nodeType="afterEffect" fill="hold" presetClass="entr" presetID="2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60" nodeType="afterEffect" fill="hold" presetClass="entr" presetID="2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66" nodeType="afterEffect" fill="hold" presetClass="entr" presetID="2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27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23500"/>
                            </p:stCondLst>
                            <p:childTnLst>
                              <p:par>
                                <p:cTn id="28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28440" y="-360"/>
            <a:ext cx="579132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f you are given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The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lop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 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2879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6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292929"/>
                </a:solidFill>
                <a:uFillTx/>
                <a:latin typeface="Arial"/>
              </a:rPr>
              <a:t>Given: slope (m) and a point (x,y).</a:t>
            </a:r>
            <a:r>
              <a:rPr b="0" lang="en-US" sz="2600" spc="-1" strike="noStrike">
                <a:solidFill>
                  <a:srgbClr val="292929"/>
                </a:solidFill>
                <a:latin typeface="Arial"/>
              </a:rPr>
              <a:t>  Substitute x, y, and m into y = mx+b and </a:t>
            </a:r>
            <a:r>
              <a:rPr b="0" lang="en-US" sz="2600" spc="-1" strike="noStrike" u="sng">
                <a:solidFill>
                  <a:srgbClr val="292929"/>
                </a:solidFill>
                <a:uFillTx/>
                <a:latin typeface="Arial"/>
              </a:rPr>
              <a:t>find the value of b</a:t>
            </a:r>
            <a:r>
              <a:rPr b="0" lang="en-US" sz="2600" spc="-1" strike="noStrike">
                <a:solidFill>
                  <a:srgbClr val="292929"/>
                </a:solidFill>
                <a:latin typeface="Arial"/>
              </a:rPr>
              <a:t> (the y-intercept).  Then write the equation</a:t>
            </a:r>
            <a:r>
              <a:rPr b="1" lang="en-US" sz="2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292929"/>
                </a:solidFill>
                <a:latin typeface="Arial"/>
              </a:rPr>
              <a:t>substituting m and b values into y = mx + b.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419720" y="1828440"/>
            <a:ext cx="45720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6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Arial"/>
              </a:rPr>
              <a:t>Slope =½ and point (4,-1)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b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5943600" y="1752480"/>
            <a:ext cx="609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7924680" y="1828800"/>
            <a:ext cx="381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8229600" y="1828800"/>
            <a:ext cx="533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2743200" y="5562720"/>
            <a:ext cx="37544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92929"/>
                </a:solidFill>
                <a:latin typeface="Arial"/>
              </a:rPr>
              <a:t>y= ½x – 3</a:t>
            </a:r>
            <a:endParaRPr b="0" lang="en-US" sz="6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4572000" y="281952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½(4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b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185040" indent="-185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2" name="Text Box 16"/>
          <p:cNvSpPr/>
          <p:nvPr/>
        </p:nvSpPr>
        <p:spPr>
          <a:xfrm>
            <a:off x="4724280" y="3352680"/>
            <a:ext cx="381024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b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-2      -2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3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      So!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  =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and b  =  -3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3" name="AutoShape 17"/>
          <p:cNvSpPr/>
          <p:nvPr/>
        </p:nvSpPr>
        <p:spPr>
          <a:xfrm>
            <a:off x="6172200" y="3733920"/>
            <a:ext cx="76320" cy="761760"/>
          </a:xfrm>
          <a:prstGeom prst="downArrow">
            <a:avLst>
              <a:gd name="adj1" fmla="val 50000"/>
              <a:gd name="adj2" fmla="val 249528"/>
            </a:avLst>
          </a:prstGeom>
          <a:solidFill>
            <a:srgbClr val="00ff00"/>
          </a:solidFill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47840" indent="-4478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 advTm="7000">
    <p:random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0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1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5.55112E-017 L 0.01667 0.08889 E">
                                      <p:cBhvr>
                                        <p:cTn id="311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1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1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11111E-006 L -0.30833 0.07801 E">
                                      <p:cBhvr>
                                        <p:cTn id="320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44444E-006 L -0.15417 0.08333 E">
                                      <p:cBhvr>
                                        <p:cTn id="326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35" nodeType="afterEffect" fill="hold" presetClass="entr" presetID="45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341" nodeType="afterEffect" fill="hold" presetClass="entr" presetID="45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9600"/>
                            </p:stCondLst>
                            <p:childTnLst>
                              <p:par>
                                <p:cTn id="34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21600"/>
                            </p:stCondLst>
                            <p:childTnLst>
                              <p:par>
                                <p:cTn id="352" nodeType="afterEffect" fill="hold" presetClass="entr" presetID="45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25300"/>
                            </p:stCondLst>
                            <p:childTnLst>
                              <p:par>
                                <p:cTn id="358" nodeType="afterEffect" fill="hold" presetClass="entr" presetID="45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29600"/>
                            </p:stCondLst>
                            <p:childTnLst>
                              <p:par>
                                <p:cTn id="36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3880" y="96480"/>
            <a:ext cx="640080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f you are given: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wo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4038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Finding the equation of the line in  y= mx + b form.  </a:t>
            </a:r>
            <a:r>
              <a:rPr b="1" i="1" lang="en-US" sz="2400" spc="-1" strike="noStrike">
                <a:solidFill>
                  <a:srgbClr val="292929"/>
                </a:solidFill>
                <a:latin typeface="Arial"/>
              </a:rPr>
              <a:t>Given: Two points.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292929"/>
                </a:solidFill>
                <a:uFillTx/>
                <a:latin typeface="Arial"/>
              </a:rPr>
              <a:t>First find the slope (m)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and then substitute one of the points x and y values into y =  mx+b along with the slope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12"/>
              <p:cNvSpPr txBox="1"/>
              <p:nvPr/>
            </p:nvSpPr>
            <p:spPr>
              <a:xfrm>
                <a:off x="6019920" y="1905120"/>
                <a:ext cx="5140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is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u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7" name="Rectangle 10"/>
          <p:cNvSpPr/>
          <p:nvPr/>
        </p:nvSpPr>
        <p:spPr>
          <a:xfrm>
            <a:off x="304920" y="51804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Point (-2, -4) &amp; Point (2, -2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8" name="Rectangle 11"/>
          <p:cNvSpPr/>
          <p:nvPr/>
        </p:nvSpPr>
        <p:spPr>
          <a:xfrm>
            <a:off x="4343400" y="1676520"/>
            <a:ext cx="3352680" cy="11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Find the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Slope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=             = m =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13"/>
              <p:cNvSpPr txBox="1"/>
              <p:nvPr/>
            </p:nvSpPr>
            <p:spPr>
              <a:xfrm>
                <a:off x="7467480" y="1981080"/>
                <a:ext cx="167652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hang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y'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hang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'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15"/>
              <p:cNvSpPr txBox="1"/>
              <p:nvPr/>
            </p:nvSpPr>
            <p:spPr>
              <a:xfrm>
                <a:off x="4648320" y="2666880"/>
                <a:ext cx="155556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</m:num>
                      <m:den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16"/>
              <p:cNvSpPr txBox="1"/>
              <p:nvPr/>
            </p:nvSpPr>
            <p:spPr>
              <a:xfrm>
                <a:off x="6324480" y="2666880"/>
                <a:ext cx="106992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17"/>
              <p:cNvSpPr txBox="1"/>
              <p:nvPr/>
            </p:nvSpPr>
            <p:spPr>
              <a:xfrm>
                <a:off x="7848720" y="2666880"/>
                <a:ext cx="80640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" name="Rectangle 18"/>
          <p:cNvSpPr/>
          <p:nvPr/>
        </p:nvSpPr>
        <p:spPr>
          <a:xfrm>
            <a:off x="4343400" y="3200400"/>
            <a:ext cx="4038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Slope =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½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and point (2, -2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mx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b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4" name="Rectangle 19"/>
          <p:cNvSpPr/>
          <p:nvPr/>
        </p:nvSpPr>
        <p:spPr>
          <a:xfrm>
            <a:off x="5715000" y="3124080"/>
            <a:ext cx="609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½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5" name="Rectangle 20"/>
          <p:cNvSpPr/>
          <p:nvPr/>
        </p:nvSpPr>
        <p:spPr>
          <a:xfrm>
            <a:off x="7696080" y="3200400"/>
            <a:ext cx="533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6" name="Rectangle 21"/>
          <p:cNvSpPr/>
          <p:nvPr/>
        </p:nvSpPr>
        <p:spPr>
          <a:xfrm>
            <a:off x="7391520" y="32004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Rectangle 23"/>
          <p:cNvSpPr/>
          <p:nvPr/>
        </p:nvSpPr>
        <p:spPr>
          <a:xfrm>
            <a:off x="4648320" y="396252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429840" indent="-42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-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½(2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8" name="Rectangle 25"/>
          <p:cNvSpPr/>
          <p:nvPr/>
        </p:nvSpPr>
        <p:spPr>
          <a:xfrm>
            <a:off x="3429000" y="6095880"/>
            <a:ext cx="2971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y= ½x – 3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9" name="Text Box 26"/>
          <p:cNvSpPr/>
          <p:nvPr/>
        </p:nvSpPr>
        <p:spPr>
          <a:xfrm>
            <a:off x="4876920" y="4419720"/>
            <a:ext cx="329220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2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b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-1      -1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3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=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      So!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  =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½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and b  =  -3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0" name="AutoShape 28"/>
          <p:cNvSpPr/>
          <p:nvPr/>
        </p:nvSpPr>
        <p:spPr>
          <a:xfrm>
            <a:off x="6172200" y="4648320"/>
            <a:ext cx="76320" cy="761760"/>
          </a:xfrm>
          <a:prstGeom prst="downArrow">
            <a:avLst>
              <a:gd name="adj1" fmla="val 50000"/>
              <a:gd name="adj2" fmla="val 249528"/>
            </a:avLst>
          </a:prstGeom>
          <a:solidFill>
            <a:srgbClr val="00ff00"/>
          </a:solidFill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47840" indent="-4478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 advTm="7000">
    <p:random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0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3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383" nodeType="afterEffect" fill="hold" presetClass="entr" presetID="8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5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9300"/>
                            </p:stCondLst>
                            <p:childTnLst>
                              <p:par>
                                <p:cTn id="38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9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11300"/>
                            </p:stCondLst>
                            <p:childTnLst>
                              <p:par>
                                <p:cTn id="39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11300"/>
                            </p:stCondLst>
                            <p:childTnLst>
                              <p:par>
                                <p:cTn id="39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1300"/>
                            </p:stCondLst>
                            <p:childTnLst>
                              <p:par>
                                <p:cTn id="40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11300"/>
                            </p:stCondLst>
                            <p:childTnLst>
                              <p:par>
                                <p:cTn id="41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7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11300"/>
                            </p:stCondLst>
                            <p:childTnLst>
                              <p:par>
                                <p:cTn id="42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11300"/>
                            </p:stCondLst>
                            <p:childTnLst>
                              <p:par>
                                <p:cTn id="42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16300"/>
                            </p:stCondLst>
                            <p:childTnLst>
                              <p:par>
                                <p:cTn id="43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16300"/>
                            </p:stCondLst>
                            <p:childTnLst>
                              <p:par>
                                <p:cTn id="4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53469E-006 L 0.05 0.0777 E">
                                      <p:cBhvr>
                                        <p:cTn id="440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18300"/>
                            </p:stCondLst>
                            <p:childTnLst>
                              <p:par>
                                <p:cTn id="44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18300"/>
                            </p:stCondLst>
                            <p:childTnLst>
                              <p:par>
                                <p:cTn id="4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70213E-006 L -0.2125 0.0777 E">
                                      <p:cBhvr>
                                        <p:cTn id="447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20300"/>
                            </p:stCondLst>
                            <p:childTnLst>
                              <p:par>
                                <p:cTn id="44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9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20300"/>
                            </p:stCondLst>
                            <p:childTnLst>
                              <p:par>
                                <p:cTn id="45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53469E-006 L -0.1 0.0777 E">
                                      <p:cBhvr>
                                        <p:cTn id="457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22300"/>
                            </p:stCondLst>
                            <p:childTnLst>
                              <p:par>
                                <p:cTn id="45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22300"/>
                            </p:stCondLst>
                            <p:childTnLst>
                              <p:par>
                                <p:cTn id="464" nodeType="afterEffect" fill="hold" presetClass="entr" presetID="45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25800"/>
                            </p:stCondLst>
                            <p:childTnLst>
                              <p:par>
                                <p:cTn id="470" nodeType="afterEffect" fill="hold" presetClass="entr" presetID="45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28900"/>
                            </p:stCondLst>
                            <p:childTnLst>
                              <p:par>
                                <p:cTn id="47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30900"/>
                            </p:stCondLst>
                            <p:childTnLst>
                              <p:par>
                                <p:cTn id="481" nodeType="afterEffect" fill="hold" presetClass="entr" presetID="45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34600"/>
                            </p:stCondLst>
                            <p:childTnLst>
                              <p:par>
                                <p:cTn id="487" nodeType="afterEffect" fill="hold" presetClass="entr" presetID="45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38900"/>
                            </p:stCondLst>
                            <p:childTnLst>
                              <p:par>
                                <p:cTn id="49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f you are given: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wo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593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Finding the equation of the line in  y= mx + b form.  </a:t>
            </a:r>
            <a:r>
              <a:rPr b="1" i="1" lang="en-US" sz="2400" spc="-1" strike="noStrike">
                <a:solidFill>
                  <a:srgbClr val="292929"/>
                </a:solidFill>
                <a:latin typeface="Arial"/>
              </a:rPr>
              <a:t>Given: Two points.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292929"/>
                </a:solidFill>
                <a:uFillTx/>
                <a:latin typeface="Arial"/>
              </a:rPr>
              <a:t>First find the slope (m)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and then substitute one of the points x and y values into Point-Slope Form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73" name="Object 13"/>
          <p:cNvGraphicFramePr/>
          <p:nvPr/>
        </p:nvGraphicFramePr>
        <p:xfrm>
          <a:off x="1447920" y="4648320"/>
          <a:ext cx="25905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4648320"/>
                    <a:ext cx="25905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Text Box 12"/>
          <p:cNvSpPr/>
          <p:nvPr/>
        </p:nvSpPr>
        <p:spPr>
          <a:xfrm>
            <a:off x="992880" y="4038480"/>
            <a:ext cx="34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292929"/>
                </a:solidFill>
                <a:uFillTx/>
                <a:latin typeface="Times New Roman"/>
              </a:rPr>
              <a:t>Point-Slope Form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762120" y="510444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Point (-2, -4) &amp; Point (2, -2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4800600" y="1676520"/>
            <a:ext cx="3352680" cy="11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Find the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Slope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=         = m =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18"/>
              <p:cNvSpPr txBox="1"/>
              <p:nvPr/>
            </p:nvSpPr>
            <p:spPr>
              <a:xfrm>
                <a:off x="7620120" y="2057400"/>
                <a:ext cx="13716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hang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y'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hang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'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20"/>
              <p:cNvSpPr txBox="1"/>
              <p:nvPr/>
            </p:nvSpPr>
            <p:spPr>
              <a:xfrm>
                <a:off x="6324480" y="1981080"/>
                <a:ext cx="5144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is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u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21"/>
              <p:cNvSpPr txBox="1"/>
              <p:nvPr/>
            </p:nvSpPr>
            <p:spPr>
              <a:xfrm>
                <a:off x="4800600" y="2590920"/>
                <a:ext cx="155592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</m:num>
                      <m:den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22"/>
              <p:cNvSpPr txBox="1"/>
              <p:nvPr/>
            </p:nvSpPr>
            <p:spPr>
              <a:xfrm>
                <a:off x="6553080" y="2590920"/>
                <a:ext cx="106992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23"/>
              <p:cNvSpPr txBox="1"/>
              <p:nvPr/>
            </p:nvSpPr>
            <p:spPr>
              <a:xfrm>
                <a:off x="7848720" y="2514600"/>
                <a:ext cx="80640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" name="Rectangle 24"/>
          <p:cNvSpPr/>
          <p:nvPr/>
        </p:nvSpPr>
        <p:spPr>
          <a:xfrm>
            <a:off x="4800600" y="320040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83600" indent="-18360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Slope =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½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and point (2, -2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183600" indent="-183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183600" indent="-183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84" name="Object 25"/>
          <p:cNvGraphicFramePr/>
          <p:nvPr/>
        </p:nvGraphicFramePr>
        <p:xfrm>
          <a:off x="5638680" y="3581280"/>
          <a:ext cx="2590920" cy="52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Object 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581280"/>
                    <a:ext cx="259092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Rectangle 26"/>
          <p:cNvSpPr/>
          <p:nvPr/>
        </p:nvSpPr>
        <p:spPr>
          <a:xfrm>
            <a:off x="6172200" y="320040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½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7" name="Rectangle 27"/>
          <p:cNvSpPr/>
          <p:nvPr/>
        </p:nvSpPr>
        <p:spPr>
          <a:xfrm>
            <a:off x="8153280" y="3200400"/>
            <a:ext cx="533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8" name="Rectangle 28"/>
          <p:cNvSpPr/>
          <p:nvPr/>
        </p:nvSpPr>
        <p:spPr>
          <a:xfrm>
            <a:off x="7772400" y="32004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29"/>
              <p:cNvSpPr txBox="1"/>
              <p:nvPr/>
            </p:nvSpPr>
            <p:spPr>
              <a:xfrm>
                <a:off x="5638680" y="4038480"/>
                <a:ext cx="251460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0" name="AutoShape 30"/>
          <p:cNvSpPr/>
          <p:nvPr/>
        </p:nvSpPr>
        <p:spPr>
          <a:xfrm>
            <a:off x="7010280" y="4114800"/>
            <a:ext cx="685800" cy="152280"/>
          </a:xfrm>
          <a:custGeom>
            <a:avLst/>
            <a:gdLst>
              <a:gd name="textAreaLeft" fmla="*/ 0 w 685800"/>
              <a:gd name="textAreaRight" fmla="*/ 194040 w 685800"/>
              <a:gd name="textAreaTop" fmla="*/ 5868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lnTo>
                  <a:pt x="15662" y="14285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1" name="AutoShape 31"/>
          <p:cNvSpPr/>
          <p:nvPr/>
        </p:nvSpPr>
        <p:spPr>
          <a:xfrm>
            <a:off x="6934320" y="4114800"/>
            <a:ext cx="1371600" cy="152280"/>
          </a:xfrm>
          <a:custGeom>
            <a:avLst/>
            <a:gdLst>
              <a:gd name="textAreaLeft" fmla="*/ 239760 w 1371600"/>
              <a:gd name="textAreaRight" fmla="*/ 994320 w 1371600"/>
              <a:gd name="textAreaTop" fmla="*/ 20160 h 152280"/>
              <a:gd name="textAreaBottom" fmla="*/ 1321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32"/>
              <p:cNvSpPr txBox="1"/>
              <p:nvPr/>
            </p:nvSpPr>
            <p:spPr>
              <a:xfrm>
                <a:off x="5562720" y="4572000"/>
                <a:ext cx="25588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2</m:t>
                    </m:r>
                    <m:r>
                      <m:t xml:space="preserve">∗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∗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33"/>
              <p:cNvSpPr txBox="1"/>
              <p:nvPr/>
            </p:nvSpPr>
            <p:spPr>
              <a:xfrm>
                <a:off x="5715000" y="5046840"/>
                <a:ext cx="2133720" cy="59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4" name="Text Box 34"/>
          <p:cNvSpPr/>
          <p:nvPr/>
        </p:nvSpPr>
        <p:spPr>
          <a:xfrm>
            <a:off x="5867280" y="5410080"/>
            <a:ext cx="2514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   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-2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         -2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5" name="Rectangle 35"/>
          <p:cNvSpPr/>
          <p:nvPr/>
        </p:nvSpPr>
        <p:spPr>
          <a:xfrm>
            <a:off x="3124080" y="5638680"/>
            <a:ext cx="3200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438840" indent="-438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92929"/>
                </a:solidFill>
                <a:latin typeface="Arial"/>
              </a:rPr>
              <a:t>y= ½x – 3</a:t>
            </a:r>
            <a:r>
              <a:rPr b="0" lang="en-US" sz="6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6" name="AutoShape 36"/>
          <p:cNvSpPr/>
          <p:nvPr/>
        </p:nvSpPr>
        <p:spPr>
          <a:xfrm>
            <a:off x="6629400" y="5334120"/>
            <a:ext cx="76320" cy="761760"/>
          </a:xfrm>
          <a:prstGeom prst="downArrow">
            <a:avLst>
              <a:gd name="adj1" fmla="val 50000"/>
              <a:gd name="adj2" fmla="val 249528"/>
            </a:avLst>
          </a:prstGeom>
          <a:solidFill>
            <a:srgbClr val="00ff00"/>
          </a:solidFill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47840" indent="-4478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 advTm="7000">
    <p:random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0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6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09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4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51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8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2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4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4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2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3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4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4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50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5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557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56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56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70213E-006 L 0.05834 0.0555 E">
                                      <p:cBhvr>
                                        <p:cTn id="564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56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57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11841E-006 L -0.2375 0.06105 E">
                                      <p:cBhvr>
                                        <p:cTn id="571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57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58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2.53469E-006 L -0.01667 0.0666 E">
                                      <p:cBhvr>
                                        <p:cTn id="581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58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589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5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60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02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604" nodeType="afterEffect" fill="hold" presetClass="entr" presetID="2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615" nodeType="afterEffect" fill="hold" presetClass="entr" presetID="2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61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6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37000"/>
                            </p:stCondLst>
                            <p:childTnLst>
                              <p:par>
                                <p:cTn id="63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8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4T02:03:16Z</dcterms:created>
  <dc:creator>its</dc:creator>
  <dc:description/>
  <dc:language>en-US</dc:language>
  <cp:lastModifiedBy>RomaK</cp:lastModifiedBy>
  <dcterms:modified xsi:type="dcterms:W3CDTF">2015-09-04T09:23:58Z</dcterms:modified>
  <cp:revision>19</cp:revision>
  <dc:subject/>
  <dc:title>The World Of Triangles</dc:title>
</cp:coreProperties>
</file>