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9185-162E-46CA-9FC6-358998CB75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New Government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New Government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….what to do, what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wanted slaves to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mean south had more people in their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-Fifths Compromis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every 5 slaves count as a person for representation and tax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ome what happy…see what happens when you work toget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….what to do, what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wanted slaves to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mean south had more people in their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-Fifths Compromis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every 5 slaves count as a person for representation and tax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ome what happy…see what happens when you work toget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 with Trade…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 in the North wanted congress to regulate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in the Sou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losing money/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gulations until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decided to tax im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interstate and foreign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 with Trade…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 in the North wanted congress to regulate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in the Sou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losing money/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gulations until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decided to tax im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interstate and foreign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START OVER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eration of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President ~ enforce laws (helped by VP &amp; assistants) 15 executive depts.- leaders make up  cabi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Congress ~ make laws,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100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435 members (present day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All courts ~ interpret the laws; Supreme Court (9 justices), 12 appeal courts/9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s/ few “special cour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START OVER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eration of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President ~ enforce laws (helped by VP &amp; assistants) 15 executive depts.- leaders make up  cabi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Congress ~ make laws,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100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435 members (present day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All courts ~ interpret the laws; Supreme Court (9 justices), 12 appeal courts/9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s/ few “special cour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Pres by not giving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 new/get rid of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reject treaties (need 2/3 vote to p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 presidential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impeach pres, then Senate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Judicial by creating/abolishing lower cou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each federal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Pres by not giving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 new/get rid of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reject treaties (need 2/3 vote to p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 presidential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impeach pres, then Senate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Judicial by creating/abolishing lower cou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each federal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pardon convicts/appoint jud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veto (not sign) a 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can be overridden by 2/3 vote in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e laws unconstitutional, then voi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 Review declare laws/practices un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pardon convicts/appoint jud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veto (not sign) a 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can be overridden by 2/3 vote in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e laws unconstitutional, then voi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 Review declare laws/practices un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on the pp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oral college (elects p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ges appointed/senators (used to be appoin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: 2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: 6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: 4yr (2 terms in a life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me Court: life or impeac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on the pp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oral college (elects p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ges appointed/senators (used to be appoin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: 2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: 6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: 4yr (2 terms in a life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me Court: life or impeac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it…No, we don’t….Lets tal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is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trade/strong gov’t/help nations $ pr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eralis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t it didn’t protect fundament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it…No, we don’t….Lets tal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is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trade/strong gov’t/help nations $ pr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eralis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t it didn’t protect fundament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cles of the Confe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8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re power to states then central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cles of the Confe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8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re power to states then central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fying the Constit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3 states needed to approve for the new gov’t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fying the Constit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3 states needed to approve for the new gov’t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be Flexible!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s were to rigid, no way to change with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NE NEEDED TO BE FLEXI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 can be changed (amended) in 4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Proposal by congress (2/3 vote both ho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ed/accepted by ¾ vote of state legis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2/3 vote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cation ¾ Const Convention in ¾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amp; 4 never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be Flexible!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s were to rigid, no way to change with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NE NEEDED TO BE FLEXI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 can be changed (amended) in 4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Proposal by congress (2/3 vote both ho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ed/accepted by ¾ vote of state legis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2/3 vote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cation ¾ Const Convention in ¾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amp; 4 never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s wanted more rights for the people protected sooooo…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 of Rights: (1st 10 amend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to get anti-federalist to approve the new 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s const, and grants individu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s wanted more rights for the people protected sooooo…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 of Rights: (1st 10 amend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to get anti-federalist to approve the new 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s const, and grants individu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freedom of religion, press, &amp;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right to bare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: no housing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: no illegal search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z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: right no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iminate one self/ no double jeopar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 Right to a speedy &amp; fair 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 Trial by a jury of your p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 No Cruel or unusual pun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: Just b/c its not stated doesn’t mean it doesn’t exist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: Everything in the Constitution is up to the states to interp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freedom of religion, press, &amp;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right to bare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: no housing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: no illegal search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z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: right no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iminate one self/ no double jeopar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 Right to a speedy &amp; fair 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 Trial by a jury of your p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 No Cruel or unusual pun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: Just b/c its not stated doesn’t mean it doesn’t exist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: Everything in the Constitution is up to the states to interp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get ready to do a cheat sheet and have test =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get ready to do a cheat sheet and have test =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gov’t couldn’t collec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no way to get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couldn’t pay back $ lent for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Owed $ to: 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/priv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1 would give Amer a break over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ations gave amer nonsense over l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ates were fighting each other over boundaries &amp;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gov’t couldn’t collec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no way to get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couldn’t pay back $ lent for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Owed $ to: 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/priv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1 would give Amer a break over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ations gave amer nonsense over l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ates were fighting each other over boundaries &amp;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t nation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d the Treaty of Paris 17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d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2 la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Ordinance of 1785: sale of public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Northwest Ordinance: made a plan of how to govern new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t nation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d the Treaty of Paris 17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d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2 la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Ordinance of 1785: sale of public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Northwest Ordinance: made a plan of how to govern new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me….wait don’t; nah go ahea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liked not being told what to do, but wanted someone to help  run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a stronger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couldn’t make payments on land; were losing farms to th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me….wait don’t; nah go ahea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liked not being told what to do, but wanted someone to help  run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a stronger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couldn’t make payments on land; were losing farms to th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ff his head!!! (not real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’s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Shay (former militia leader) lead a group of angry farmers who lost their farms in Mass in 17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easily ended, but opened the doors for the discussion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stronger central gov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ff his head!!! (not real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’s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Shay (former militia leader) lead a group of angry farmers who lost their farms in Mass in 17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easily ended, but opened the doors for the discussion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stronger central gov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t to REVISE the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 Hall in Philly, 17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of 13: sent delegates (RI did not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ppl (aka: founding fath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 lawyers/1/2 famers-merch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president of the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: Secre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omen, Native Americans, or African-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t to REVISE the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 Hall in Philly, 17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of 13: sent delegates (RI did not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ppl (aka: founding fath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 lawyers/1/2 famers-merch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president of the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: Secre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omen, Native Americans, or African-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! No, MY way! Hey let’s COMPROMISE!!!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Jersey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tates have equal rep in gov’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ginia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Comprom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gov’t into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upper house: senate ~ 2 reps per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lower house: house of representatives ~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ke up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! No, MY way! Hey let’s COMPROMISE!!!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Jersey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tates have equal rep in gov’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ginia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Comprom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gov’t into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upper house: senate ~ 2 reps per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lower house: house of representatives ~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ke up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4273-55F4-4E89-8C3E-0875CD5F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B3DE-ED60-4837-80F9-28E7C62A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10BD-57B2-48E4-8826-0172DCBC4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178C-E2AE-4A81-9EE7-9EF7AF70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FE0D-DA70-4966-999B-F2849E31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83D-680A-4E00-B84E-C26CE414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DFA0-09FC-4E74-91F1-29115B42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8D3-4DD6-496E-B993-A056591B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D55A-122B-4E95-9562-6A407886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5B5-6D83-4161-B1A4-CC6B4565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6AD2-D7FE-4FA2-B4D8-FD7783B1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2926-AE76-4EF7-9C41-8C7F8BE7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0A35-1E6F-4159-A1A3-A7C5D721D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New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G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o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v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e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r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n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m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e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n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t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irst-American-Flag-by-Betsy-Ross"/>
          <p:cNvPicPr/>
          <p:nvPr/>
        </p:nvPicPr>
        <p:blipFill>
          <a:blip r:embed="rId1"/>
          <a:stretch/>
        </p:blipFill>
        <p:spPr>
          <a:xfrm>
            <a:off x="1600200" y="2514600"/>
            <a:ext cx="6095880" cy="365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Harrington"/>
              </a:rPr>
              <a:t>Slaves….what to do, what 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Harrington"/>
              </a:rPr>
              <a:t>South wanted slaves to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Harrington"/>
              </a:rPr>
              <a:t>North di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Harrington"/>
              </a:rPr>
              <a:t>Would mean south had more people in their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Harrington"/>
              </a:rPr>
              <a:t>Three-Fifths Compromise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Harrington"/>
              </a:rPr>
              <a:t>3 of every 5 slaves count as a person for representation and tax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Harrington"/>
              </a:rPr>
              <a:t>Everyone some what happy…see what happens when you work togeth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cc"/>
                </a:solidFill>
                <a:latin typeface="Kristen ITC"/>
              </a:rPr>
              <a:t>Issues with Trade…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Ppl  in the North wanted congress to regulat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Farmers in the South di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feared losing money/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no regulations until 18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Congress decided to tax im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regulate interstate and foreign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Goudy Old Style"/>
              </a:rPr>
              <a:t>Pream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reamble1"/>
          <p:cNvPicPr/>
          <p:nvPr/>
        </p:nvPicPr>
        <p:blipFill>
          <a:blip r:embed="rId1"/>
          <a:stretch/>
        </p:blipFill>
        <p:spPr>
          <a:xfrm>
            <a:off x="2590920" y="1162080"/>
            <a:ext cx="4559040" cy="569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LETS START OVER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Seperation of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ecutiv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President ~ enforce laws (helped by VP &amp; assistants) 15 executive depts.- leaders make up  cabi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egislativ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Congress ~ make laws, 2 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nate 100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oR 435 members (present day #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Judicial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All courts ~ interpret the laws; Supreme Court (9 justices), 12 appeal courts/9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istricts/ few “special cou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separationofpowers"/>
          <p:cNvPicPr/>
          <p:nvPr/>
        </p:nvPicPr>
        <p:blipFill>
          <a:blip r:embed="rId1"/>
          <a:stretch/>
        </p:blipFill>
        <p:spPr>
          <a:xfrm>
            <a:off x="0" y="304920"/>
            <a:ext cx="8686800" cy="5756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Legislati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check Pres by not giving 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block new/get rid of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Senate reject treaties (need 2/3 vote to p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reject presidential appoin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HoR impeach pres, then Senate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Check Judicial by creating/abolishing lowe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impeach federal ju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9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Executi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Judicial: pardon convicts/appoint judge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Legislative: veto (not sign) a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veto can be overridden by 2/3 vote in both 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 Old Style"/>
              </a:rPr>
              <a:t>Jud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declare laws unconstitutional, then void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Judicial Review declare laws/practices uncon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ChksBalnces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vie"/>
              </a:rPr>
              <a:t>Checks on the pp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Electoral college (elects p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Judges appointed/senators (used to be appoin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HoR: 2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Senate: 6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Pres: 4yr (2 terms in a life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Supreme Court: life or impeac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7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We want it…No, we don’t….Lets tal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Kristen ITC"/>
              </a:rPr>
              <a:t>Federalis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Kristen ITC"/>
              </a:rPr>
              <a:t>supported new 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Kristen ITC"/>
              </a:rPr>
              <a:t>reg trade/strong gov’t/help nations $ pr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Kristen ITC"/>
              </a:rPr>
              <a:t>Anti-Federalist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Kristen ITC"/>
              </a:rPr>
              <a:t>anti new 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Kristen ITC"/>
              </a:rPr>
              <a:t>felt it didn’t protect fundamental r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ff"/>
                </a:solidFill>
                <a:latin typeface="Curlz MT"/>
              </a:rPr>
              <a:t>But First…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Kristen ITC"/>
              </a:rPr>
              <a:t>The Articles of the Con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Kristen ITC"/>
              </a:rPr>
              <a:t>Last 8y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Kristen ITC"/>
              </a:rPr>
              <a:t>Gave more power to states then central gov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rticlesofconfederation"/>
          <p:cNvPicPr/>
          <p:nvPr/>
        </p:nvPicPr>
        <p:blipFill>
          <a:blip r:embed="rId1"/>
          <a:stretch/>
        </p:blipFill>
        <p:spPr>
          <a:xfrm>
            <a:off x="5943600" y="3200400"/>
            <a:ext cx="241920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image001"/>
          <p:cNvPicPr/>
          <p:nvPr/>
        </p:nvPicPr>
        <p:blipFill>
          <a:blip r:embed="rId2"/>
          <a:stretch/>
        </p:blipFill>
        <p:spPr>
          <a:xfrm>
            <a:off x="380880" y="3124080"/>
            <a:ext cx="5353200" cy="3394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Ratifying the Constitu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9 of 13 states needed to approve for the new gov’t to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Harrington"/>
              </a:rPr>
              <a:t>Lets be Flexible!!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Harrington"/>
              </a:rPr>
              <a:t>Articles were to rigid, no way to change with the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Harrington"/>
              </a:rPr>
              <a:t>NEW ONE NEEDED TO BE FLEX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Harrington"/>
              </a:rPr>
              <a:t>Constitution can be changed (amended) in 4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1- Proposal by congress (2/3 vote both hou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   </a:t>
            </a: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~ratified/accepted by ¾ vote of state legisl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2- 2/3 vote both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   </a:t>
            </a: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~ratification ¾ Const Convention in ¾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Harrington"/>
              </a:rPr>
              <a:t>3 &amp; 4 never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gp"/>
          <p:cNvPicPr/>
          <p:nvPr/>
        </p:nvPicPr>
        <p:blipFill>
          <a:blip r:embed="rId1"/>
          <a:stretch/>
        </p:blipFill>
        <p:spPr>
          <a:xfrm>
            <a:off x="0" y="0"/>
            <a:ext cx="1752480" cy="1531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gp"/>
          <p:cNvPicPr/>
          <p:nvPr/>
        </p:nvPicPr>
        <p:blipFill>
          <a:blip r:embed="rId2"/>
          <a:stretch/>
        </p:blipFill>
        <p:spPr>
          <a:xfrm>
            <a:off x="7086600" y="0"/>
            <a:ext cx="1752480" cy="153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5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5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0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process_amending"/>
          <p:cNvPicPr/>
          <p:nvPr/>
        </p:nvPicPr>
        <p:blipFill>
          <a:blip r:embed="rId1"/>
          <a:stretch/>
        </p:blipFill>
        <p:spPr>
          <a:xfrm>
            <a:off x="685800" y="13716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Ravie"/>
              </a:rPr>
              <a:t>Anti-Feds wanted more rights for the people protected sooooo…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Harrington"/>
              </a:rPr>
              <a:t>Bill of Rights: (1st 10 amend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rrington"/>
              </a:rPr>
              <a:t>created to get anti-federalist to approve the new Con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rrington"/>
              </a:rPr>
              <a:t>restricts const, and grants individua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tbor-prt"/>
          <p:cNvPicPr/>
          <p:nvPr/>
        </p:nvPicPr>
        <p:blipFill>
          <a:blip r:embed="rId1"/>
          <a:stretch/>
        </p:blipFill>
        <p:spPr>
          <a:xfrm>
            <a:off x="1219320" y="3886200"/>
            <a:ext cx="6172200" cy="297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Ravie"/>
              </a:rPr>
              <a:t>The Bill of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1: freedom of religion, press, &amp;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Ravie"/>
              </a:rPr>
              <a:t>2: right to bare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Ravie"/>
              </a:rPr>
              <a:t>3: no housing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4: no illegal search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5: right no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    </a:t>
            </a: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incriminate one self/ no double jeopar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0" y="137160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Ravie"/>
              </a:rPr>
              <a:t>6: Right to a speedy &amp; fair t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Ravie"/>
              </a:rPr>
              <a:t>7: Trial by a jury of your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8: No Cruel or unusual</a:t>
            </a: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pun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9: Just b/c its not stated doesn’t mean it doesn’t exis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Ravie"/>
              </a:rPr>
              <a:t>10: Everything in the Constitution is up to the states to interpr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7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Kristen ITC"/>
              </a:rPr>
              <a:t>THE END!!!!!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Harrington"/>
              </a:rPr>
              <a:t>Now get ready to do a cheat sheet and have test =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808080"/>
                </a:solidFill>
                <a:uFillTx/>
                <a:latin typeface="Ravie"/>
              </a:rPr>
              <a:t>Troub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572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gov’t couldn’t collect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no way to get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couldn’t pay back $ lent for the Amer R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Owed $ to: other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untries/private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itiz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Territori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no1 would give Amer a break ove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other nations gave amer nonsense over lan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states were fighting each other over boundaries &amp;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Ravie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Ravie"/>
              </a:rPr>
              <a:t>kept nation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Ravie"/>
              </a:rPr>
              <a:t>negotiated the Treaty of Paris 17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Ravie"/>
              </a:rPr>
              <a:t>ended the Amer R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Ravie"/>
              </a:rPr>
              <a:t>Created 2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Ravie"/>
              </a:rPr>
              <a:t>1-Ordinance of 1785: sale of public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	</a:t>
            </a:r>
            <a:r>
              <a:rPr b="0" lang="en-US" sz="2800" spc="-1" strike="noStrike">
                <a:solidFill>
                  <a:srgbClr val="33cc33"/>
                </a:solidFill>
                <a:latin typeface="Ravie"/>
              </a:rPr>
              <a:t>2-Northwest Ordinance: made a plan of how to govern new terri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Kristen ITC"/>
              </a:rPr>
              <a:t>Tell me….wait don’t; nah go ahea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Kristen ITC"/>
              </a:rPr>
              <a:t>ppl liked not being told what to do, but wanted someone to help  run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Kristen ITC"/>
              </a:rPr>
              <a:t>wanted a stronger gov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Kristen ITC"/>
              </a:rPr>
              <a:t>farmers couldn’t make payments on land; were losing farms to the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the_week_14157_27"/>
          <p:cNvPicPr/>
          <p:nvPr/>
        </p:nvPicPr>
        <p:blipFill>
          <a:blip r:embed="rId1"/>
          <a:stretch/>
        </p:blipFill>
        <p:spPr>
          <a:xfrm>
            <a:off x="5638680" y="2514600"/>
            <a:ext cx="3267360" cy="244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Goudy Old Style"/>
              </a:rPr>
              <a:t>Take off his head!!! </a:t>
            </a:r>
            <a:r>
              <a:rPr b="0" lang="en-US" sz="3600" spc="-1" strike="noStrike">
                <a:solidFill>
                  <a:srgbClr val="cc00cc"/>
                </a:solidFill>
                <a:latin typeface="Goudy Old Style"/>
              </a:rPr>
              <a:t>(not really)</a:t>
            </a:r>
            <a:br>
              <a:rPr sz="3600"/>
            </a:br>
            <a:r>
              <a:rPr b="0" lang="en-US" sz="6000" spc="-1" strike="noStrike">
                <a:solidFill>
                  <a:srgbClr val="ff3300"/>
                </a:solidFill>
                <a:latin typeface="Chiller"/>
              </a:rPr>
              <a:t>Shay’s Rebell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Goudy Old Style"/>
              </a:rPr>
              <a:t>Daniel Shay (former militia leader) lead a group of angry farmers who lost their farms in Mass in 178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Old Style"/>
              </a:rPr>
              <a:t>It was easily ended, but opened the doors for the discussion of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Old Style"/>
              </a:rPr>
              <a:t>need for stronger central gov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asset_upload_file867_11926"/>
          <p:cNvPicPr/>
          <p:nvPr/>
        </p:nvPicPr>
        <p:blipFill>
          <a:blip r:embed="rId1"/>
          <a:stretch/>
        </p:blipFill>
        <p:spPr>
          <a:xfrm>
            <a:off x="5638680" y="36576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omic"/>
              </a:rPr>
              <a:t>Constitutional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Meant to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Kristen ITC"/>
              </a:rPr>
              <a:t>REVISE</a:t>
            </a: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 the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Kristen ITC"/>
              </a:rPr>
              <a:t>Independence Hall in Philly, 17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Kristen ITC"/>
              </a:rPr>
              <a:t>12 of 13: sent delegates (RI did no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Kristen ITC"/>
              </a:rPr>
              <a:t>55 ppl (aka: founding fat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Kristen ITC"/>
              </a:rPr>
              <a:t>1/2 lawyers/1/2 famers-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Kristen ITC"/>
              </a:rPr>
              <a:t>George Washington president of the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Kristen ITC"/>
              </a:rPr>
              <a:t>James Madison: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no women, Native Americans, or African-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onstitutionalConvention1787"/>
          <p:cNvPicPr/>
          <p:nvPr/>
        </p:nvPicPr>
        <p:blipFill>
          <a:blip r:embed="rId1"/>
          <a:stretch/>
        </p:blipFill>
        <p:spPr>
          <a:xfrm>
            <a:off x="609480" y="762120"/>
            <a:ext cx="8305920" cy="5467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Kristen ITC"/>
              </a:rPr>
              <a:t>My way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Kristen ITC"/>
              </a:rPr>
              <a:t>No, MY way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Hey let’s </a:t>
            </a:r>
            <a:r>
              <a:rPr b="1" i="1" lang="en-US" sz="4000" spc="-1" strike="noStrike">
                <a:solidFill>
                  <a:srgbClr val="ff66cc"/>
                </a:solidFill>
                <a:latin typeface="Kristen ITC"/>
              </a:rPr>
              <a:t>COMPROMISE!!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=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New Jersey Pl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 states have equal rep in gov’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irginia Pl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rep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Great Compromi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divide gov’t into 2 ho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1: upper house: senate ~ 2 reps per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2: lower house: house of representatives ~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these make up 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4:40:22Z</dcterms:created>
  <dc:creator>agrabianowski</dc:creator>
  <dc:description/>
  <dc:language>en-US</dc:language>
  <cp:lastModifiedBy>RomaK</cp:lastModifiedBy>
  <dcterms:modified xsi:type="dcterms:W3CDTF">2015-09-02T09:50:53Z</dcterms:modified>
  <cp:revision>42</cp:revision>
  <dc:subject/>
  <dc:title>A New Government!!!!</dc:title>
</cp:coreProperties>
</file>