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26.gif" ContentType="image/gif"/>
  <Override PartName="/ppt/media/image29.wmf" ContentType="image/x-wmf"/>
  <Override PartName="/ppt/media/image19.jpeg" ContentType="image/jpeg"/>
  <Override PartName="/ppt/media/image18.png" ContentType="image/png"/>
  <Override PartName="/ppt/media/image8.jpeg" ContentType="image/jpeg"/>
  <Override PartName="/ppt/media/image5.png" ContentType="image/png"/>
  <Override PartName="/ppt/media/image13.jpeg" ContentType="image/jpeg"/>
  <Override PartName="/ppt/media/image40.jpeg" ContentType="image/jpeg"/>
  <Override PartName="/ppt/media/image17.wmf" ContentType="image/x-wmf"/>
  <Override PartName="/ppt/media/image9.png" ContentType="image/png"/>
  <Override PartName="/ppt/media/image11.jpeg" ContentType="image/jpeg"/>
  <Override PartName="/ppt/media/image36.jpeg" ContentType="image/jpeg"/>
  <Override PartName="/ppt/media/image30.jpeg" ContentType="image/jpeg"/>
  <Override PartName="/ppt/media/image16.jpeg" ContentType="image/jpeg"/>
  <Override PartName="/ppt/media/image35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39.wmf" ContentType="image/x-wmf"/>
  <Override PartName="/ppt/media/image41.jpeg" ContentType="image/jpeg"/>
  <Override PartName="/ppt/media/image4.jpeg" ContentType="image/jpeg"/>
  <Override PartName="/ppt/media/image38.wmf" ContentType="image/x-wmf"/>
  <Override PartName="/ppt/media/image34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12.jpeg" ContentType="image/jpeg"/>
  <Override PartName="/ppt/media/image28.wmf" ContentType="image/x-wmf"/>
  <Override PartName="/ppt/media/image37.jpeg" ContentType="image/jpeg"/>
  <Override PartName="/ppt/media/image6.png" ContentType="image/png"/>
  <Override PartName="/ppt/media/image14.wmf" ContentType="image/x-wmf"/>
  <Override PartName="/ppt/media/image3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A7B9-FB51-4E3E-972F-5946F89578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rganized public procession on a festive or ceremonial occa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rganized public procession on a festive or ceremonial occa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we live in that consists of the 50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we live in that consists of the 50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works for the government that helps to make and create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 was a se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works for the government that helps to make and create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 was a se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u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l induction into office. A formal beginning or int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resident has an inauguration into the Presid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u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l induction into office. A formal beginning or int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resident has an inauguration into the Presid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chelle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’s wif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chelle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’s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20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e of the inau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20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e of the inau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ule of conduct or procedure established by custom, agreement, or autho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ule of conduct or procedure established by custom, agreement, or autho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ece of cloth, usually rectangular, of distinctive color and design, used as a symb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ece of cloth, usually rectangular, of distinctive color and design, used as a symb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in charge that you may listen to or follow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in charge that you may listen to or follow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lemn, formal declaration or promise to fulfill a p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lemn, formal declaration or promise to fulfill a p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is elected to have authority or control over a group of peop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is elected to have authority or control over a group of peo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ia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daughter. She is in the 5th gr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ia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daughter. She is in the 5th g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ed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hired to protect the President at all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hired to protect the President at all 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sha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 youngest daughter. She is in the 2nd gr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sha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 youngest daughter. She is in the 2nd g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away from danger or h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and dad always protect me by holding my hand when I cross the str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away from danger or h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and dad always protect me by holding my hand when I cross the str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ecutive mansion of the President of the United States. This is where the President lives and wo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ecutive mansion of the President of the United States. This is where the President lives and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tivity  you do that you produce or accomplish some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ckson had to work hard on his science pro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had to go to work at the hospital yeste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tivity  you do that you produce or accomplish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ckson had to work hard on his scienc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had to go to work at the hospital yeste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ing to a large group of people. Who is giving this spee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tin Luther King J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ing to a large group of people. Who is giving this spee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tin Luther King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one says that they will or will not do some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one says that they will or will not d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al Off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al Office is the president's formal work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he often addresses the American public and the world on television or rad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president deals with the issues of the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al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al Office is the president's formal work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he often addresses the American public and the world on television or rad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president deals with the issues of the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D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’s capit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nt to Washington D.C. and saw the White House and the Washington Mon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D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’s capi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nt to Washington D.C. and saw the White House and the Washington Mon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or ability to make a cho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or ability to make a ch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C6F5-31F9-4DF4-98CF-A37EA8CA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FB1-B554-4019-A024-841BFD84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BBE1-A71C-4B6C-B5B2-38C4D68F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2B95-DA32-46AC-8BD7-FB7B4A86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C536-B261-459D-BE68-3BED9348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ADDC-DC98-440D-834F-B3354EDA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A7AF-85B7-421C-BFF1-72FAE095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33EA-9AD7-496A-83AF-8D696AE0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A240-346D-4266-8F73-F6C192D5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9181-0082-4433-B4E6-11F228F0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30AF-510C-463F-B817-09516467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65CE-673A-4B8C-B197-74CF716F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EA0E-F215-47A3-A15E-6365FC8F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E892-8317-412B-9F74-2062E0A7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4CC5-9C2C-4DB0-AD15-FC8FAD13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45FE-39CB-4D64-9255-3777A85D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DDD2-392C-423B-B2CE-54FB20FD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5DE5B-A814-491B-A5B6-62727F8F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8CB0F-4137-43B0-A74A-3C3BF5B6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BAB9C-A8E4-477E-8016-87D151A5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53C60-4051-4AF0-8141-3D3B65C3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A7DEE-F126-4078-96DF-800F6C7F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A577-A217-4294-88DC-2E2376C0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26F0C-C27C-4FA5-9814-F564BA95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7BB7D-2DA9-4E20-900F-E439EA32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B0845-E81E-45C3-84FE-FA435ADB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164AD-1C52-4166-8D6A-E0E96BF7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D5EDE-5E94-41A7-AC28-8167BB2B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40EF1-DCF6-40B5-9CDD-5CF7A7F1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0572E-F57B-405A-8203-CB0D3542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800D3-0C84-4C26-8E3B-36B1B05A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673E7-6FC9-4BB9-9D87-20B26A7E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275AD-8098-40C9-9C64-8A11385E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0537-99E9-4AE8-BA0E-E417804C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6F433-09FA-4F10-AD8F-5FF022F9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FFAF6-136E-4C1F-BF54-CD87A1B4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9E88D-4952-4902-8BA0-FA6C141A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615E9-1B69-4CFE-B1AC-7953D954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774B2-A2A3-442A-A6D4-70B3236D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9E7E7-6234-42F3-B23D-2853101C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02396-5BAD-4EC2-BDF0-DCAEA048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F204E-623E-4EBC-96ED-24ADCD6E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7617A-C608-4382-90BD-C77C071C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B156-8F53-4CCE-889C-492C9C74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B623-9841-4D96-ACCE-A0DC6775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D4BA-B8CC-405D-9B7C-5F78E945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9A03-E2CB-4E18-B093-77C5D5D0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26C1-FD63-4133-80B1-882287D4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EAC1-294F-4288-8E1E-0548222A425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07DC-D5BB-4A33-A5FD-B7FB34914D9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6325-22D1-4003-B9FD-FAB94465DDC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9B54-785D-4D5F-B24A-BA6C3DD4088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aps.google.com/maps?hl=en&amp;q=map+of+us&amp;um=1&amp;ie=UTF-8&amp;split=0&amp;sa=X&amp;oi=geocode_result&amp;resnum=1&amp;ct=image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128520"/>
            <a:ext cx="8431560" cy="2028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barack obama.jpg"/>
          <p:cNvPicPr/>
          <p:nvPr/>
        </p:nvPicPr>
        <p:blipFill>
          <a:blip r:embed="rId2"/>
          <a:stretch/>
        </p:blipFill>
        <p:spPr>
          <a:xfrm>
            <a:off x="6022800" y="2097000"/>
            <a:ext cx="2084400" cy="2889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Photo of the Presidential Seal"/>
          <p:cNvPicPr/>
          <p:nvPr/>
        </p:nvPicPr>
        <p:blipFill>
          <a:blip r:embed="rId3"/>
          <a:stretch/>
        </p:blipFill>
        <p:spPr>
          <a:xfrm>
            <a:off x="914400" y="1981080"/>
            <a:ext cx="3362400" cy="3381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ra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organized public procession on a festive or ceremonial occas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MSj00749390000[1].wav" descr=""/>
          <p:cNvPicPr/>
          <p:nvPr/>
        </p:nvPicPr>
        <p:blipFill>
          <a:blip r:embed="rId1"/>
          <a:stretch/>
        </p:blipFill>
        <p:spPr>
          <a:xfrm>
            <a:off x="380880" y="6019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ttp://www.fotosearch.com/bthumb/EYW/EYW115/e008561.jpg"/>
          <p:cNvPicPr/>
          <p:nvPr/>
        </p:nvPicPr>
        <p:blipFill>
          <a:blip r:embed="rId2"/>
          <a:stretch/>
        </p:blipFill>
        <p:spPr>
          <a:xfrm>
            <a:off x="762120" y="3200400"/>
            <a:ext cx="3438360" cy="2286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www.fotosearch.com/bthumb/GLW/GLW465/gwt235001.jpg"/>
          <p:cNvPicPr/>
          <p:nvPr/>
        </p:nvPicPr>
        <p:blipFill>
          <a:blip r:embed="rId3"/>
          <a:stretch/>
        </p:blipFill>
        <p:spPr>
          <a:xfrm>
            <a:off x="6477120" y="584280"/>
            <a:ext cx="2000160" cy="1473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http://www.fotosearch.com/bthumb/ICN/ICN178/F0002806.jpg"/>
          <p:cNvPicPr/>
          <p:nvPr/>
        </p:nvPicPr>
        <p:blipFill>
          <a:blip r:embed="rId4"/>
          <a:stretch/>
        </p:blipFill>
        <p:spPr>
          <a:xfrm>
            <a:off x="5181480" y="2438280"/>
            <a:ext cx="2748240" cy="4133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1954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nited St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ountry we live in that consists of the 50 sta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http://www.google.com/mapdata?CxXA8zUCHYWJS_og____________AQwtwPM1AjWFiUv6QLACSJwBUgJVU2gBkAEPygECZW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819520"/>
            <a:ext cx="708660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na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erson who works for the government that helps to make and create law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 was a senato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2" descr="http://www.fotosearch.com/bthumb/phd/PHD162/25043.jpg"/>
          <p:cNvPicPr/>
          <p:nvPr/>
        </p:nvPicPr>
        <p:blipFill>
          <a:blip r:embed="rId1"/>
          <a:stretch/>
        </p:blipFill>
        <p:spPr>
          <a:xfrm>
            <a:off x="762120" y="3378240"/>
            <a:ext cx="1752480" cy="26607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http://www.fotosearch.com/bthumb/UNU/UNU126/u11737664.jpg"/>
          <p:cNvPicPr/>
          <p:nvPr/>
        </p:nvPicPr>
        <p:blipFill>
          <a:blip r:embed="rId2"/>
          <a:stretch/>
        </p:blipFill>
        <p:spPr>
          <a:xfrm>
            <a:off x="4419720" y="3581280"/>
            <a:ext cx="4141800" cy="275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augu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al induction into office. A formal beginning or introduc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ery president has an inauguration into the Presidenc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chelle Ob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’s wif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2" descr="Malia Obama Picture"/>
          <p:cNvPicPr/>
          <p:nvPr/>
        </p:nvPicPr>
        <p:blipFill>
          <a:blip r:embed="rId1"/>
          <a:stretch/>
        </p:blipFill>
        <p:spPr>
          <a:xfrm>
            <a:off x="1676520" y="2514600"/>
            <a:ext cx="498456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anuary 20, 200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date of the inaugu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3" descr="C:\Documents and Settings\jones62\Local Settings\Temporary Internet Files\Content.IE5\3Q3XBORY\MMj02831900000[1].gif"/>
          <p:cNvPicPr/>
          <p:nvPr/>
        </p:nvPicPr>
        <p:blipFill>
          <a:blip r:embed="rId1"/>
          <a:stretch/>
        </p:blipFill>
        <p:spPr>
          <a:xfrm>
            <a:off x="3909960" y="278136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Documents and Settings\jones62\Local Settings\Temporary Internet Files\Content.IE5\3Q3XBORY\MMj02831900000[1].gif"/>
          <p:cNvPicPr/>
          <p:nvPr/>
        </p:nvPicPr>
        <p:blipFill>
          <a:blip r:embed="rId2"/>
          <a:stretch/>
        </p:blipFill>
        <p:spPr>
          <a:xfrm>
            <a:off x="3909960" y="278136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Documents and Settings\jones62\Local Settings\Temporary Internet Files\Content.IE5\3Q3XBORY\MMj02831900000[1].gif"/>
          <p:cNvPicPr/>
          <p:nvPr/>
        </p:nvPicPr>
        <p:blipFill>
          <a:blip r:embed="rId3"/>
          <a:stretch/>
        </p:blipFill>
        <p:spPr>
          <a:xfrm>
            <a:off x="3909960" y="278136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Documents and Settings\jones62\Local Settings\Temporary Internet Files\Content.IE5\6I1F02F0\MCj02329220000[1].wmf"/>
          <p:cNvPicPr/>
          <p:nvPr/>
        </p:nvPicPr>
        <p:blipFill>
          <a:blip r:embed="rId4"/>
          <a:stretch/>
        </p:blipFill>
        <p:spPr>
          <a:xfrm>
            <a:off x="2022480" y="2506680"/>
            <a:ext cx="5195880" cy="3360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aw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rule of conduct or procedure established by custom, agreement, or author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C:\Documents and Settings\jones62\Local Settings\Temporary Internet Files\Content.IE5\ZO7J9NGJ\MCj02411730000[1].wmf"/>
          <p:cNvPicPr/>
          <p:nvPr/>
        </p:nvPicPr>
        <p:blipFill>
          <a:blip r:embed="rId1"/>
          <a:stretch/>
        </p:blipFill>
        <p:spPr>
          <a:xfrm>
            <a:off x="1143000" y="3809880"/>
            <a:ext cx="2284560" cy="228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C:\Documents and Settings\jones62\Local Settings\Temporary Internet Files\Content.IE5\73MURPX2\MCj01495100000[1].wmf"/>
          <p:cNvPicPr/>
          <p:nvPr/>
        </p:nvPicPr>
        <p:blipFill>
          <a:blip r:embed="rId2"/>
          <a:stretch/>
        </p:blipFill>
        <p:spPr>
          <a:xfrm>
            <a:off x="4800600" y="2895480"/>
            <a:ext cx="3781440" cy="2911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la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iece of cloth, usually rectangular, of distinctive color and design, used as a symb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C:\Documents and Settings\jones62\Local Settings\Temporary Internet Files\Content.IE5\3Q3XBORY\MPj04386450000[1].jpg"/>
          <p:cNvPicPr/>
          <p:nvPr/>
        </p:nvPicPr>
        <p:blipFill>
          <a:blip r:embed="rId1"/>
          <a:stretch/>
        </p:blipFill>
        <p:spPr>
          <a:xfrm>
            <a:off x="4648320" y="2743200"/>
            <a:ext cx="4057560" cy="3246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C:\Documents and Settings\jones62\Local Settings\Temporary Internet Files\Content.IE5\73MURPX2\MPj04386220000[1].jpg"/>
          <p:cNvPicPr/>
          <p:nvPr/>
        </p:nvPicPr>
        <p:blipFill>
          <a:blip r:embed="rId2"/>
          <a:stretch/>
        </p:blipFill>
        <p:spPr>
          <a:xfrm>
            <a:off x="228600" y="3429000"/>
            <a:ext cx="3828960" cy="3063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d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one in charge that you may listen to or follow the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1" descr="C:\Documents and Settings\jones62\Local Settings\Temporary Internet Files\Content.IE5\3Q3XBORY\MCj04375430000[1].wmf"/>
          <p:cNvPicPr/>
          <p:nvPr/>
        </p:nvPicPr>
        <p:blipFill>
          <a:blip r:embed="rId1"/>
          <a:stretch/>
        </p:blipFill>
        <p:spPr>
          <a:xfrm>
            <a:off x="1076400" y="2835360"/>
            <a:ext cx="6391080" cy="3314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at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solemn, formal declaration or promise to fulfill a p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3" descr="oath.jpg"/>
          <p:cNvPicPr/>
          <p:nvPr/>
        </p:nvPicPr>
        <p:blipFill>
          <a:blip r:embed="rId1"/>
          <a:stretch/>
        </p:blipFill>
        <p:spPr>
          <a:xfrm>
            <a:off x="2666880" y="2666880"/>
            <a:ext cx="373392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sid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erson who is elected to have authority or control over a group of peopl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3" descr="clinton.gif"/>
          <p:cNvPicPr/>
          <p:nvPr/>
        </p:nvPicPr>
        <p:blipFill>
          <a:blip r:embed="rId1"/>
          <a:stretch/>
        </p:blipFill>
        <p:spPr>
          <a:xfrm>
            <a:off x="1066680" y="2971800"/>
            <a:ext cx="1791000" cy="2552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washington.gif"/>
          <p:cNvPicPr/>
          <p:nvPr/>
        </p:nvPicPr>
        <p:blipFill>
          <a:blip r:embed="rId2"/>
          <a:stretch/>
        </p:blipFill>
        <p:spPr>
          <a:xfrm>
            <a:off x="5638680" y="3124080"/>
            <a:ext cx="1695600" cy="2476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lia Ob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’s daughter. She is in the 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2" descr="http://images.huffingtonpost.com/gadgets/slideshows/865/slide_865_15133_large.jpg"/>
          <p:cNvPicPr/>
          <p:nvPr/>
        </p:nvPicPr>
        <p:blipFill>
          <a:blip r:embed="rId1"/>
          <a:stretch/>
        </p:blipFill>
        <p:spPr>
          <a:xfrm>
            <a:off x="1600200" y="259092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med fo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m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v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ir For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Picture 1" descr="C:\Documents and Settings\jones62\Local Settings\Temporary Internet Files\Content.IE5\HJMT9WVH\MCj04299090000[1].wmf"/>
          <p:cNvPicPr/>
          <p:nvPr/>
        </p:nvPicPr>
        <p:blipFill>
          <a:blip r:embed="rId1"/>
          <a:stretch/>
        </p:blipFill>
        <p:spPr>
          <a:xfrm>
            <a:off x="6400800" y="914400"/>
            <a:ext cx="1854360" cy="1832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C:\Documents and Settings\jones62\Local Settings\Temporary Internet Files\Content.IE5\SHESL96M\MPj04224220000[1].jpg"/>
          <p:cNvPicPr/>
          <p:nvPr/>
        </p:nvPicPr>
        <p:blipFill>
          <a:blip r:embed="rId2"/>
          <a:stretch/>
        </p:blipFill>
        <p:spPr>
          <a:xfrm>
            <a:off x="5791320" y="3962520"/>
            <a:ext cx="2438280" cy="1749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C:\Documents and Settings\jones62\Local Settings\Temporary Internet Files\Content.IE5\SHESL96M\MPj04224220000[1].jpg"/>
          <p:cNvPicPr/>
          <p:nvPr/>
        </p:nvPicPr>
        <p:blipFill>
          <a:blip r:embed="rId3"/>
          <a:stretch/>
        </p:blipFill>
        <p:spPr>
          <a:xfrm>
            <a:off x="5334120" y="-2583000"/>
            <a:ext cx="3809880" cy="2732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C:\Program Files\Microsoft Office\MEDIA\CAGCAT10\j0233070.wmf"/>
          <p:cNvPicPr/>
          <p:nvPr/>
        </p:nvPicPr>
        <p:blipFill>
          <a:blip r:embed="rId4"/>
          <a:stretch/>
        </p:blipFill>
        <p:spPr>
          <a:xfrm>
            <a:off x="228600" y="4648320"/>
            <a:ext cx="2962440" cy="1484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C:\Documents and Settings\jones62\Local Settings\Temporary Internet Files\Content.IE5\HJMT9WVH\MCj04299150000[1].wmf"/>
          <p:cNvPicPr/>
          <p:nvPr/>
        </p:nvPicPr>
        <p:blipFill>
          <a:blip r:embed="rId5"/>
          <a:stretch/>
        </p:blipFill>
        <p:spPr>
          <a:xfrm>
            <a:off x="2819520" y="2286000"/>
            <a:ext cx="1838160" cy="1806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cret serv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ople hired to protect the President at all tim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Agents ????"/>
          <p:cNvPicPr/>
          <p:nvPr/>
        </p:nvPicPr>
        <p:blipFill>
          <a:blip r:embed="rId1"/>
          <a:stretch/>
        </p:blipFill>
        <p:spPr>
          <a:xfrm>
            <a:off x="1938240" y="2666880"/>
            <a:ext cx="585324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asha Ob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’s  youngest daughter. She is in 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2" descr="http://images.huffingtonpost.com/gadgets/slideshows/865/slide_865_15137_large.jpg"/>
          <p:cNvPicPr/>
          <p:nvPr/>
        </p:nvPicPr>
        <p:blipFill>
          <a:blip r:embed="rId1"/>
          <a:stretch/>
        </p:blipFill>
        <p:spPr>
          <a:xfrm>
            <a:off x="1981080" y="259092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t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keep away from danger or har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mom and dad always protect me by holding my hand when I cross the stre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ite Hou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executive mansion of the President of the United States. This is where the President lives and work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3" descr="white house.jpg"/>
          <p:cNvPicPr/>
          <p:nvPr/>
        </p:nvPicPr>
        <p:blipFill>
          <a:blip r:embed="rId1"/>
          <a:stretch/>
        </p:blipFill>
        <p:spPr>
          <a:xfrm>
            <a:off x="1523880" y="2819520"/>
            <a:ext cx="5924520" cy="3828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activity  you do that you produce or accomplish someth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ckson had to </a:t>
            </a:r>
            <a:r>
              <a:rPr b="0" lang="en-US" sz="2600" spc="-1" strike="noStrike">
                <a:solidFill>
                  <a:srgbClr val="0b5395"/>
                </a:solidFill>
                <a:latin typeface="Constantia"/>
              </a:rPr>
              <a:t>work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d on his science projec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mom had to go to </a:t>
            </a:r>
            <a:r>
              <a:rPr b="0" lang="en-US" sz="2600" spc="-1" strike="noStrike">
                <a:solidFill>
                  <a:srgbClr val="0b5395"/>
                </a:solidFill>
                <a:latin typeface="Constantia"/>
              </a:rPr>
              <a:t>work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t the hospital yesterda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1" descr="C:\Documents and Settings\jones62\Local Settings\Temporary Internet Files\Content.IE5\ZO7J9NGJ\MPj04225270000[1].jpg"/>
          <p:cNvPicPr/>
          <p:nvPr/>
        </p:nvPicPr>
        <p:blipFill>
          <a:blip r:embed="rId1"/>
          <a:stretch/>
        </p:blipFill>
        <p:spPr>
          <a:xfrm>
            <a:off x="4952880" y="4343400"/>
            <a:ext cx="3448080" cy="2027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pee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alking to a large group of people. Who is giving this speec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tin Luther King J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5" descr="mlk.jpg"/>
          <p:cNvPicPr/>
          <p:nvPr/>
        </p:nvPicPr>
        <p:blipFill>
          <a:blip r:embed="rId1"/>
          <a:stretch/>
        </p:blipFill>
        <p:spPr>
          <a:xfrm>
            <a:off x="4495680" y="2514600"/>
            <a:ext cx="360540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m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someone says that they will or will not do someth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C:\Documents and Settings\jones62\Local Settings\Temporary Internet Files\Content.IE5\73MURPX2\MCPE03088_0000[1].wmf"/>
          <p:cNvPicPr/>
          <p:nvPr/>
        </p:nvPicPr>
        <p:blipFill>
          <a:blip r:embed="rId1"/>
          <a:stretch/>
        </p:blipFill>
        <p:spPr>
          <a:xfrm>
            <a:off x="2666880" y="2590920"/>
            <a:ext cx="3353040" cy="3849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val Off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Oval Office is the president's formal worksp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is where he often addresses the American public and the world on television or rad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 the president deals with the issues of the da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3" descr="oval office.jpg"/>
          <p:cNvPicPr/>
          <p:nvPr/>
        </p:nvPicPr>
        <p:blipFill>
          <a:blip r:embed="rId1"/>
          <a:stretch/>
        </p:blipFill>
        <p:spPr>
          <a:xfrm>
            <a:off x="2286000" y="3886200"/>
            <a:ext cx="440388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ashington D.C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ur nation’s capita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 went to Washington D.C. and saw the White House and the Washington Monu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le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ight or ability to make a choi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1" descr="C:\Documents and Settings\jones62\Local Settings\Temporary Internet Files\Content.IE5\73MURPX2\MPj03848740000[1].jpg"/>
          <p:cNvPicPr/>
          <p:nvPr/>
        </p:nvPicPr>
        <p:blipFill>
          <a:blip r:embed="rId1"/>
          <a:stretch/>
        </p:blipFill>
        <p:spPr>
          <a:xfrm>
            <a:off x="736560" y="3352680"/>
            <a:ext cx="3301920" cy="316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Documents and Settings\jones62\Local Settings\Temporary Internet Files\Content.IE5\73MURPX2\MCj02809250000[1].wmf"/>
          <p:cNvPicPr/>
          <p:nvPr/>
        </p:nvPicPr>
        <p:blipFill>
          <a:blip r:embed="rId2"/>
          <a:stretch/>
        </p:blipFill>
        <p:spPr>
          <a:xfrm>
            <a:off x="4856040" y="1981080"/>
            <a:ext cx="360360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4:02:37Z</dcterms:created>
  <dc:creator>Hillsborough Public Schools</dc:creator>
  <dc:description/>
  <dc:language>en-US</dc:language>
  <cp:lastModifiedBy>RomaK</cp:lastModifiedBy>
  <dcterms:modified xsi:type="dcterms:W3CDTF">2015-09-02T09:51:02Z</dcterms:modified>
  <cp:revision>40</cp:revision>
  <dc:subject/>
  <dc:title>Barack Obama</dc:title>
</cp:coreProperties>
</file>