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4.jpeg" ContentType="image/jpeg"/>
  <Override PartName="/ppt/media/image22.png" ContentType="image/png"/>
  <Override PartName="/ppt/media/image23.jpeg" ContentType="image/jpeg"/>
  <Override PartName="/ppt/media/image21.jpeg" ContentType="image/jpeg"/>
  <Override PartName="/ppt/media/image32.wmf" ContentType="image/x-wmf"/>
  <Override PartName="/ppt/media/image20.jpeg" ContentType="image/jpeg"/>
  <Override PartName="/ppt/media/image26.gif" ContentType="image/gif"/>
  <Override PartName="/ppt/media/image29.wmf" ContentType="image/x-wmf"/>
  <Override PartName="/ppt/media/image19.jpeg" ContentType="image/jpeg"/>
  <Override PartName="/ppt/media/image18.png" ContentType="image/png"/>
  <Override PartName="/ppt/media/image8.jpeg" ContentType="image/jpeg"/>
  <Override PartName="/ppt/media/image5.png" ContentType="image/png"/>
  <Override PartName="/ppt/media/image13.jpeg" ContentType="image/jpeg"/>
  <Override PartName="/ppt/media/image40.jpeg" ContentType="image/jpeg"/>
  <Override PartName="/ppt/media/image17.wmf" ContentType="image/x-wmf"/>
  <Override PartName="/ppt/media/image9.png" ContentType="image/png"/>
  <Override PartName="/ppt/media/image11.jpeg" ContentType="image/jpeg"/>
  <Override PartName="/ppt/media/image36.jpeg" ContentType="image/jpeg"/>
  <Override PartName="/ppt/media/image30.jpeg" ContentType="image/jpeg"/>
  <Override PartName="/ppt/media/image16.jpeg" ContentType="image/jpeg"/>
  <Override PartName="/ppt/media/image35.wmf" ContentType="image/x-wmf"/>
  <Override PartName="/ppt/media/image31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39.wmf" ContentType="image/x-wmf"/>
  <Override PartName="/ppt/media/image41.jpeg" ContentType="image/jpeg"/>
  <Override PartName="/ppt/media/image4.jpeg" ContentType="image/jpeg"/>
  <Override PartName="/ppt/media/image38.wmf" ContentType="image/x-wmf"/>
  <Override PartName="/ppt/media/image34.jpeg" ContentType="image/jpeg"/>
  <Override PartName="/ppt/media/image7.png" ContentType="image/png"/>
  <Override PartName="/ppt/media/image10.png" ContentType="image/png"/>
  <Override PartName="/ppt/media/image1.jpeg" ContentType="image/jpeg"/>
  <Override PartName="/ppt/media/image12.jpeg" ContentType="image/jpeg"/>
  <Override PartName="/ppt/media/image28.wmf" ContentType="image/x-wmf"/>
  <Override PartName="/ppt/media/image37.jpeg" ContentType="image/jpeg"/>
  <Override PartName="/ppt/media/image6.png" ContentType="image/png"/>
  <Override PartName="/ppt/media/image14.wmf" ContentType="image/x-wmf"/>
  <Override PartName="/ppt/media/image3.png" ContentType="image/png"/>
  <Override PartName="/ppt/media/image1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A26F-B1D5-47AC-BB6C-1A72FC70BB7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rack Oba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rack Ob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rganized public procession on a festive or ceremonial occa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rganized public procession on a festive or ceremonial occa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ed St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untry we live in that consists of the 50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ed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untry we live in that consists of the 50 st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erson who works for the government that helps to make and create la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ack Obama was a sena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erson who works for the government that helps to make and create la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ack Obama was a sen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augu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l induction into office. A formal beginning or introdu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president has an inauguration into the Presid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au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l induction into office. A formal beginning or int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president has an inauguration into the Presid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ichelle Oba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rack Obama’s wif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ichelle Ob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rack Obama’s w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uary 20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te of the inaugu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uary 20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te of the inau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ule of conduct or procedure established by custom, agreement, or author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ule of conduct or procedure established by custom, agreement, or autho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iece of cloth, usually rectangular, of distinctive color and design, used as a symb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iece of cloth, usually rectangular, of distinctive color and design, used as a symb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one in charge that you may listen to or follow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one in charge that you may listen to or follow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olemn, formal declaration or promise to fulfill a ple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olemn, formal declaration or promise to fulfill a p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id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erson who is elected to have authority or control over a group of peop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i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erson who is elected to have authority or control over a group of peo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ia Oba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ack Obama’s daughter. She is in the 5th gra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ia Ob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ack Obama’s daughter. She is in the 5th gr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med 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v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m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 serv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hired to protect the President at all ti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hired to protect the President at all ti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sha Oba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ack Obama’s  youngest daughter. She is in the 2nd gra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sha Ob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ack Obama’s  youngest daughter. She is in the 2nd gr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keep away from danger or ha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mom and dad always protect me by holding my hand when I cross the stre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keep away from danger or h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mom and dad always protect me by holding my hand when I cross the str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xecutive mansion of the President of the United States. This is where the President lives and wor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xecutive mansion of the President of the United States. This is where the President lives and wo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ctivity  you do that you produce or accomplish someth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ckson had to work hard on his science pro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mom had to go to work at the hospital yester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ctivity  you do that you produce or accomplish some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ckson had to work hard on his science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mom had to go to work at the hospital yester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lking to a large group of people. Who is giving this spee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tin Luther King J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lking to a large group of people. Who is giving this spee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tin Luther King J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someone says that they will or will not do someth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someone says that they will or will not do some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al Off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val Office is the president's formal work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where he often addresses the American public and the world on television or radi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he president deals with the issues of the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al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val Office is the president's formal work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where he often addresses the American public and the world on television or rad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he president deals with the issues of the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ton D.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nation’s capit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ent to Washington D.C. and saw the White House and the Washington Monu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ton D.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nation’s capi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ent to Washington D.C. and saw the White House and the Washington Monu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ght or ability to make a cho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ght or ability to make a cho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C655-3934-4D55-B3BC-9678D8832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6C57-FAF9-42E7-B37A-98E8AE60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C029-C28B-4515-AE89-9B2E97553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0144-548B-4C2D-8FE0-DBBE3CB97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CCC7-479F-4622-9CBF-1275D7A6B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9F0D-B4D1-4651-9981-8FEC1B99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D8875-F4FA-46AC-8CBA-9CAE82BF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6C899-E727-43B5-A5B0-3159867B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AD72-863C-46A6-A31A-3368CA45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87642-9336-4B2A-98F3-E64A63D7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38086-77CD-4F87-B06B-7E1BC7AF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D2C0-67DF-4267-A1C0-833530DF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9D645-0541-4637-ADF2-52799C66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C46C-9AC7-4F7E-932A-F94F0269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3DBE-7F41-4051-A93F-C6A789D4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46A9-0C99-4C69-8528-66724D529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5772C-A7BC-4CCD-BC09-1B6F045CF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74213-8AF9-4FD6-90F0-B477A2BC8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87066-81C1-4F51-A853-46630D2C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A9886-0054-45A6-AD49-DCEB90F5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5DFBA-7E36-4CF8-A71B-D230927C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8CA97-3653-437B-A751-52FE1842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BF7D-2407-4885-9C88-D7EC796F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16F1C-1E36-4B39-90FE-6EDEC7A3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BA601-9066-4649-A468-18411616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6847D-DC52-4CEF-BF5E-36317912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99349-5BE4-45B4-8114-B93A6FC0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342AA-BBCF-46DF-A81F-5705210C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9628C-276F-4997-92A4-E1202403A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B9368-C771-4398-9D15-B98B0FC97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DE713-6126-411C-B4D5-C4453EB8D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202C3-9A27-4ABD-A370-A2073AE8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CAA94-B368-49AB-A2E1-A1FCF828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6DAD-6562-446A-8A16-11DD4E49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D04F7-6FF5-4EA4-9D49-C28EC9D8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83BFB-C021-4800-9740-6CAA0D0F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7AB1B-6ABD-4275-8153-6910DAA2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A8218-9D54-4BB3-9A2E-1D1C44DA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8A06B-55C0-493D-A71B-2885876A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3E3C9-4905-4AC1-B1F1-8CA7F72C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A236C-3635-4B35-B251-790C9B46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D5C82-07E6-4CBD-9A4A-9E318385D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F31C8-DA6D-46D1-B735-D3BDA033F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65A9-F513-4DDA-8004-E520C149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31BC-AB0E-450E-BD2F-AEA05B51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0CBE-40E0-484B-8893-70BA4E65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79A2-3109-4C78-8F2B-6E55BE8E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D793-15A9-49E3-8C98-9681FFF2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FBCF-18F5-49EB-A467-E1D8EB717ED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F8AF-20EE-4260-8E61-42115B9E1DB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1780-25FA-4A35-B9AD-C0C9522A4A3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C4AE-9D3E-4DF8-836D-0D3DE7C8290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maps.google.com/maps?hl=en&amp;q=map+of+us&amp;um=1&amp;ie=UTF-8&amp;split=0&amp;sa=X&amp;oi=geocode_result&amp;resnum=1&amp;ct=image" TargetMode="Externa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6.gif"/><Relationship Id="rId3" Type="http://schemas.openxmlformats.org/officeDocument/2006/relationships/image" Target="../media/image26.gi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6400" y="128520"/>
            <a:ext cx="8431560" cy="20289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4" descr="barack obama.jpg"/>
          <p:cNvPicPr/>
          <p:nvPr/>
        </p:nvPicPr>
        <p:blipFill>
          <a:blip r:embed="rId2"/>
          <a:stretch/>
        </p:blipFill>
        <p:spPr>
          <a:xfrm>
            <a:off x="6022800" y="2097000"/>
            <a:ext cx="2084400" cy="2889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Photo of the Presidential Seal"/>
          <p:cNvPicPr/>
          <p:nvPr/>
        </p:nvPicPr>
        <p:blipFill>
          <a:blip r:embed="rId3"/>
          <a:stretch/>
        </p:blipFill>
        <p:spPr>
          <a:xfrm>
            <a:off x="914400" y="1981080"/>
            <a:ext cx="3362400" cy="3381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ra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 organized public procession on a festive or ceremonial occas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MSj00749390000[1].wav" descr=""/>
          <p:cNvPicPr/>
          <p:nvPr/>
        </p:nvPicPr>
        <p:blipFill>
          <a:blip r:embed="rId1"/>
          <a:stretch/>
        </p:blipFill>
        <p:spPr>
          <a:xfrm>
            <a:off x="380880" y="6019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http://www.fotosearch.com/bthumb/EYW/EYW115/e008561.jpg"/>
          <p:cNvPicPr/>
          <p:nvPr/>
        </p:nvPicPr>
        <p:blipFill>
          <a:blip r:embed="rId2"/>
          <a:stretch/>
        </p:blipFill>
        <p:spPr>
          <a:xfrm>
            <a:off x="762120" y="3200400"/>
            <a:ext cx="3438360" cy="2286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http://www.fotosearch.com/bthumb/GLW/GLW465/gwt235001.jpg"/>
          <p:cNvPicPr/>
          <p:nvPr/>
        </p:nvPicPr>
        <p:blipFill>
          <a:blip r:embed="rId3"/>
          <a:stretch/>
        </p:blipFill>
        <p:spPr>
          <a:xfrm>
            <a:off x="6477120" y="584280"/>
            <a:ext cx="2000160" cy="1473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http://www.fotosearch.com/bthumb/ICN/ICN178/F0002806.jpg"/>
          <p:cNvPicPr/>
          <p:nvPr/>
        </p:nvPicPr>
        <p:blipFill>
          <a:blip r:embed="rId4"/>
          <a:stretch/>
        </p:blipFill>
        <p:spPr>
          <a:xfrm>
            <a:off x="5181480" y="2438280"/>
            <a:ext cx="2748240" cy="4133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34" dur="indefinite" restart="never" nodeType="tmRoot">
          <p:childTnLst>
            <p:seq>
              <p:cTn id="35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36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21954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United Sta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country we live in that consists of the 50 stat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2" descr="http://www.google.com/mapdata?CxXA8zUCHYWJS_og____________AQwtwPM1AjWFiUv6QLACSJwBUgJVU2gBkAEPygECZW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2819520"/>
            <a:ext cx="7086600" cy="3581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enat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person who works for the government that helps to make and create law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rack Obama was a senato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2" name="Picture 2" descr="http://www.fotosearch.com/bthumb/phd/PHD162/25043.jpg"/>
          <p:cNvPicPr/>
          <p:nvPr/>
        </p:nvPicPr>
        <p:blipFill>
          <a:blip r:embed="rId1"/>
          <a:stretch/>
        </p:blipFill>
        <p:spPr>
          <a:xfrm>
            <a:off x="762120" y="3378240"/>
            <a:ext cx="1752480" cy="26607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http://www.fotosearch.com/bthumb/UNU/UNU126/u11737664.jpg"/>
          <p:cNvPicPr/>
          <p:nvPr/>
        </p:nvPicPr>
        <p:blipFill>
          <a:blip r:embed="rId2"/>
          <a:stretch/>
        </p:blipFill>
        <p:spPr>
          <a:xfrm>
            <a:off x="4419720" y="3581280"/>
            <a:ext cx="4141800" cy="2752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augur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rmal induction into office. A formal beginning or introduc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ery president has an inauguration into the Presidenc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ichelle Ob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rack Obama’s wif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8" name="Picture 2" descr="Malia Obama Picture"/>
          <p:cNvPicPr/>
          <p:nvPr/>
        </p:nvPicPr>
        <p:blipFill>
          <a:blip r:embed="rId1"/>
          <a:stretch/>
        </p:blipFill>
        <p:spPr>
          <a:xfrm>
            <a:off x="1676520" y="2514600"/>
            <a:ext cx="4984560" cy="3733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January 20, 2009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date of the inaugur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1" name="Picture 3" descr="C:\Documents and Settings\jones62\Local Settings\Temporary Internet Files\Content.IE5\3Q3XBORY\MMj02831900000[1].gif"/>
          <p:cNvPicPr/>
          <p:nvPr/>
        </p:nvPicPr>
        <p:blipFill>
          <a:blip r:embed="rId1"/>
          <a:stretch/>
        </p:blipFill>
        <p:spPr>
          <a:xfrm>
            <a:off x="3909960" y="2781360"/>
            <a:ext cx="1324080" cy="1295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C:\Documents and Settings\jones62\Local Settings\Temporary Internet Files\Content.IE5\3Q3XBORY\MMj02831900000[1].gif"/>
          <p:cNvPicPr/>
          <p:nvPr/>
        </p:nvPicPr>
        <p:blipFill>
          <a:blip r:embed="rId2"/>
          <a:stretch/>
        </p:blipFill>
        <p:spPr>
          <a:xfrm>
            <a:off x="3909960" y="2781360"/>
            <a:ext cx="1324080" cy="12952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C:\Documents and Settings\jones62\Local Settings\Temporary Internet Files\Content.IE5\3Q3XBORY\MMj02831900000[1].gif"/>
          <p:cNvPicPr/>
          <p:nvPr/>
        </p:nvPicPr>
        <p:blipFill>
          <a:blip r:embed="rId3"/>
          <a:stretch/>
        </p:blipFill>
        <p:spPr>
          <a:xfrm>
            <a:off x="3909960" y="2781360"/>
            <a:ext cx="1324080" cy="1295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C:\Documents and Settings\jones62\Local Settings\Temporary Internet Files\Content.IE5\6I1F02F0\MCj02329220000[1].wmf"/>
          <p:cNvPicPr/>
          <p:nvPr/>
        </p:nvPicPr>
        <p:blipFill>
          <a:blip r:embed="rId4"/>
          <a:stretch/>
        </p:blipFill>
        <p:spPr>
          <a:xfrm>
            <a:off x="2022480" y="2506680"/>
            <a:ext cx="5195880" cy="3360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aw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rule of conduct or procedure established by custom, agreement, or authorit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Picture 2" descr="C:\Documents and Settings\jones62\Local Settings\Temporary Internet Files\Content.IE5\ZO7J9NGJ\MCj02411730000[1].wmf"/>
          <p:cNvPicPr/>
          <p:nvPr/>
        </p:nvPicPr>
        <p:blipFill>
          <a:blip r:embed="rId1"/>
          <a:stretch/>
        </p:blipFill>
        <p:spPr>
          <a:xfrm>
            <a:off x="1143000" y="3809880"/>
            <a:ext cx="2284560" cy="2286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C:\Documents and Settings\jones62\Local Settings\Temporary Internet Files\Content.IE5\73MURPX2\MCj01495100000[1].wmf"/>
          <p:cNvPicPr/>
          <p:nvPr/>
        </p:nvPicPr>
        <p:blipFill>
          <a:blip r:embed="rId2"/>
          <a:stretch/>
        </p:blipFill>
        <p:spPr>
          <a:xfrm>
            <a:off x="4800600" y="2895480"/>
            <a:ext cx="3781440" cy="2911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la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piece of cloth, usually rectangular, of distinctive color and design, used as a symbo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2" descr="C:\Documents and Settings\jones62\Local Settings\Temporary Internet Files\Content.IE5\3Q3XBORY\MPj04386450000[1].jpg"/>
          <p:cNvPicPr/>
          <p:nvPr/>
        </p:nvPicPr>
        <p:blipFill>
          <a:blip r:embed="rId1"/>
          <a:stretch/>
        </p:blipFill>
        <p:spPr>
          <a:xfrm>
            <a:off x="4648320" y="2743200"/>
            <a:ext cx="4057560" cy="32464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C:\Documents and Settings\jones62\Local Settings\Temporary Internet Files\Content.IE5\73MURPX2\MPj04386220000[1].jpg"/>
          <p:cNvPicPr/>
          <p:nvPr/>
        </p:nvPicPr>
        <p:blipFill>
          <a:blip r:embed="rId2"/>
          <a:stretch/>
        </p:blipFill>
        <p:spPr>
          <a:xfrm>
            <a:off x="228600" y="3429000"/>
            <a:ext cx="3828960" cy="3063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ad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meone in charge that you may listen to or follow the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5" name="Picture 1" descr="C:\Documents and Settings\jones62\Local Settings\Temporary Internet Files\Content.IE5\3Q3XBORY\MCj04375430000[1].wmf"/>
          <p:cNvPicPr/>
          <p:nvPr/>
        </p:nvPicPr>
        <p:blipFill>
          <a:blip r:embed="rId1"/>
          <a:stretch/>
        </p:blipFill>
        <p:spPr>
          <a:xfrm>
            <a:off x="1076400" y="2835360"/>
            <a:ext cx="6391080" cy="3314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at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solemn, formal declaration or promise to fulfill a pled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8" name="Picture 3" descr="oath.jpg"/>
          <p:cNvPicPr/>
          <p:nvPr/>
        </p:nvPicPr>
        <p:blipFill>
          <a:blip r:embed="rId1"/>
          <a:stretch/>
        </p:blipFill>
        <p:spPr>
          <a:xfrm>
            <a:off x="2666880" y="2666880"/>
            <a:ext cx="3733920" cy="3810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esid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person who is elected to have authority or control over a group of peopl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3" descr="clinton.gif"/>
          <p:cNvPicPr/>
          <p:nvPr/>
        </p:nvPicPr>
        <p:blipFill>
          <a:blip r:embed="rId1"/>
          <a:stretch/>
        </p:blipFill>
        <p:spPr>
          <a:xfrm>
            <a:off x="1066680" y="2971800"/>
            <a:ext cx="1791000" cy="25527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washington.gif"/>
          <p:cNvPicPr/>
          <p:nvPr/>
        </p:nvPicPr>
        <p:blipFill>
          <a:blip r:embed="rId2"/>
          <a:stretch/>
        </p:blipFill>
        <p:spPr>
          <a:xfrm>
            <a:off x="5638680" y="3124080"/>
            <a:ext cx="1695600" cy="2476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alia Ob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rack Obama’s daughter. She is in the 5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grad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1" name="Picture 2" descr="http://images.huffingtonpost.com/gadgets/slideshows/865/slide_865_15133_large.jpg"/>
          <p:cNvPicPr/>
          <p:nvPr/>
        </p:nvPicPr>
        <p:blipFill>
          <a:blip r:embed="rId1"/>
          <a:stretch/>
        </p:blipFill>
        <p:spPr>
          <a:xfrm>
            <a:off x="1600200" y="2590920"/>
            <a:ext cx="523872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rmed for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rm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av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ir For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ri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4" name="Picture 1" descr="C:\Documents and Settings\jones62\Local Settings\Temporary Internet Files\Content.IE5\HJMT9WVH\MCj04299090000[1].wmf"/>
          <p:cNvPicPr/>
          <p:nvPr/>
        </p:nvPicPr>
        <p:blipFill>
          <a:blip r:embed="rId1"/>
          <a:stretch/>
        </p:blipFill>
        <p:spPr>
          <a:xfrm>
            <a:off x="6400800" y="914400"/>
            <a:ext cx="1854360" cy="18320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C:\Documents and Settings\jones62\Local Settings\Temporary Internet Files\Content.IE5\SHESL96M\MPj04224220000[1].jpg"/>
          <p:cNvPicPr/>
          <p:nvPr/>
        </p:nvPicPr>
        <p:blipFill>
          <a:blip r:embed="rId2"/>
          <a:stretch/>
        </p:blipFill>
        <p:spPr>
          <a:xfrm>
            <a:off x="5791320" y="3962520"/>
            <a:ext cx="2438280" cy="17492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C:\Documents and Settings\jones62\Local Settings\Temporary Internet Files\Content.IE5\SHESL96M\MPj04224220000[1].jpg"/>
          <p:cNvPicPr/>
          <p:nvPr/>
        </p:nvPicPr>
        <p:blipFill>
          <a:blip r:embed="rId3"/>
          <a:stretch/>
        </p:blipFill>
        <p:spPr>
          <a:xfrm>
            <a:off x="5334120" y="-2583000"/>
            <a:ext cx="3809880" cy="27324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C:\Program Files\Microsoft Office\MEDIA\CAGCAT10\j0233070.wmf"/>
          <p:cNvPicPr/>
          <p:nvPr/>
        </p:nvPicPr>
        <p:blipFill>
          <a:blip r:embed="rId4"/>
          <a:stretch/>
        </p:blipFill>
        <p:spPr>
          <a:xfrm>
            <a:off x="228600" y="4648320"/>
            <a:ext cx="2962440" cy="1484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C:\Documents and Settings\jones62\Local Settings\Temporary Internet Files\Content.IE5\HJMT9WVH\MCj04299150000[1].wmf"/>
          <p:cNvPicPr/>
          <p:nvPr/>
        </p:nvPicPr>
        <p:blipFill>
          <a:blip r:embed="rId5"/>
          <a:stretch/>
        </p:blipFill>
        <p:spPr>
          <a:xfrm>
            <a:off x="2819520" y="2286000"/>
            <a:ext cx="1838160" cy="1806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ecret servi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ople hired to protect the President at all tim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1" name="Picture 2" descr="Agents ????"/>
          <p:cNvPicPr/>
          <p:nvPr/>
        </p:nvPicPr>
        <p:blipFill>
          <a:blip r:embed="rId1"/>
          <a:stretch/>
        </p:blipFill>
        <p:spPr>
          <a:xfrm>
            <a:off x="1938240" y="2666880"/>
            <a:ext cx="585324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asha Ob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rack Obama’s  youngest daughter. She is in the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n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grad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4" name="Picture 2" descr="http://images.huffingtonpost.com/gadgets/slideshows/865/slide_865_15137_large.jpg"/>
          <p:cNvPicPr/>
          <p:nvPr/>
        </p:nvPicPr>
        <p:blipFill>
          <a:blip r:embed="rId1"/>
          <a:stretch/>
        </p:blipFill>
        <p:spPr>
          <a:xfrm>
            <a:off x="1981080" y="2590920"/>
            <a:ext cx="523872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tec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keep away from danger or har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y mom and dad always protect me by holding my hand when I cross the stree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ite Hou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executive mansion of the President of the United States. This is where the President lives and work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3" descr="white house.jpg"/>
          <p:cNvPicPr/>
          <p:nvPr/>
        </p:nvPicPr>
        <p:blipFill>
          <a:blip r:embed="rId1"/>
          <a:stretch/>
        </p:blipFill>
        <p:spPr>
          <a:xfrm>
            <a:off x="1523880" y="2819520"/>
            <a:ext cx="5924520" cy="3828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or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 activity  you do that you produce or accomplish someth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ackson had to </a:t>
            </a:r>
            <a:r>
              <a:rPr b="0" lang="en-US" sz="2600" spc="-1" strike="noStrike">
                <a:solidFill>
                  <a:srgbClr val="0b5395"/>
                </a:solidFill>
                <a:latin typeface="Constantia"/>
              </a:rPr>
              <a:t>work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rd on his science projec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y mom had to go to </a:t>
            </a:r>
            <a:r>
              <a:rPr b="0" lang="en-US" sz="2600" spc="-1" strike="noStrike">
                <a:solidFill>
                  <a:srgbClr val="0b5395"/>
                </a:solidFill>
                <a:latin typeface="Constantia"/>
              </a:rPr>
              <a:t>work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t the hospital yesterda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1" descr="C:\Documents and Settings\jones62\Local Settings\Temporary Internet Files\Content.IE5\ZO7J9NGJ\MPj04225270000[1].jpg"/>
          <p:cNvPicPr/>
          <p:nvPr/>
        </p:nvPicPr>
        <p:blipFill>
          <a:blip r:embed="rId1"/>
          <a:stretch/>
        </p:blipFill>
        <p:spPr>
          <a:xfrm>
            <a:off x="4952880" y="4343400"/>
            <a:ext cx="3448080" cy="2027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peec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alking to a large group of people. Who is giving this speech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rtin Luther King J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5" descr="mlk.jpg"/>
          <p:cNvPicPr/>
          <p:nvPr/>
        </p:nvPicPr>
        <p:blipFill>
          <a:blip r:embed="rId1"/>
          <a:stretch/>
        </p:blipFill>
        <p:spPr>
          <a:xfrm>
            <a:off x="4495680" y="2514600"/>
            <a:ext cx="3605400" cy="4038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mi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n someone says that they will or will not do someth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2" descr="C:\Documents and Settings\jones62\Local Settings\Temporary Internet Files\Content.IE5\73MURPX2\MCPE03088_0000[1].wmf"/>
          <p:cNvPicPr/>
          <p:nvPr/>
        </p:nvPicPr>
        <p:blipFill>
          <a:blip r:embed="rId1"/>
          <a:stretch/>
        </p:blipFill>
        <p:spPr>
          <a:xfrm>
            <a:off x="2666880" y="2590920"/>
            <a:ext cx="3353040" cy="3849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val Offi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Oval Office is the president's formal workspa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s is where he often addresses the American public and the world on television or radi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re the president deals with the issues of the da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3" descr="oval office.jpg"/>
          <p:cNvPicPr/>
          <p:nvPr/>
        </p:nvPicPr>
        <p:blipFill>
          <a:blip r:embed="rId1"/>
          <a:stretch/>
        </p:blipFill>
        <p:spPr>
          <a:xfrm>
            <a:off x="2286000" y="3886200"/>
            <a:ext cx="440388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ashington D.C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ur nation’s capital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e went to Washington D.C. and saw the White House and the Washington Monum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le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right or ability to make a choi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1" descr="C:\Documents and Settings\jones62\Local Settings\Temporary Internet Files\Content.IE5\73MURPX2\MPj03848740000[1].jpg"/>
          <p:cNvPicPr/>
          <p:nvPr/>
        </p:nvPicPr>
        <p:blipFill>
          <a:blip r:embed="rId1"/>
          <a:stretch/>
        </p:blipFill>
        <p:spPr>
          <a:xfrm>
            <a:off x="736560" y="3352680"/>
            <a:ext cx="3301920" cy="316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C:\Documents and Settings\jones62\Local Settings\Temporary Internet Files\Content.IE5\73MURPX2\MCj02809250000[1].wmf"/>
          <p:cNvPicPr/>
          <p:nvPr/>
        </p:nvPicPr>
        <p:blipFill>
          <a:blip r:embed="rId2"/>
          <a:stretch/>
        </p:blipFill>
        <p:spPr>
          <a:xfrm>
            <a:off x="4856040" y="1981080"/>
            <a:ext cx="3603600" cy="3733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4:02:37Z</dcterms:created>
  <dc:creator>Hillsborough Public Schools</dc:creator>
  <dc:description/>
  <dc:language>en-US</dc:language>
  <cp:lastModifiedBy>RomaK</cp:lastModifiedBy>
  <dcterms:modified xsi:type="dcterms:W3CDTF">2015-09-02T09:51:02Z</dcterms:modified>
  <cp:revision>40</cp:revision>
  <dc:subject/>
  <dc:title>Barack Obama</dc:title>
</cp:coreProperties>
</file>