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3.wmf" ContentType="image/x-wmf"/>
  <Override PartName="/ppt/media/image4.wmf" ContentType="image/x-wmf"/>
  <Override PartName="/ppt/media/image6.gif" ContentType="image/gi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56BD-A60B-4CAF-B6F1-F56D5B3081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 is a German tradition, dating to about 7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ule” log was a large foundational log placed in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omes from an associated celebratory cry heard about Christmastime because the nights were becoming sho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tree is a German tradition, dating to about 700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ule” log was a large foundational log placed in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e comes from an associated celebratory cry heard about Christmastime because the nights were becoming shor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tch name for Nicholas was Sinterklaas, which became Santa Cla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on Christmas day partly because of the Dutch Santa Claus 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tch name for Nicholas was Sinterklaas, which became Santa Cla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on Christmas day partly because of the Dutch Santa Claus legen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from folktales told of a magician that punished naughty children and rewarded good children with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from folktales told of a magician that punished naughty children and rewarded good children with pres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letoe was used as a Christmas decoration for years, but was associated with pagan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ddess of love – probably where kissing under the mistletoe comes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y replaced it, where the thorns remind of Christ’s crown on the cross and the red berries of His shed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stletoe was used as a Christmas decoration for years, but was associated with pagan ritu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ddess of love – probably where kissing under the mistletoe comes fr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y replaced it, where the thorns remind of Christ’s crown on the cross and the red berries of His shed b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ghty children in Italy were the first to get a lump of coal in the st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ughty children in Italy were the first to get a lump of coal in the stock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or “carols” [songs] were sung by small choirs for the pleasure of those that happened to walk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ards started in London in 18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or “carols” [songs] were sung by small choirs for the pleasure of those that happened to walk b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ards started in London in 184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ing “carols” [songs] accompanied by a group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el in French is translated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ging “carols” [songs] accompanied by a group d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el in French is translated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s abbreviated Xmas because the word for Christ in Greek is Xris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s abbreviated Xmas because the word for Christ in Greek is Xristo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eve is celebrated because the Jewish tradition is that the new day starts at sundown [therefore Christmas eve is actually the start of Christmas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Jews (by heritage) are also Christians (by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rae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eve is celebrated because the Jewish tradition is that the new day starts at sundown [therefore Christmas eve is actually the start of Christmas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Jews (by heritage) are also Christians (by fai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ot Center in Flo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untry pavilion has a section dedicated to the history and traditions of Christmas (during the Christmas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cot Center in Flori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country pavilion has a section dedicated to the history and traditions of Christmas (during the Christmas se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grims did not celebrat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brought their Christmas traditions, especially in the 1700s and early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s a national celebration gathered momentum during the mid-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grims did not celebrat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migrants brought their Christmas traditions, especially in the 1700s and early 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s a national celebration gathered momentum during the mid-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Ambassador to Mexico, J.R. Poinsett, imported (what became) the poinsettia for Christmas in 18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Ambassador to Mexico, J.R. Poinsett, imported (what became) the poinsettia for Christmas in 182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sleigh, reindeer, etc. came from 2 published works in 1822 and 1863-18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22 – “The Night Befor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3-1886 – magazine published pictures of Santa’s workshop, Santa reading letters, Santa checking his lis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sleigh, reindeer, etc. came from 2 published works in 1822 and 1863-1886</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22 – “The Night Befor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63-1886 – magazine published pictures of Santa’s workshop, Santa reading letters, Santa checking his list,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to become popular in 1860s, and by 1874 Macy’s in New York developed Christmas theme window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 decorations became common in 1880 when Woolworth’s began to sell manufactured orn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to become popular in 1860s, and by 1874 Macy’s in New York developed Christmas theme window display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e decorations became common in 1880 when Woolworth’s began to sell manufactured orna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door White House tree tradition started in 1923 with President Cooli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door White House tree tradition started in 1923 with President Cooli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ost popular secular songs at Christma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g Crosby’s “White Christmas” (19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Autry’s “Rudolf the Red-nosed Reindeer” (19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most popular secular songs at Christmas a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g Crosby’s “White Christmas” (194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Autry’s “Rudolf the Red-nosed Reindeer” (1949)</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something to celebrate for ever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raditions incorporating aspects from man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religious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s something to celebrate for everybod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traditions incorporating aspects from many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 religious ev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s the birth of Jesus, Savior to Chris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partly because the Bible tells of the wise men (magi) bringing gifts to the Christ-child as they came to worship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ebrates the birth of Jesus, Savior to Christi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partly because the Bible tells of the wise men (magi) bringing gifts to the Christ-child as they came to worship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ity scene comes from the Bible, especially in the books of Matthew and Lu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ity scene comes from the Bible, especially in the books of Matthew and Lu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Claus comes from a real person in 325 A.D. – Saint Nicholas in 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utation for kindness and gene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of financial miracles on behalf of the poor and unha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ly Christian nati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 Claus comes from a real person in 325 A.D. – Saint Nicholas in 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utation for kindness and genero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of financial miracles on behalf of the poor and unhapp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Mostly Christian nation at this t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red and white suit came from the traditional Bishop’s robes that Saint Nicholas would have w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red and white suit came from the traditional Bishop’s robes that Saint Nicholas would have w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ings were originally hung, hoping that Saint Nicholas would bring gold coins (as legend says he did for three poor girls that needed money to get mar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ere filled with small gifts, especially fruit and n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ckings were originally hung, hoping that Saint Nicholas would bring gold coins (as legend says he did for three poor girls that needed money to get marr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were filled with small gifts, especially fruit and nu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6498C6-45B0-469E-AFF9-D581C7D9EA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8BD85D-E5B1-42F0-8A2F-C3049FABDA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436589-8AE3-4CAD-BD2B-2E6F4D571F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EB17C1-9709-4B0C-976E-62DFD564A1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C4223-F2CC-4B30-9248-1B3DEC54B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B4F61-C6A7-434C-AC54-14AF0F395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F1D66-522A-4366-A3A5-74F6725ED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5CF91-FAA0-44A0-A9F4-E09A19701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B9FE3-A338-40EC-886F-BDEB1F0D9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5F359-FC8A-40BA-BBE4-2BD776304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9D7BB-DCE6-4E66-BA18-CF05219D2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70C9D2-CDA4-4CDD-889D-AC0EA2105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C88CF-D165-4AE4-BC02-FDC815C9B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84B4A-A57D-47ED-99BC-988206082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15A95-B904-40CA-819F-E751115C7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DFEF7-1569-4C80-9EBB-564F56123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61C74-295D-43C2-9DF3-C6E217790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2585AD-8E18-4AB0-B53B-43175749BC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0B9ED6-D1AA-4A0D-8336-AED1F1A835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DD042E-F69E-4A58-A0A4-173561E07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CF0D96-760F-4403-BE63-24913E9AF8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03B001-2409-4568-BE45-3E70BC0C9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52B063-9C9F-4C7D-B8D9-72E8FAAC90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57CBE4-37DE-49AC-B725-CB9B0C2C063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ristmas Around the World</a:t>
            </a:r>
            <a:endParaRPr b="0" lang="en-US" sz="1000" spc="-1" strike="noStrike">
              <a:solidFill>
                <a:srgbClr val="000000"/>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93621-18EA-43D3-8928-84CD4449A5B8}"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ristmas Around the World</a:t>
            </a:r>
            <a:endParaRPr b="0" lang="en-US" sz="1000" spc="-1" strike="noStrike">
              <a:solidFill>
                <a:srgbClr val="000000"/>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803C-7C69-483A-A309-667C94A1CB2E}"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Around the World</a:t>
            </a:r>
            <a:endParaRPr b="0" lang="en-US" sz="4200" spc="-1" strike="noStrike">
              <a:solidFill>
                <a:srgbClr val="ffffcc"/>
              </a:solidFill>
              <a:latin typeface="Tahoma"/>
            </a:endParaRPr>
          </a:p>
        </p:txBody>
      </p:sp>
      <p:pic>
        <p:nvPicPr>
          <p:cNvPr id="134" name="Picture 5" descr="j0297865"/>
          <p:cNvPicPr/>
          <p:nvPr/>
        </p:nvPicPr>
        <p:blipFill>
          <a:blip r:embed="rId1"/>
          <a:stretch/>
        </p:blipFill>
        <p:spPr>
          <a:xfrm>
            <a:off x="1574640" y="1792440"/>
            <a:ext cx="1803600" cy="1803240"/>
          </a:xfrm>
          <a:prstGeom prst="rect">
            <a:avLst/>
          </a:prstGeom>
          <a:ln w="0">
            <a:noFill/>
          </a:ln>
        </p:spPr>
      </p:pic>
      <p:pic>
        <p:nvPicPr>
          <p:cNvPr id="135" name="Picture 8" descr="j0286738"/>
          <p:cNvPicPr/>
          <p:nvPr/>
        </p:nvPicPr>
        <p:blipFill>
          <a:blip r:embed="rId2"/>
          <a:stretch/>
        </p:blipFill>
        <p:spPr>
          <a:xfrm>
            <a:off x="5562720" y="4114800"/>
            <a:ext cx="1617480" cy="1546200"/>
          </a:xfrm>
          <a:prstGeom prst="rect">
            <a:avLst/>
          </a:prstGeom>
          <a:ln w="0">
            <a:noFill/>
          </a:ln>
        </p:spPr>
      </p:pic>
      <p:pic>
        <p:nvPicPr>
          <p:cNvPr id="136" name="Picture 10" descr="j0098115"/>
          <p:cNvPicPr/>
          <p:nvPr/>
        </p:nvPicPr>
        <p:blipFill>
          <a:blip r:embed="rId3"/>
          <a:stretch/>
        </p:blipFill>
        <p:spPr>
          <a:xfrm>
            <a:off x="1523880" y="4191120"/>
            <a:ext cx="1819440" cy="1339560"/>
          </a:xfrm>
          <a:prstGeom prst="rect">
            <a:avLst/>
          </a:prstGeom>
          <a:ln w="0">
            <a:noFill/>
          </a:ln>
        </p:spPr>
      </p:pic>
      <p:pic>
        <p:nvPicPr>
          <p:cNvPr id="137" name="Picture 13" descr="j0183086"/>
          <p:cNvPicPr/>
          <p:nvPr/>
        </p:nvPicPr>
        <p:blipFill>
          <a:blip r:embed="rId4"/>
          <a:stretch/>
        </p:blipFill>
        <p:spPr>
          <a:xfrm>
            <a:off x="5257800" y="1676520"/>
            <a:ext cx="1698480" cy="182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ermany</a:t>
            </a: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tree is a German tradition, dating to about 700 A.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Yule” log was a large foundational log placed in the fireplace</a:t>
            </a:r>
            <a:endParaRPr b="0" lang="en-US" sz="32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comes from an associated celebratory cry heard about Christmastime because the nights were becoming short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olland</a:t>
            </a: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tch name for Nicholas was Sinterklaas, which became Santa Cla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on Christmas day partly because of the Dutch Santa Claus legen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ends from folktales told of a magician that punished naughty children and rewarded good children with pres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letoe was used as a Christmas decoration for years, but was associated with pagan rituals</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goddess of love – probably where kissing under the mistletoe comes from</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lly replaced it, where the thorns remind of Christ’s crown on the cross and the red berries of His shed blo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taly</a:t>
            </a:r>
            <a:endParaRPr b="0" lang="en-US" sz="42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ughty children in Italy were the first to get a lump of coal in the stoc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ngland</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gs or “carols” [songs] were sung by small choirs for the pleasure of those that happened to walk b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cards started in London in 184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rance</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ing “carols” [songs] accompanied by a group danc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el in French is translated Christm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reece</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is abbreviated Xmas because the word for Christ in Greek is Xris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srael</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eve is celebrated because the Jewish tradition is that the new day starts at sundown [therefore Christmas eve is actually the start of Christmas da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Jews (by heritage) are also Christians (by fai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exico</a:t>
            </a: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Nochebuena</a:t>
            </a:r>
            <a:r>
              <a:rPr b="0" lang="en-US" sz="2800" spc="-1" strike="noStrike">
                <a:solidFill>
                  <a:srgbClr val="ffffff"/>
                </a:solidFill>
                <a:latin typeface="Tahoma"/>
              </a:rPr>
              <a:t>,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pic>
        <p:nvPicPr>
          <p:cNvPr id="139" name="Picture 7" descr=""/>
          <p:cNvPicPr/>
          <p:nvPr/>
        </p:nvPicPr>
        <p:blipFill>
          <a:blip r:embed="rId1"/>
          <a:stretch/>
        </p:blipFill>
        <p:spPr>
          <a:xfrm>
            <a:off x="892080" y="2268360"/>
            <a:ext cx="3167280" cy="851040"/>
          </a:xfrm>
          <a:prstGeom prst="rect">
            <a:avLst/>
          </a:prstGeom>
          <a:ln w="0">
            <a:noFill/>
          </a:ln>
        </p:spPr>
      </p:pic>
      <p:pic>
        <p:nvPicPr>
          <p:cNvPr id="140" name="Picture 22" descr="j0283185"/>
          <p:cNvPicPr/>
          <p:nvPr/>
        </p:nvPicPr>
        <p:blipFill>
          <a:blip r:embed="rId2"/>
          <a:stretch/>
        </p:blipFill>
        <p:spPr>
          <a:xfrm>
            <a:off x="5181480" y="2133720"/>
            <a:ext cx="2806920" cy="3211560"/>
          </a:xfrm>
          <a:prstGeom prst="rect">
            <a:avLst/>
          </a:prstGeom>
          <a:ln w="0">
            <a:noFill/>
          </a:ln>
        </p:spPr>
      </p:pic>
      <p:pic>
        <p:nvPicPr>
          <p:cNvPr id="141" name="Picture 19" descr="SO02974_"/>
          <p:cNvPicPr/>
          <p:nvPr/>
        </p:nvPicPr>
        <p:blipFill>
          <a:blip r:embed="rId3"/>
          <a:stretch/>
        </p:blipFill>
        <p:spPr>
          <a:xfrm>
            <a:off x="1600200" y="3733920"/>
            <a:ext cx="1928880" cy="2009520"/>
          </a:xfrm>
          <a:prstGeom prst="rect">
            <a:avLst/>
          </a:prstGeom>
          <a:ln w="0">
            <a:noFill/>
          </a:ln>
        </p:spPr>
      </p:pic>
      <p:sp>
        <p:nvSpPr>
          <p:cNvPr id="142"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pcot Center in Florida</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country pavilion has a section dedicated to the history and traditions of Christmas (during the Christmas sea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grims did not celebrate Christma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igrants brought their Christmas traditions, especially in the 1700s and early 1800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as a national celebration gathered momentum during the mid-1800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 Ambassador to Mexico, J.R. Poinsett, imported (what became) the poinsettia for Christmas in 182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sleigh, reindeer, etc. came from 2 published works in 1822 and 1863-1886</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22 – “The Night Before Christmas”</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63-1886 – magazine published pictures of Santa’s workshop, Santa reading letters, Santa checking his list,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ted to become popular in 1860s, and by 1874 Macy’s in New York developed Christmas theme window display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e decorations became common in 1880 when Woolworth’s began to sell manufactured ornam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tdoor White House tree tradition started in 1923 with President Coolid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most popular secular songs at Christmas are:</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ng Crosby’s “White Christmas” (1942)</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 Autry’s “Rudolf the Red-nosed Reindeer” (1949)</a:t>
            </a:r>
            <a:endParaRPr b="0" lang="en-US" sz="28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upon the Montgomery Wards booklet of the same named given away free in 1939 – written by a father attempting to cheer up a sad daughter grieving over a dieing moth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s something to celebrate for everybody:</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 traditions incorporating aspects from many countries</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ificant religious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73152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tory</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tion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a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lebrates the birth of Jesus, Savior to Christian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partly because the Bible tells of the wise men (magi) bringing gifts to the Christ-child as they came to worship Hi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ity scene comes from the Bible, especially in the books of Matthew and Luk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holic Church set December 25</a:t>
            </a:r>
            <a:r>
              <a:rPr b="0" lang="en-US" sz="3200" spc="-1" strike="noStrike" baseline="30000">
                <a:solidFill>
                  <a:srgbClr val="ffffff"/>
                </a:solidFill>
                <a:latin typeface="Tahoma"/>
              </a:rPr>
              <a:t>th</a:t>
            </a:r>
            <a:r>
              <a:rPr b="0" lang="en-US" sz="3200" spc="-1" strike="noStrike">
                <a:solidFill>
                  <a:srgbClr val="ffffff"/>
                </a:solidFill>
                <a:latin typeface="Tahoma"/>
              </a:rPr>
              <a:t> as the celebration date to combine with the Roman holiday of the winter solstice (when sun has no apparent North or South movement) in 336 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 Claus comes from a real person in 325 A.D. – Saint Nicholas in Turkey*</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utation for kindness and generosity</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gends of financial miracles on behalf of the poor and unhappy</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Mostly Christian nation at this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red and white suit came from the traditional Bishop’s robes that Saint Nicholas would have wor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ckings were originally hung, hoping that Saint Nicholas would bring gold coins (as legend says he did for three poor girls that needed money to get marrie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were filled with small gifts, especially fruit and nu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7T21:10:23Z</dcterms:created>
  <dc:creator>Warren Sargent</dc:creator>
  <dc:description/>
  <dc:language>en-US</dc:language>
  <cp:lastModifiedBy>RomaK</cp:lastModifiedBy>
  <dcterms:modified xsi:type="dcterms:W3CDTF">2015-09-02T09:51:20Z</dcterms:modified>
  <cp:revision>16</cp:revision>
  <dc:subject/>
  <dc:title>Christmas</dc:title>
</cp:coreProperties>
</file>