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5.wmf" ContentType="image/x-wmf"/>
  <Override PartName="/ppt/media/image3.wmf" ContentType="image/x-wmf"/>
  <Override PartName="/ppt/media/image4.wmf" ContentType="image/x-wmf"/>
  <Override PartName="/ppt/media/image6.gif" ContentType="image/gi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5354F-B87A-470F-ABF5-BA393F15978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round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tree is a German tradition, dating to about 700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ule” log was a large foundational log placed in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 comes from an associated celebratory cry heard about Christmastime because the nights were becoming sh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rma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tree is a German tradition, dating to about 700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Yule” log was a large foundational log placed in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e comes from an associated celebratory cry heard about Christmastime because the nights were becoming shor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tch name for Nicholas was Sinterklaas, which became Santa Cla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on Christmas day partly because of the Dutch Santa Claus leg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utch name for Nicholas was Sinterklaas, which became Santa Cla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on Christmas day partly because of the Dutch Santa Claus legen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from folktales told of a magician that punished naughty children and rewarded good children with pres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from folktales told of a magician that punished naughty children and rewarded good children with pres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ndinav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letoe was used as a Christmas decoration for years, but was associated with pagan ritu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ddess of love – probably where kissing under the mistletoe comes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ly replaced it, where the thorns remind of Christ’s crown on the cross and the red berries of His shed bl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andinavi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stletoe was used as a Christmas decoration for years, but was associated with pagan ritu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ddess of love – probably where kissing under the mistletoe comes fr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lly replaced it, where the thorns remind of Christ’s crown on the cross and the red berries of His shed bloo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ughty children in Italy were the first to get a lump of coal in the st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a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ughty children in Italy were the first to get a lump of coal in the stock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ngs or “carols” [songs] were sung by small choirs for the pleasure of those that happened to walk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cards started in London in 18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glan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ngs or “carols” [songs] were sung by small choirs for the pleasure of those that happened to walk b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cards started in London in 184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ing “carols” [songs] accompanied by a group d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el in French is translated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r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ging “carols” [songs] accompanied by a group d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el in French is translated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s abbreviated Xmas because the word for Christ in Greek is Xris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e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s abbreviated Xmas because the word for Christ in Greek is Xristo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ra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eve is celebrated because the Jewish tradition is that the new day starts at sundown [therefore Christmas eve is actually the start of Christmas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Jews (by heritage) are also Christians (by fa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rae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eve is celebrated because the Jewish tradition is that the new day starts at sundown [therefore Christmas eve is actually the start of Christmas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Jews (by heritage) are also Christians (by fai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xic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chebuena,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cot Center in Flor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untry pavilion has a section dedicated to the history and traditions of Christmas (during the Christmas s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pcot Center in Florid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country pavilion has a section dedicated to the history and traditions of Christmas (during the Christmas sea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lgrims did not celebrat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nts brought their Christmas traditions, especially in the 1700s and early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as a national celebration gathered momentum during the mid-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lgrims did not celebrat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migrants brought their Christmas traditions, especially in the 1700s and early 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as a national celebration gathered momentum during the mid-1800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Ambassador to Mexico, J.R. Poinsett, imported (what became) the poinsettia for Christmas in 18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 Ambassador to Mexico, J.R. Poinsett, imported (what became) the poinsettia for Christmas in 182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sleigh, reindeer, etc. came from 2 published works in 1822 and 1863-188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22 – “The Night Before 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63-1886 – magazine published pictures of Santa’s workshop, Santa reading letters, Santa checking his lis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sleigh, reindeer, etc. came from 2 published works in 1822 and 1863-1886</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22 – “The Night Before 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63-1886 – magazine published pictures of Santa’s workshop, Santa reading letters, Santa checking his list, etc.</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ed to become popular in 1860s, and by 1874 Macy’s in New York developed Christmas theme window dis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e decorations became common in 1880 when Woolworth’s began to sell manufactured orna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ed to become popular in 1860s, and by 1874 Macy’s in New York developed Christmas theme window display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ee decorations became common in 1880 when Woolworth’s began to sell manufactured ornam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door White House tree tradition started in 1923 with President Cooli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tdoor White House tree tradition started in 1923 with President Cooli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 in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ost popular secular songs at Christma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ng Crosby’s “White Christmas” (19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Autry’s “Rudolf the Red-nosed Reindeer” (19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 in Americ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wo most popular secular songs at Christmas a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g Crosby’s “White Christmas” (194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ne Autry’s “Rudolf the Red-nosed Reindeer” (1949)</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upon the Montgomery Wards booklet of the same named given away free in 1939 – written by a father attempting to cheer up a sad daughter grieving over a dieing mo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something to celebrate for every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traditions incorporating aspects from many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religious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s something to celebrate for everybod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eat traditions incorporating aspects from many countri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 religious even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d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ebrates the birth of Jesus, Savior to Christ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fts are exchanged partly because the Bible tells of the wise men (magi) bringing gifts to the Christ-child as they came to worship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elebrates the birth of Jesus, Savior to Christi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ifts are exchanged partly because the Bible tells of the wise men (magi) bringing gifts to the Christ-child as they came to worship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ivity scene comes from the Bible, especially in the books of Matthew and Lu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tivity scene comes from the Bible, especially in the books of Matthew and Luk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rist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ristma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holic Church set December 25th as the celebration date to combine with the Roman holiday of the winter solstice (when sun has no apparent North or South movement) in 336 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 Claus comes from a real person in 325 A.D. – Saint Nicholas in 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utation for kindness and genero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gends of financial miracles on behalf of the poor and unha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ostly Christian nation at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 Claus comes from a real person in 325 A.D. – Saint Nicholas in 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utation for kindness and generos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gends of financial miracles on behalf of the poor and unhapp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Mostly Christian nation at this t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a’s red and white suit came from the traditional Bishop’s robes that Saint Nicholas would have w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nta’s red and white suit came from the traditional Bishop’s robes that Saint Nicholas would have w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k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ckings were originally hung, hoping that Saint Nicholas would bring gold coins (as legend says he did for three poor girls that needed money to get marr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were filled with small gifts, especially fruit and n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urke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ockings were originally hung, hoping that Saint Nicholas would bring gold coins (as legend says he did for three poor girls that needed money to get marr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were filled with small gifts, especially fruit and nu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939F674-9AEE-44E6-8AF2-D903646EE9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2F4847F-1766-4BFE-8478-72C5B02489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470F8E8-2F4F-4256-8B4F-5C08B10832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295DB10-B0F5-4C70-90CD-2EED9B06ED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F9C6C8-A77C-405F-BF53-53FB1DF2F8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21FAC-151E-45E1-82A6-79E0A17728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D2479-C470-4D3A-A279-8D366ECD50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976B2-4CD4-40B6-AD94-A9396BBE3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0376D2-5948-42B7-AC37-372C3B052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4C0CB9-3208-493D-82E1-901191BA2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FBFA8-C37F-481E-B946-A8D5AB9BE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E9A223-A8C6-4D8B-AF7C-0BC3F7C48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B98B8A-12C8-4779-B933-0D6998F9C5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19732-8402-4E9C-B676-8AF047587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724DB-E84A-426C-9B5A-0EECB04FE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D7FC61-8319-4345-8A7A-493BB7B9DB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D06A8C-2B6E-4A51-8F07-3885E07D10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2F95B6-DF1D-4CCF-A24B-5E38926ECE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4C21088-AA87-41A4-ADEA-CF62FEB145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2BB795-7C6C-4970-98AA-678C73E897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C65C834-D662-44A8-8C36-56D0410230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424A50-29C4-40C3-B4C8-76D82326DA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BDA4AF-D016-47C7-B4DE-A763E6BE5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C10787-BD59-4A98-9A31-1AADAAFB2AF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hristmas Around the World</a:t>
            </a:r>
            <a:endParaRPr b="0" lang="en-US" sz="1000" spc="-1" strike="noStrike">
              <a:solidFill>
                <a:srgbClr val="000000"/>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C0112-2FB9-4573-A34C-D02BE0945FF4}" type="slidenum">
              <a:rPr b="0" lang="en-US" sz="1000" spc="-1" strike="noStrike">
                <a:solidFill>
                  <a:srgbClr val="000000"/>
                </a:solidFill>
                <a:latin typeface="Tahoma"/>
              </a:rPr>
              <a:t>&lt;number&gt;</a:t>
            </a:fld>
            <a:endParaRPr b="0" lang="en-US" sz="1000" spc="-1" strike="noStrike">
              <a:solidFill>
                <a:srgbClr val="000000"/>
              </a:solidFill>
              <a:latin typeface="Tahoma"/>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hristmas Around the World</a:t>
            </a:r>
            <a:endParaRPr b="0" lang="en-US" sz="1000" spc="-1" strike="noStrike">
              <a:solidFill>
                <a:srgbClr val="000000"/>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A1006-F242-40B7-B04A-0DCE45C105C0}" type="slidenum">
              <a:rPr b="0" lang="en-US" sz="1000" spc="-1" strike="noStrike">
                <a:solidFill>
                  <a:srgbClr val="ffffff"/>
                </a:solidFill>
                <a:latin typeface="Tahoma"/>
              </a:rPr>
              <a:t>&lt;number&gt;</a:t>
            </a:fld>
            <a:endParaRPr b="0" lang="en-US" sz="1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gi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Around the World</a:t>
            </a:r>
            <a:endParaRPr b="0" lang="en-US" sz="4200" spc="-1" strike="noStrike">
              <a:solidFill>
                <a:srgbClr val="ffffcc"/>
              </a:solidFill>
              <a:latin typeface="Tahoma"/>
            </a:endParaRPr>
          </a:p>
        </p:txBody>
      </p:sp>
      <p:pic>
        <p:nvPicPr>
          <p:cNvPr id="134" name="Picture 5" descr="j0297865"/>
          <p:cNvPicPr/>
          <p:nvPr/>
        </p:nvPicPr>
        <p:blipFill>
          <a:blip r:embed="rId1"/>
          <a:stretch/>
        </p:blipFill>
        <p:spPr>
          <a:xfrm>
            <a:off x="1574640" y="1792440"/>
            <a:ext cx="1803600" cy="1803240"/>
          </a:xfrm>
          <a:prstGeom prst="rect">
            <a:avLst/>
          </a:prstGeom>
          <a:ln w="0">
            <a:noFill/>
          </a:ln>
        </p:spPr>
      </p:pic>
      <p:pic>
        <p:nvPicPr>
          <p:cNvPr id="135" name="Picture 8" descr="j0286738"/>
          <p:cNvPicPr/>
          <p:nvPr/>
        </p:nvPicPr>
        <p:blipFill>
          <a:blip r:embed="rId2"/>
          <a:stretch/>
        </p:blipFill>
        <p:spPr>
          <a:xfrm>
            <a:off x="5562720" y="4114800"/>
            <a:ext cx="1617480" cy="1546200"/>
          </a:xfrm>
          <a:prstGeom prst="rect">
            <a:avLst/>
          </a:prstGeom>
          <a:ln w="0">
            <a:noFill/>
          </a:ln>
        </p:spPr>
      </p:pic>
      <p:pic>
        <p:nvPicPr>
          <p:cNvPr id="136" name="Picture 10" descr="j0098115"/>
          <p:cNvPicPr/>
          <p:nvPr/>
        </p:nvPicPr>
        <p:blipFill>
          <a:blip r:embed="rId3"/>
          <a:stretch/>
        </p:blipFill>
        <p:spPr>
          <a:xfrm>
            <a:off x="1523880" y="4191120"/>
            <a:ext cx="1819440" cy="1339560"/>
          </a:xfrm>
          <a:prstGeom prst="rect">
            <a:avLst/>
          </a:prstGeom>
          <a:ln w="0">
            <a:noFill/>
          </a:ln>
        </p:spPr>
      </p:pic>
      <p:pic>
        <p:nvPicPr>
          <p:cNvPr id="137" name="Picture 13" descr="j0183086"/>
          <p:cNvPicPr/>
          <p:nvPr/>
        </p:nvPicPr>
        <p:blipFill>
          <a:blip r:embed="rId4"/>
          <a:stretch/>
        </p:blipFill>
        <p:spPr>
          <a:xfrm>
            <a:off x="5257800" y="1676520"/>
            <a:ext cx="169848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ermany</a:t>
            </a:r>
            <a:endParaRPr b="0" lang="en-US" sz="4200" spc="-1" strike="noStrike">
              <a:solidFill>
                <a:srgbClr val="ffffcc"/>
              </a:solidFill>
              <a:latin typeface="Tahoma"/>
            </a:endParaRPr>
          </a:p>
        </p:txBody>
      </p:sp>
      <p:sp>
        <p:nvSpPr>
          <p:cNvPr id="1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tree is a German tradition, dating to about 700 A.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Yule” log was a large foundational log placed in the fireplace</a:t>
            </a:r>
            <a:endParaRPr b="0" lang="en-US" sz="32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me comes from an associated celebratory cry heard about Christmastime because the nights were becoming short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olland</a:t>
            </a:r>
            <a:endParaRPr b="0" lang="en-US" sz="4200" spc="-1" strike="noStrike">
              <a:solidFill>
                <a:srgbClr val="ffffcc"/>
              </a:solidFill>
              <a:latin typeface="Tahoma"/>
            </a:endParaRPr>
          </a:p>
        </p:txBody>
      </p:sp>
      <p:sp>
        <p:nvSpPr>
          <p:cNvPr id="1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utch name for Nicholas was Sinterklaas, which became Santa Clau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on Christmas day partly because of the Dutch Santa Claus legend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ends from folktales told of a magician that punished naughty children and rewarded good children with pres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Scandinavia</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istletoe was used as a Christmas decoration for years, but was associated with pagan rituals</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goddess of love – probably where kissing under the mistletoe comes from</a:t>
            </a:r>
            <a:endParaRPr b="0" lang="en-US" sz="28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lly replaced it, where the thorns remind of Christ’s crown on the cross and the red berries of His shed blo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taly</a:t>
            </a:r>
            <a:endParaRPr b="0" lang="en-US" sz="4200" spc="-1" strike="noStrike">
              <a:solidFill>
                <a:srgbClr val="ffffcc"/>
              </a:solidFill>
              <a:latin typeface="Tahoma"/>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ughty children in Italy were the first to get a lump of coal in the stock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ngland</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ngs or “carols” [songs] were sung by small choirs for the pleasure of those that happened to walk b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cards started in London in 1843</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France</a:t>
            </a:r>
            <a:endParaRPr b="0" lang="en-US" sz="4200" spc="-1" strike="noStrike">
              <a:solidFill>
                <a:srgbClr val="ffffcc"/>
              </a:solidFill>
              <a:latin typeface="Tahoma"/>
            </a:endParaRPr>
          </a:p>
        </p:txBody>
      </p:sp>
      <p:sp>
        <p:nvSpPr>
          <p:cNvPr id="17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nging “carols” [songs] accompanied by a group dance</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el in French is translated Christm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reece</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is abbreviated Xmas because the word for Christ in Greek is Xristo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Israel</a:t>
            </a:r>
            <a:endParaRPr b="0" lang="en-US" sz="4200" spc="-1" strike="noStrike">
              <a:solidFill>
                <a:srgbClr val="ffffcc"/>
              </a:solidFill>
              <a:latin typeface="Tahoma"/>
            </a:endParaRPr>
          </a:p>
        </p:txBody>
      </p:sp>
      <p:sp>
        <p:nvSpPr>
          <p:cNvPr id="17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eve is celebrated because the Jewish tradition is that the new day starts at sundown [therefore Christmas eve is actually the start of Christmas day]</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 Jews (by heritage) are also Christians (by fai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Mexico</a:t>
            </a:r>
            <a:endParaRPr b="0" lang="en-US" sz="4200" spc="-1" strike="noStrike">
              <a:solidFill>
                <a:srgbClr val="ffffcc"/>
              </a:solidFill>
              <a:latin typeface="Tahoma"/>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Nochebuena</a:t>
            </a:r>
            <a:r>
              <a:rPr b="0" lang="en-US" sz="2800" spc="-1" strike="noStrike">
                <a:solidFill>
                  <a:srgbClr val="ffffff"/>
                </a:solidFill>
                <a:latin typeface="Tahoma"/>
              </a:rPr>
              <a:t>, the Mexican name of the flower English-speakers call poinsettia, was discovered in Taxco and the valleys surrounding Cuernavaca. Known by the Aztecs in their native Nahuatl language as cuetlaxochitl, it is believed that they brought the plant from the tropical climate of Cuernavaca to their Aztec highlands for cultivation in special nurseries. Prized in the prehispanic era for the curative properties of the milk that dripped from the leaves, stems and flowers when cut, the pigment from the red leaves was also used to dye cotton fiber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pic>
        <p:nvPicPr>
          <p:cNvPr id="139" name="Picture 7" descr=""/>
          <p:cNvPicPr/>
          <p:nvPr/>
        </p:nvPicPr>
        <p:blipFill>
          <a:blip r:embed="rId1"/>
          <a:stretch/>
        </p:blipFill>
        <p:spPr>
          <a:xfrm>
            <a:off x="892080" y="2268360"/>
            <a:ext cx="3167280" cy="851040"/>
          </a:xfrm>
          <a:prstGeom prst="rect">
            <a:avLst/>
          </a:prstGeom>
          <a:ln w="0">
            <a:noFill/>
          </a:ln>
        </p:spPr>
      </p:pic>
      <p:pic>
        <p:nvPicPr>
          <p:cNvPr id="140" name="Picture 22" descr="j0283185"/>
          <p:cNvPicPr/>
          <p:nvPr/>
        </p:nvPicPr>
        <p:blipFill>
          <a:blip r:embed="rId2"/>
          <a:stretch/>
        </p:blipFill>
        <p:spPr>
          <a:xfrm>
            <a:off x="5181480" y="2133720"/>
            <a:ext cx="2806920" cy="3211560"/>
          </a:xfrm>
          <a:prstGeom prst="rect">
            <a:avLst/>
          </a:prstGeom>
          <a:ln w="0">
            <a:noFill/>
          </a:ln>
        </p:spPr>
      </p:pic>
      <p:pic>
        <p:nvPicPr>
          <p:cNvPr id="141" name="Picture 19" descr="SO02974_"/>
          <p:cNvPicPr/>
          <p:nvPr/>
        </p:nvPicPr>
        <p:blipFill>
          <a:blip r:embed="rId3"/>
          <a:stretch/>
        </p:blipFill>
        <p:spPr>
          <a:xfrm>
            <a:off x="1600200" y="3733920"/>
            <a:ext cx="1928880" cy="2009520"/>
          </a:xfrm>
          <a:prstGeom prst="rect">
            <a:avLst/>
          </a:prstGeom>
          <a:ln w="0">
            <a:noFill/>
          </a:ln>
        </p:spPr>
      </p:pic>
      <p:sp>
        <p:nvSpPr>
          <p:cNvPr id="142" name=""/>
          <p:cNvSpPr txBox="1"/>
          <p:nvPr/>
        </p:nvSpPr>
        <p:spPr>
          <a:xfrm>
            <a:off x="457200" y="3941280"/>
            <a:ext cx="4038480" cy="2189160"/>
          </a:xfrm>
          <a:prstGeom prst="rect">
            <a:avLst/>
          </a:prstGeom>
          <a:noFill/>
          <a:ln w="0">
            <a:noFill/>
          </a:ln>
        </p:spPr>
        <p:txBody>
          <a:bodyPr anchor="t">
            <a:normAutofit/>
          </a:bodyPr>
          <a:p>
            <a:pPr marL="343080" indent="-343080">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Epcot Center in Florida</a:t>
            </a:r>
            <a:endParaRPr b="0" lang="en-US" sz="4200" spc="-1" strike="noStrike">
              <a:solidFill>
                <a:srgbClr val="ffffcc"/>
              </a:solidFill>
              <a:latin typeface="Tahoma"/>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country pavilion has a section dedicated to the history and traditions of Christmas (during the Christmas seas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grims did not celebrate Christma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migrants brought their Christmas traditions, especially in the 1700s and early 1800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mas as a national celebration gathered momentum during the mid-1800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 Ambassador to Mexico, J.R. Poinsett, imported (what became) the poinsettia for Christmas in 1828</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sleigh, reindeer, etc. came from 2 published works in 1822 and 1863-1886</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22 – “The Night Before Christmas”</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863-1886 – magazine published pictures of Santa’s workshop, Santa reading letters, Santa checking his list, 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rted to become popular in 1860s, and by 1874 Macy’s in New York developed Christmas theme window display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e decorations became common in 1880 when Woolworth’s began to sell manufactured ornamen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utdoor White House tree tradition started in 1923 with President Coolidg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 in America</a:t>
            </a: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wo most popular secular songs at Christmas are:</a:t>
            </a:r>
            <a:endParaRPr b="0" lang="en-US" sz="32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ng Crosby’s “White Christmas” (1942)</a:t>
            </a:r>
            <a:endParaRPr b="0" lang="en-US" sz="2800" spc="-1" strike="noStrike">
              <a:solidFill>
                <a:srgbClr val="ffffff"/>
              </a:solidFill>
              <a:latin typeface="Tahoma"/>
            </a:endParaRPr>
          </a:p>
          <a:p>
            <a:pPr lvl="1" marL="743040" indent="-285840">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ne Autry’s “Rudolf the Red-nosed Reindeer” (1949)</a:t>
            </a:r>
            <a:endParaRPr b="0" lang="en-US" sz="2800" spc="-1" strike="noStrike">
              <a:solidFill>
                <a:srgbClr val="ffffff"/>
              </a:solidFill>
              <a:latin typeface="Tahoma"/>
            </a:endParaRPr>
          </a:p>
          <a:p>
            <a:pPr lvl="2" marL="1143000" indent="-228600">
              <a:spcBef>
                <a:spcPts val="601"/>
              </a:spcBef>
              <a:buClr>
                <a:srgbClr val="ffff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sed upon the Montgomery Wards booklet of the same named given away free in 1939 – written by a father attempting to cheer up a sad daughter grieving over a dieing mother</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9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re’s something to celebrate for everybody:</a:t>
            </a:r>
            <a:endParaRPr b="0" lang="en-US" sz="28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at traditions incorporating aspects from many countries</a:t>
            </a:r>
            <a:endParaRPr b="0" lang="en-US" sz="2400" spc="-1" strike="noStrike">
              <a:solidFill>
                <a:srgbClr val="ffffff"/>
              </a:solidFill>
              <a:latin typeface="Tahoma"/>
            </a:endParaRPr>
          </a:p>
          <a:p>
            <a:pPr lvl="1" marL="743040" indent="-285840">
              <a:spcBef>
                <a:spcPts val="601"/>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ignificant religious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7315200" cy="45306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story</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tions</a:t>
            </a: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da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s the birth of Jesus, Savior to Christians</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ifts are exchanged partly because the Bible tells of the wise men (magi) bringing gifts to the Christ-child as they came to worship Hi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ivity scene comes from the Bible, especially in the books of Matthew and Luk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hristmas</a:t>
            </a:r>
            <a:endParaRPr b="0" lang="en-US" sz="4200" spc="-1" strike="noStrike">
              <a:solidFill>
                <a:srgbClr val="ffffcc"/>
              </a:solidFill>
              <a:latin typeface="Tahoma"/>
            </a:endParaRPr>
          </a:p>
        </p:txBody>
      </p:sp>
      <p:sp>
        <p:nvSpPr>
          <p:cNvPr id="15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tholic Church set December 25</a:t>
            </a:r>
            <a:r>
              <a:rPr b="0" lang="en-US" sz="3200" spc="-1" strike="noStrike" baseline="30000">
                <a:solidFill>
                  <a:srgbClr val="ffffff"/>
                </a:solidFill>
                <a:latin typeface="Tahoma"/>
              </a:rPr>
              <a:t>th</a:t>
            </a:r>
            <a:r>
              <a:rPr b="0" lang="en-US" sz="3200" spc="-1" strike="noStrike">
                <a:solidFill>
                  <a:srgbClr val="ffffff"/>
                </a:solidFill>
                <a:latin typeface="Tahoma"/>
              </a:rPr>
              <a:t> as the celebration date to combine with the Roman holiday of the winter solstice (when sun has no apparent North or South movement) in 336 A.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 Claus comes from a real person in 325 A.D. – Saint Nicholas in Turkey*</a:t>
            </a:r>
            <a:endParaRPr b="0" lang="en-US" sz="32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putation for kindness and generosity</a:t>
            </a:r>
            <a:endParaRPr b="0" lang="en-US" sz="2800" spc="-1" strike="noStrike">
              <a:solidFill>
                <a:srgbClr val="ffffff"/>
              </a:solidFill>
              <a:latin typeface="Tahoma"/>
            </a:endParaRPr>
          </a:p>
          <a:p>
            <a:pPr lvl="1" marL="743040" indent="-285840">
              <a:lnSpc>
                <a:spcPct val="90000"/>
              </a:lnSpc>
              <a:spcBef>
                <a:spcPts val="700"/>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gends of financial miracles on behalf of the poor and unhappy</a:t>
            </a: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Mostly Christian nation at this tim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nta’s red and white suit came from the traditional Bishop’s robes that Saint Nicholas would have wor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Turkey</a:t>
            </a: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ckings were originally hung, hoping that Saint Nicholas would bring gold coins (as legend says he did for three poor girls that needed money to get married)</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were filled with small gifts, especially fruit and nu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7T21:10:23Z</dcterms:created>
  <dc:creator>Warren Sargent</dc:creator>
  <dc:description/>
  <dc:language>en-US</dc:language>
  <cp:lastModifiedBy>RomaK</cp:lastModifiedBy>
  <dcterms:modified xsi:type="dcterms:W3CDTF">2015-09-02T09:51:20Z</dcterms:modified>
  <cp:revision>16</cp:revision>
  <dc:subject/>
  <dc:title>Christmas</dc:title>
</cp:coreProperties>
</file>